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E96-0EF3-48B2-ADE2-C3D5BAE6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8B4-1B1A-4299-B05A-C24F55F7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652-BB59-4698-9285-280721B2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8EC-6E3B-4738-92B2-33C4583D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AF9-75B5-417E-B9E0-6FE1A110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4CD-1BCC-41CC-8AF4-B3A43D3E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8D0-BDBB-4CB0-8685-5B21856A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994-3036-442A-8F62-0986A2BE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AA7-4860-4D84-B0C2-ECE9E0AA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560-B369-4D4C-80DF-344DA13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316-B3D2-4761-B891-112EFF3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20B-665C-4820-8284-B70168A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1524-2C5A-4A6A-8369-92C482959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ДОПОЛНИТЕЛЬНОГО ОБРАЗОВАНИЯ ДЕТ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  ДОМ ДЕТСКОГО ТВОРЧЕСТВА" п.г.т. УРЕНГОЙ ПУРОВСКОГО РАЙОНА</a:t>
            </a:r>
            <a:br>
              <a:rPr sz="12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ктическая реализация средств формирования коммуникативной компетентности учащихся на занятиях английского язы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доме детского творчеств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Педагога дополнительн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образования Исламовой И.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това,Р.С. Языковой и коммуникативный аспекты овладения английским глаголом в обобщающем курсе [Текст] / Р.С.Аппатова// Иностранные языки в школе, 1997. - № 1. -  С. 7-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м, И.Л. Аттестационные требования к владению иностранным языком учащимися к концу базового курса обучения [Текст] / Л.И. Бим// Иностранные языки в школе, 1995. - № 5. – С. 2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лухина, Н.В. Обучение слушанию иноязычной речи [Текст] / Н.В.Елухина// Иностранные языки в школе, 1996. - № 5. – С. 20-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няя, И.А. Психологические аспекты обучения говорению на иностранном языке [Текст] / И.А.Зимняя. – М.: Педагогика, 1978. – С. 98-1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76124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ambria"/>
              </a:rPr>
              <a:t>Спасибо за внимание!</a:t>
            </a:r>
            <a:br>
              <a:rPr sz="5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ность понятия коммуникативная компете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8000" y="1197000"/>
            <a:ext cx="8578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ая компетентность –      коммуника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и, позволя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у адекв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ть норм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жизн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851280" y="1798560"/>
            <a:ext cx="5292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ктическая ре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ом к организации общения на иностранном языке является речевое взаимодействие. Речевое взаимодействие – это объединение, координация и взаимодополнение усилий участников общения для определения, приближения и достижения коммуникативной цели и результата речевыми средствами. Для того чтобы организовать речевое взаимодействие учащихся, нужны такие методические приемы, которые обеспечивали бы необходимое речевое взаимодействие школьников на иностранном язы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ические приемы для речевого взаимодействия обучающихся на иностранном язы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п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я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457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нк информ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ь этой группы приемов заключается в том, что каждый ученик сначала владеет небольшим фрагментом информации, затем в результате речевого взаимодействия с другими школьн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ет информ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оллективного ба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иобретает вс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4067280" y="2421000"/>
            <a:ext cx="4825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иск па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лежит условие, что в группе каждый ученик имеет свою пару, о которой не догадывается и которую должен найти, задавая другим ученикам вопросы. Речевой материал при этом может сильно варьироваться по трудности и соответствовать познавательным возможностям учащихся всех возрастны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5362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ция действ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разнообразные формы реализации данного приема. Координация действий может осуществляться в форме обмена командами, инструкциями, так же могут расположить в правильной последовательности фрагменты текста или могут обменяться предме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м признаком этой группы приемов является опросить как можно больше присутствующих на уроке учащихся, с тем, чтобы выяснить их мнения, суждения, ответы на поставленные вопросы. Для этого школьники, работая одновременно, свободно перемещаются по классу, выбирают ученика, которому адресуют свои вопросы, фиксируют ответы в записной книжке, выбирают другого ученика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словиях реализации перечисленных выше приемов активизируется мыслительная деятельность всех участников учебной работы, повышаются мотивация говорения и общий «тонус» занятия, обеспечивается более полное достижение практического, образовательного, воспитательного и развивающего компонентов цели обучения иностранным язы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5:46:55Z</dcterms:created>
  <dc:creator>Admin</dc:creator>
  <dc:description/>
  <dc:language>en-US</dc:language>
  <cp:lastModifiedBy>samsung</cp:lastModifiedBy>
  <dcterms:modified xsi:type="dcterms:W3CDTF">2013-09-06T11:13:10Z</dcterms:modified>
  <cp:revision>22</cp:revision>
  <dc:subject/>
  <dc:title>Слайд 1</dc:title>
</cp:coreProperties>
</file>