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16FE-7AB6-4E3D-8E54-A624BD6F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2CD5-9120-42C8-A904-16F286D0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D34E-1923-4CE9-8218-29715E67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B329-C806-420A-A12E-4DFDF8F0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56AC-7CF8-4409-8F4A-01F09E2D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08A8-D7C4-42F3-AF52-FB9C061A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C37A-8110-40AF-A092-868BC7BD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769C-785B-4A0D-AC4F-3C46637C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A550-3451-4743-8B1A-A39A9391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3363-C5EE-40C3-A46B-A3EF2F7D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CC42-081F-4D23-B733-CB10E5B1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84D-3206-423D-BD9E-28E1C78A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0FBD-B83C-4E89-8D71-DC52F6E3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DA69-61E2-44F0-803E-CB91E9A0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DE2E-5AB9-4434-ACBE-CCB58DC4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3F52-4A3C-4ECC-9289-4A0AA0B8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D30C-F929-4CB0-8911-97C3365C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9C22-750C-42A7-A521-4BB1E0E7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7C4D-3AB1-4647-B10B-817A64C9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B732-6B67-4544-AAF8-CB996976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B42-628A-4593-AB8E-12E2F0A2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4FD8-AD67-41BD-AC78-26DF9BA5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0951-200E-4F3E-8A02-01251011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520-8C9D-4F6D-811B-B14FF683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598B-BF08-4E5F-BE5C-134FAFA4274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71F1-3010-4D13-9BF6-349A78A939A7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К. Д.Ушински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0" y="19047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Как рубашка в поле выросла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езентацию приготовил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БОУ СОШ №1 г. Оханс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яткина Л.П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848720" cy="30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Лён - очень древнее культурное растение. Для чего его выращивают люди?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Из волокон льна делают ткани, скатерти, нитки,полотенца. Чтобы получить всё это, стебли растений обрабатывают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28600" y="3276360"/>
            <a:ext cx="67816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1.вымачивают стебли растени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2.сушат</a:t>
            </a:r>
            <a:br>
              <a:rPr sz="2800"/>
            </a:b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3. на трепальной машине отделяют волокно от остальной части стебля костры – жёсткой коры расте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2" descr="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Льняные ткани очень красивы, хорошо впитывают влагу и быстро высыхают. 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100_1125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152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Льняную костру применяют в производстве бумаги и пластмасс.</a:t>
            </a:r>
            <a:br>
              <a:rPr sz="2800"/>
            </a:b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Из семян льна делают масло. Льняное масло входит в состав олифы и мыла. Оно нужно для изготовления клеёнки и линолеума. Используется это масло в рыбоконсервном и кондитерском производстве. Жмых, оставшийся после отжима, тоже не пропадает: это отличный корм для скота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Использованы фотографии с экскурсий в музеи села Андреевка Оханского района и краеведческого музея города Очер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3-09-26T17:26:3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