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7.jpeg" ContentType="image/jpeg"/>
  <Override PartName="/ppt/media/image38.jpeg" ContentType="image/jpeg"/>
  <Override PartName="/ppt/media/image24.jpeg" ContentType="image/jpeg"/>
  <Override PartName="/ppt/media/image21.png" ContentType="image/pn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12.jpeg" ContentType="image/jpeg"/>
  <Override PartName="/ppt/media/image34.png" ContentType="image/png"/>
  <Override PartName="/ppt/media/image37.jpeg" ContentType="image/jpeg"/>
  <Override PartName="/ppt/media/image30.png" ContentType="image/png"/>
  <Override PartName="/ppt/media/image32.png" ContentType="image/png"/>
  <Override PartName="/ppt/media/image36.png" ContentType="image/png"/>
  <Override PartName="/ppt/media/image31.png" ContentType="image/png"/>
  <Override PartName="/ppt/media/image43.png" ContentType="image/png"/>
  <Override PartName="/ppt/media/image13.jpeg" ContentType="image/jpeg"/>
  <Override PartName="/ppt/media/image44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46.jpeg" ContentType="image/jpeg"/>
  <Override PartName="/ppt/media/image48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41.jpeg" ContentType="image/jpeg"/>
  <Override PartName="/ppt/media/image5.jpeg" ContentType="image/jpeg"/>
  <Override PartName="/ppt/media/image26.jpeg" ContentType="image/jpeg"/>
  <Override PartName="/ppt/media/image40.png" ContentType="image/png"/>
  <Override PartName="/ppt/media/image4.jpeg" ContentType="image/jpeg"/>
  <Override PartName="/ppt/media/image33.png" ContentType="image/png"/>
  <Override PartName="/ppt/media/image3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4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5473-536F-4E09-A685-8DC3DB69F3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9B7D-EA39-4051-A2C2-D095E81EAD8C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13A64-E5DE-4386-B8C9-073C2C5DE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130FA-3B8D-4610-8021-AB7D7364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016C7-65BF-4DF2-ACE2-857B57B82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5436E-B730-46CE-ADAE-C7F5F5521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08BC-4E40-4FF7-8D55-67840DF5E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653D-7D73-487C-A976-7451BD94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9FE6-2173-4611-87E1-D8F1CCCF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2547-AF47-4381-B62F-18525364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D839-7D4A-4F80-AD04-82ADDD7C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D3FC-1A5A-4080-8715-55E19F73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8EFB-9BD9-4CB3-BA89-79E06C94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D7FB1-2CA7-45F2-8CAB-39CC089D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2D80-D64C-46FC-B691-6A81E57F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7106-298E-4BBE-82B2-1ABB8BF1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64DE-1E31-4C7A-B108-1C14E09D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3DAA-06AD-4368-A141-143956348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168D-355E-4F73-B8C9-DCCE1AF84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248DC-CAEE-400A-851E-C0E77859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7430F-2748-40A5-BE97-4FEA79C4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AB022-A746-4E57-82BA-ECDCC063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C9154-0597-40BF-A448-4C094EDC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7CEA8-2B8A-494C-9532-94C79AD4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804AC-1B6B-4C55-95E4-4DBA275C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6FA19-A124-4F69-9AFD-99FE1A31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C180-CF90-483E-8F2E-748CA5A0C7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98D4-B248-4AE9-A168-5111444DC4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7" descr="актиния-9"/>
          <p:cNvPicPr/>
          <p:nvPr/>
        </p:nvPicPr>
        <p:blipFill>
          <a:blip r:embed="rId1"/>
          <a:stretch/>
        </p:blipFill>
        <p:spPr>
          <a:xfrm>
            <a:off x="250920" y="2205000"/>
            <a:ext cx="4752720" cy="3435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актиния-3"/>
          <p:cNvPicPr/>
          <p:nvPr/>
        </p:nvPicPr>
        <p:blipFill>
          <a:blip r:embed="rId2"/>
          <a:stretch/>
        </p:blipFill>
        <p:spPr>
          <a:xfrm>
            <a:off x="5364000" y="2133720"/>
            <a:ext cx="3279960" cy="405432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7" descr=""/>
          <p:cNvPicPr/>
          <p:nvPr/>
        </p:nvPicPr>
        <p:blipFill>
          <a:blip r:embed="rId3"/>
          <a:stretch/>
        </p:blipFill>
        <p:spPr>
          <a:xfrm>
            <a:off x="-298440" y="719280"/>
            <a:ext cx="9655200" cy="1139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187280" y="5734080"/>
            <a:ext cx="30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Автор: Карагулян О.В. Учитель биологии МОУ СОШ №1 г. Одинцово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2484360" y="404640"/>
            <a:ext cx="4535640" cy="79236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Times New Roman"/>
              </a:rPr>
              <a:t>ЖИЗНЕННЫЕ ФОРМ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395280" y="1773360"/>
            <a:ext cx="352908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Times New Roman"/>
              </a:rPr>
              <a:t>ПОЛИПНА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Times New Roman"/>
              </a:rPr>
              <a:t>(ПОЛИПНАЯ ОСНОВНАЯ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5508720" y="1773360"/>
            <a:ext cx="338292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Times New Roman"/>
              </a:rPr>
              <a:t>МЕДУЗНАЯ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Times New Roman"/>
              </a:rPr>
              <a:t>(КРАТКОВРЕМЕННАЯ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Line 7"/>
          <p:cNvSpPr/>
          <p:nvPr/>
        </p:nvSpPr>
        <p:spPr>
          <a:xfrm flipH="1">
            <a:off x="1618920" y="549360"/>
            <a:ext cx="86508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7020000" y="549360"/>
            <a:ext cx="93672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3564000" y="5229360"/>
            <a:ext cx="208764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Times New Roman"/>
              </a:rPr>
              <a:t>ОБРАЗ ЖИЗН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971640" y="5734080"/>
            <a:ext cx="2087640" cy="720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Times New Roman"/>
              </a:rPr>
              <a:t>СИДЯЧИ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6084720" y="5661000"/>
            <a:ext cx="2087640" cy="720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Times New Roman"/>
              </a:rPr>
              <a:t>ПЛАВАЮЩИ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Line 13"/>
          <p:cNvSpPr/>
          <p:nvPr/>
        </p:nvSpPr>
        <p:spPr>
          <a:xfrm flipH="1">
            <a:off x="3059280" y="5516640"/>
            <a:ext cx="50472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Line 14"/>
          <p:cNvSpPr/>
          <p:nvPr/>
        </p:nvSpPr>
        <p:spPr>
          <a:xfrm>
            <a:off x="5651640" y="5516640"/>
            <a:ext cx="4330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17" descr="ris3"/>
          <p:cNvPicPr/>
          <p:nvPr/>
        </p:nvPicPr>
        <p:blipFill>
          <a:blip r:embed="rId1"/>
          <a:stretch/>
        </p:blipFill>
        <p:spPr>
          <a:xfrm>
            <a:off x="395280" y="2781360"/>
            <a:ext cx="2982960" cy="2663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9" descr="ГИДРОМЕДУЗА, свободноплавающая (половая) стадия гидроидного кишечнополостного."/>
          <p:cNvPicPr/>
          <p:nvPr/>
        </p:nvPicPr>
        <p:blipFill>
          <a:blip r:embed="rId2"/>
          <a:stretch/>
        </p:blipFill>
        <p:spPr>
          <a:xfrm>
            <a:off x="5867280" y="2781360"/>
            <a:ext cx="2989440" cy="270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9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Times New Roman"/>
              </a:rPr>
              <a:t>СМЕШАННЫЕ ГИДРОИДНЫЕ ПОЛИПЫ (СИФОНОФОРЫ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211640" y="177336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амыми красивым представителями сифонофор, бесспорно, являются физалии. Тело физалии состоит из большого пузыря, который достигает иногда величины детской головы, и плавательного столб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Picture 4" descr="португальский кораблик-1"/>
          <p:cNvPicPr/>
          <p:nvPr/>
        </p:nvPicPr>
        <p:blipFill>
          <a:blip r:embed="rId1"/>
          <a:stretch/>
        </p:blipFill>
        <p:spPr>
          <a:xfrm>
            <a:off x="395280" y="1773360"/>
            <a:ext cx="3348000" cy="4464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395280" y="621648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Times New Roman"/>
              </a:rPr>
              <a:t>«Португальский военный кораблик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200 вид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Место обитания: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ор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Представители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66ff33"/>
                </a:solidFill>
                <a:latin typeface="Times New Roman"/>
              </a:rPr>
              <a:t>медузы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шастая медуза аурел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опиле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лярная медуза циане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Прямоугольник 5" descr=""/>
          <p:cNvPicPr/>
          <p:nvPr/>
        </p:nvPicPr>
        <p:blipFill>
          <a:blip r:embed="rId1"/>
          <a:stretch/>
        </p:blipFill>
        <p:spPr>
          <a:xfrm>
            <a:off x="30240" y="360360"/>
            <a:ext cx="9405720" cy="1139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00"/>
                            </p:stCondLst>
                            <p:childTnLst>
                              <p:par>
                                <p:cTn id="2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0"/>
                            </p:stCondLst>
                            <p:childTnLst>
                              <p:par>
                                <p:cTn id="2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6000"/>
                            </p:stCondLst>
                            <p:childTnLst>
                              <p:par>
                                <p:cTn id="2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7000"/>
                            </p:stCondLst>
                            <p:childTnLst>
                              <p:par>
                                <p:cTn id="2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03280" y="274320"/>
            <a:ext cx="368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Garamond"/>
              </a:rPr>
              <a:t>МЕДУЗ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85480" y="520560"/>
            <a:ext cx="4825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Это жизненная форма некоторых кишечнополостных животных, в жизненном цикле некоторых видов чередуется с полипо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едет активно плавающий образ жизни (передвижение по реактивному принципу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4" descr="jelly"/>
          <p:cNvPicPr/>
          <p:nvPr/>
        </p:nvPicPr>
        <p:blipFill>
          <a:blip r:embed="rId1"/>
          <a:stretch/>
        </p:blipFill>
        <p:spPr>
          <a:xfrm>
            <a:off x="5435640" y="1341360"/>
            <a:ext cx="3360600" cy="5256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медуза корнерот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5712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6000 вид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Место обитания: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но морей (от прибрежной части до больших глубин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Представители: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ктинии, кораллы одиночные (красный, розовый, черный) и колониальные мадрипоровые коралл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Прямоугольник 6" descr=""/>
          <p:cNvPicPr/>
          <p:nvPr/>
        </p:nvPicPr>
        <p:blipFill>
          <a:blip r:embed="rId1"/>
          <a:stretch/>
        </p:blipFill>
        <p:spPr>
          <a:xfrm>
            <a:off x="60480" y="433440"/>
            <a:ext cx="9034200" cy="1139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0"/>
                            </p:stCondLst>
                            <p:childTnLst>
                              <p:par>
                                <p:cTn id="3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WordArt 4" descr=""/>
          <p:cNvPicPr/>
          <p:nvPr/>
        </p:nvPicPr>
        <p:blipFill>
          <a:blip r:embed="rId1"/>
          <a:stretch/>
        </p:blipFill>
        <p:spPr>
          <a:xfrm>
            <a:off x="5778360" y="4133880"/>
            <a:ext cx="3079800" cy="676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кораллы-12"/>
          <p:cNvPicPr/>
          <p:nvPr/>
        </p:nvPicPr>
        <p:blipFill>
          <a:blip r:embed="rId2"/>
          <a:stretch/>
        </p:blipFill>
        <p:spPr>
          <a:xfrm>
            <a:off x="250920" y="260280"/>
            <a:ext cx="2474640" cy="3600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кораллы-5"/>
          <p:cNvPicPr/>
          <p:nvPr/>
        </p:nvPicPr>
        <p:blipFill>
          <a:blip r:embed="rId3"/>
          <a:stretch/>
        </p:blipFill>
        <p:spPr>
          <a:xfrm>
            <a:off x="2987640" y="2924280"/>
            <a:ext cx="2543040" cy="37051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кораллы-1"/>
          <p:cNvPicPr/>
          <p:nvPr/>
        </p:nvPicPr>
        <p:blipFill>
          <a:blip r:embed="rId4"/>
          <a:stretch/>
        </p:blipFill>
        <p:spPr>
          <a:xfrm>
            <a:off x="4932360" y="549360"/>
            <a:ext cx="3809880" cy="23050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787640" y="1196640"/>
            <a:ext cx="4105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     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Ювелирные кораллы, хотя и имеют очень плотный скелет, не участвуют в образовании рифов. Ювелирные черные кораллы встречаются небольшими группами в тропических морях на глубине 30-80 м. Их колонии похожи на кусты или на куски проволок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WordArt 4" descr=""/>
          <p:cNvPicPr/>
          <p:nvPr/>
        </p:nvPicPr>
        <p:blipFill>
          <a:blip r:embed="rId1"/>
          <a:stretch/>
        </p:blipFill>
        <p:spPr>
          <a:xfrm>
            <a:off x="457200" y="396720"/>
            <a:ext cx="8126280" cy="669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blackcoral2%5B1%5D2"/>
          <p:cNvPicPr/>
          <p:nvPr/>
        </p:nvPicPr>
        <p:blipFill>
          <a:blip r:embed="rId2"/>
          <a:stretch/>
        </p:blipFill>
        <p:spPr>
          <a:xfrm>
            <a:off x="395280" y="1341360"/>
            <a:ext cx="4248000" cy="34164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6"/>
          <p:cNvSpPr/>
          <p:nvPr/>
        </p:nvSpPr>
        <p:spPr>
          <a:xfrm>
            <a:off x="468360" y="5013360"/>
            <a:ext cx="40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В мире насчитывается около 200 вид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211280" y="1196640"/>
            <a:ext cx="4475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 красного благородного коралла скелет содержит окись железа, которая придает ему разные оттенки красного цвета. Колонии благородных кораллов обитают на береговых склонах Средиземного моря и у Канарских островов на глубине больше 20 м (обычно - от 50 до 150 м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WordArt 4" descr=""/>
          <p:cNvPicPr/>
          <p:nvPr/>
        </p:nvPicPr>
        <p:blipFill>
          <a:blip r:embed="rId1"/>
          <a:stretch/>
        </p:blipFill>
        <p:spPr>
          <a:xfrm>
            <a:off x="457200" y="396720"/>
            <a:ext cx="8126280" cy="669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REDCORAL2"/>
          <p:cNvPicPr/>
          <p:nvPr/>
        </p:nvPicPr>
        <p:blipFill>
          <a:blip r:embed="rId2"/>
          <a:stretch/>
        </p:blipFill>
        <p:spPr>
          <a:xfrm>
            <a:off x="250920" y="1197000"/>
            <a:ext cx="3744720" cy="4103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украшение из коралла-1"/>
          <p:cNvPicPr/>
          <p:nvPr/>
        </p:nvPicPr>
        <p:blipFill>
          <a:blip r:embed="rId1"/>
          <a:stretch/>
        </p:blipFill>
        <p:spPr>
          <a:xfrm>
            <a:off x="4932360" y="1197000"/>
            <a:ext cx="3960720" cy="2679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серьги из коралла"/>
          <p:cNvPicPr/>
          <p:nvPr/>
        </p:nvPicPr>
        <p:blipFill>
          <a:blip r:embed="rId2"/>
          <a:stretch/>
        </p:blipFill>
        <p:spPr>
          <a:xfrm>
            <a:off x="395280" y="1197000"/>
            <a:ext cx="2495520" cy="3228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украшение из коралла"/>
          <p:cNvPicPr/>
          <p:nvPr/>
        </p:nvPicPr>
        <p:blipFill>
          <a:blip r:embed="rId3"/>
          <a:stretch/>
        </p:blipFill>
        <p:spPr>
          <a:xfrm>
            <a:off x="2627280" y="4076640"/>
            <a:ext cx="4608720" cy="2502000"/>
          </a:xfrm>
          <a:prstGeom prst="rect">
            <a:avLst/>
          </a:prstGeom>
          <a:ln w="0">
            <a:noFill/>
          </a:ln>
        </p:spPr>
      </p:pic>
      <p:pic>
        <p:nvPicPr>
          <p:cNvPr id="168" name="WordArt 8" descr=""/>
          <p:cNvPicPr/>
          <p:nvPr/>
        </p:nvPicPr>
        <p:blipFill>
          <a:blip r:embed="rId4"/>
          <a:stretch/>
        </p:blipFill>
        <p:spPr>
          <a:xfrm>
            <a:off x="420840" y="353880"/>
            <a:ext cx="8405640" cy="663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Garamond"/>
              </a:rPr>
              <a:t>Кишечнополостные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– самые древние из настоящих многоклеточных животных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Произошли кишечнополостные от древних колониальных простейших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В настоящее время в типе Кишечнополостные насчитывается 9000 видов животных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WordArt 4" descr=""/>
          <p:cNvPicPr/>
          <p:nvPr/>
        </p:nvPicPr>
        <p:blipFill>
          <a:blip r:embed="rId1"/>
          <a:stretch/>
        </p:blipFill>
        <p:spPr>
          <a:xfrm>
            <a:off x="208080" y="281160"/>
            <a:ext cx="8942400" cy="669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коралловое ожерелье"/>
          <p:cNvPicPr/>
          <p:nvPr/>
        </p:nvPicPr>
        <p:blipFill>
          <a:blip r:embed="rId2"/>
          <a:stretch/>
        </p:blipFill>
        <p:spPr>
          <a:xfrm>
            <a:off x="324000" y="1268280"/>
            <a:ext cx="2958840" cy="43214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коралловое ожерелье-1"/>
          <p:cNvPicPr/>
          <p:nvPr/>
        </p:nvPicPr>
        <p:blipFill>
          <a:blip r:embed="rId3"/>
          <a:stretch/>
        </p:blipFill>
        <p:spPr>
          <a:xfrm>
            <a:off x="3132000" y="4508640"/>
            <a:ext cx="4535640" cy="2071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украшение с кораллом"/>
          <p:cNvPicPr/>
          <p:nvPr/>
        </p:nvPicPr>
        <p:blipFill>
          <a:blip r:embed="rId4"/>
          <a:stretch/>
        </p:blipFill>
        <p:spPr>
          <a:xfrm>
            <a:off x="5740560" y="1197000"/>
            <a:ext cx="302256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WordArt 4" descr=""/>
          <p:cNvPicPr/>
          <p:nvPr/>
        </p:nvPicPr>
        <p:blipFill>
          <a:blip r:embed="rId1"/>
          <a:stretch/>
        </p:blipFill>
        <p:spPr>
          <a:xfrm>
            <a:off x="4632480" y="328680"/>
            <a:ext cx="4518000" cy="671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049056054124052057056055048050"/>
          <p:cNvPicPr/>
          <p:nvPr/>
        </p:nvPicPr>
        <p:blipFill>
          <a:blip r:embed="rId2"/>
          <a:stretch/>
        </p:blipFill>
        <p:spPr>
          <a:xfrm>
            <a:off x="179280" y="260280"/>
            <a:ext cx="4392720" cy="320832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7"/>
          <p:cNvSpPr/>
          <p:nvPr/>
        </p:nvSpPr>
        <p:spPr>
          <a:xfrm>
            <a:off x="4859280" y="1052640"/>
            <a:ext cx="3816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амая ядовитая медуза в мире – 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австралийская морская оса (Chironex fleckeri)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 После прикосновения к ее щупальцам человек умирает через 1-3мин, если не подоспеет медицинская помощь. Яд парализует сердечную мышцу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250920" y="3716280"/>
            <a:ext cx="432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Одно из эффективных средств защиты – женские колготы, которые однажды использовали спасатели на соревнованиях по серфингу в Квинсленде, Австрал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 spokes="2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932000" y="475920"/>
            <a:ext cx="3970440" cy="603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Медуза-убийца 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Carukia barnes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обладающая смертоносным жалом, имеет длину  купола всего-навсего 12 миллиметров. В течение часа жертвы испытывают сильную боль в пояснице, прострелы по всему тела, судороги, тошноту, рвоту, обильно потеют и кашляют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8" name="Picture 4" descr="с сайта http://www.avru.unimelb.edu.au/avruweb/Carukia_barnesi.jpg"/>
          <p:cNvPicPr/>
          <p:nvPr/>
        </p:nvPicPr>
        <p:blipFill>
          <a:blip r:embed="rId1"/>
          <a:stretch/>
        </p:blipFill>
        <p:spPr>
          <a:xfrm>
            <a:off x="324000" y="1197000"/>
            <a:ext cx="4248000" cy="2836800"/>
          </a:xfrm>
          <a:prstGeom prst="rect">
            <a:avLst/>
          </a:prstGeom>
          <a:ln w="0">
            <a:noFill/>
          </a:ln>
        </p:spPr>
      </p:pic>
      <p:pic>
        <p:nvPicPr>
          <p:cNvPr id="179" name="WordArt 5" descr=""/>
          <p:cNvPicPr/>
          <p:nvPr/>
        </p:nvPicPr>
        <p:blipFill>
          <a:blip r:embed="rId2"/>
          <a:stretch/>
        </p:blipFill>
        <p:spPr>
          <a:xfrm>
            <a:off x="244440" y="328680"/>
            <a:ext cx="4692600" cy="6714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6"/>
          <p:cNvSpPr/>
          <p:nvPr/>
        </p:nvSpPr>
        <p:spPr>
          <a:xfrm>
            <a:off x="324000" y="4221000"/>
            <a:ext cx="431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Последствия крайне серьёзны: от паралича до смерти, кровоизлияния в мозг или остановки сердц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WordArt 4" descr=""/>
          <p:cNvPicPr/>
          <p:nvPr/>
        </p:nvPicPr>
        <p:blipFill>
          <a:blip r:embed="rId1"/>
          <a:stretch/>
        </p:blipFill>
        <p:spPr>
          <a:xfrm>
            <a:off x="4133880" y="255600"/>
            <a:ext cx="4718160" cy="671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Gonver_01_2"/>
          <p:cNvPicPr/>
          <p:nvPr/>
        </p:nvPicPr>
        <p:blipFill>
          <a:blip r:embed="rId2"/>
          <a:stretch/>
        </p:blipFill>
        <p:spPr>
          <a:xfrm>
            <a:off x="4932360" y="1197000"/>
            <a:ext cx="3917880" cy="32018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7"/>
          <p:cNvSpPr/>
          <p:nvPr/>
        </p:nvSpPr>
        <p:spPr>
          <a:xfrm>
            <a:off x="214200" y="214200"/>
            <a:ext cx="446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же через 15—20 минут после стрекания  появляется ощущение удушья (особенно затруднен выдох), боли в пояснице, в суставах конечностей. Немеют пальцы, появляется одышка, стеснение в груди. Острый период длится 4—5 суток, а затем явления идут на убыль и исчезают без каких-либо последствий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4932360" y="4575240"/>
            <a:ext cx="388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Контакт с небольшой дальневосточной медузой-крестовичком (</a:t>
            </a:r>
            <a:r>
              <a:rPr b="1" i="1" lang="ru-RU" sz="2400" spc="-1" strike="noStrike">
                <a:solidFill>
                  <a:srgbClr val="ffcc00"/>
                </a:solidFill>
                <a:latin typeface="Times New Roman"/>
              </a:rPr>
              <a:t>Gonionemus vertens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) может стоить купальщику жизн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ris5_2"/>
          <p:cNvPicPr/>
          <p:nvPr/>
        </p:nvPicPr>
        <p:blipFill>
          <a:blip r:embed="rId1"/>
          <a:stretch/>
        </p:blipFill>
        <p:spPr>
          <a:xfrm>
            <a:off x="285840" y="1928880"/>
            <a:ext cx="3960720" cy="3456000"/>
          </a:xfrm>
          <a:prstGeom prst="rect">
            <a:avLst/>
          </a:prstGeom>
          <a:ln w="0">
            <a:noFill/>
          </a:ln>
        </p:spPr>
      </p:pic>
      <p:pic>
        <p:nvPicPr>
          <p:cNvPr id="186" name="WordArt 5" descr=""/>
          <p:cNvPicPr/>
          <p:nvPr/>
        </p:nvPicPr>
        <p:blipFill>
          <a:blip r:embed="rId2"/>
          <a:stretch/>
        </p:blipFill>
        <p:spPr>
          <a:xfrm>
            <a:off x="244440" y="182520"/>
            <a:ext cx="8478720" cy="6714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6"/>
          <p:cNvSpPr/>
          <p:nvPr/>
        </p:nvSpPr>
        <p:spPr>
          <a:xfrm>
            <a:off x="4643280" y="1071720"/>
            <a:ext cx="410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Ложные огненные кораллы </a:t>
            </a:r>
            <a:r>
              <a:rPr b="0" i="1" lang="ru-RU" sz="3200" spc="-1" strike="noStrike">
                <a:solidFill>
                  <a:srgbClr val="ffcc00"/>
                </a:solidFill>
                <a:latin typeface="Times New Roman"/>
              </a:rPr>
              <a:t>(Millepora</a:t>
            </a: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) (гидроидный полип)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которые могут серьезно травмировать кожу при прикосновении. Нередко после ожогов на коже образуются долго незаживающие язвы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00360" y="1142640"/>
            <a:ext cx="42591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д физалий подобен яду кобры, стоек к высушиванию и замораживанию, выброшенные на берег сифонофоры сохраняют способность ужалить любого, кто к ним прикоснется, а щупальца, пролежавшие в течение шести лет в холодильнике, прекрасно сохранили свои токсические свойства. Для человека яд сифонофоры крайне опасен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WordArt 4" descr=""/>
          <p:cNvPicPr/>
          <p:nvPr/>
        </p:nvPicPr>
        <p:blipFill>
          <a:blip r:embed="rId1"/>
          <a:stretch/>
        </p:blipFill>
        <p:spPr>
          <a:xfrm>
            <a:off x="244440" y="182520"/>
            <a:ext cx="8478720" cy="6714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ртугальский кораблик"/>
          <p:cNvPicPr/>
          <p:nvPr/>
        </p:nvPicPr>
        <p:blipFill>
          <a:blip r:embed="rId2"/>
          <a:stretch/>
        </p:blipFill>
        <p:spPr>
          <a:xfrm>
            <a:off x="500040" y="1214280"/>
            <a:ext cx="3624120" cy="5113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WordArt 4" descr=""/>
          <p:cNvPicPr/>
          <p:nvPr/>
        </p:nvPicPr>
        <p:blipFill>
          <a:blip r:embed="rId1"/>
          <a:stretch/>
        </p:blipFill>
        <p:spPr>
          <a:xfrm>
            <a:off x="2054160" y="622440"/>
            <a:ext cx="4748400" cy="6634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ris7"/>
          <p:cNvPicPr/>
          <p:nvPr/>
        </p:nvPicPr>
        <p:blipFill>
          <a:blip r:embed="rId2"/>
          <a:stretch/>
        </p:blipFill>
        <p:spPr>
          <a:xfrm>
            <a:off x="1042920" y="1557360"/>
            <a:ext cx="7058160" cy="4913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WordArt 4" descr=""/>
          <p:cNvPicPr/>
          <p:nvPr/>
        </p:nvPicPr>
        <p:blipFill>
          <a:blip r:embed="rId1"/>
          <a:stretch/>
        </p:blipFill>
        <p:spPr>
          <a:xfrm>
            <a:off x="530280" y="469800"/>
            <a:ext cx="8192880" cy="669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049056054124052057056055048048"/>
          <p:cNvPicPr/>
          <p:nvPr/>
        </p:nvPicPr>
        <p:blipFill>
          <a:blip r:embed="rId2"/>
          <a:stretch/>
        </p:blipFill>
        <p:spPr>
          <a:xfrm>
            <a:off x="684360" y="1628640"/>
            <a:ext cx="7775280" cy="5172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Домашнее зада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Параграф 14, ответить на вопросы 1 – 3 в конце параграф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Развитие современных многоклеточных животных идет из одной клетки (яйцеклетки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ищеварительные клетки гидры имеют жгутики и ложнонож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оловые клетки гидры схожи по форме с одноклеточными организмами: яйцеклетка – на амебу, сперматозоид – на жгутиконосц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актиния - 4"/>
          <p:cNvPicPr/>
          <p:nvPr/>
        </p:nvPicPr>
        <p:blipFill>
          <a:blip r:embed="rId1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s_img01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коралл4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img02"/>
          <p:cNvPicPr/>
          <p:nvPr/>
        </p:nvPicPr>
        <p:blipFill>
          <a:blip r:embed="rId4"/>
          <a:stretch/>
        </p:blipFill>
        <p:spPr>
          <a:xfrm>
            <a:off x="0" y="0"/>
            <a:ext cx="457200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Класс Гидроидны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Класс Коралловые полипы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Класс Сцифоидные медузы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Прямоугольник 5" descr=""/>
          <p:cNvPicPr/>
          <p:nvPr/>
        </p:nvPicPr>
        <p:blipFill>
          <a:blip r:embed="rId1"/>
          <a:stretch/>
        </p:blipFill>
        <p:spPr>
          <a:xfrm>
            <a:off x="566640" y="689040"/>
            <a:ext cx="7583760" cy="1925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2800 видов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Место обитания: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-медленно текущие пресные водоемы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- придонная часть   морей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5" descr="гидра-2"/>
          <p:cNvPicPr/>
          <p:nvPr/>
        </p:nvPicPr>
        <p:blipFill>
          <a:blip r:embed="rId1"/>
          <a:stretch/>
        </p:blipFill>
        <p:spPr>
          <a:xfrm>
            <a:off x="5076720" y="1413000"/>
            <a:ext cx="3810240" cy="489564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6" descr=""/>
          <p:cNvPicPr/>
          <p:nvPr/>
        </p:nvPicPr>
        <p:blipFill>
          <a:blip r:embed="rId2"/>
          <a:stretch/>
        </p:blipFill>
        <p:spPr>
          <a:xfrm>
            <a:off x="115920" y="219240"/>
            <a:ext cx="6626160" cy="11397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9280" y="691920"/>
            <a:ext cx="828036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Представители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Garamond"/>
              </a:rPr>
              <a:t>Пресноводные гидры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: </a:t>
            </a:r>
            <a:r>
              <a:rPr b="1" lang="en-US" sz="4000" spc="-1" strike="noStrike">
                <a:solidFill>
                  <a:srgbClr val="66ff33"/>
                </a:solidFill>
                <a:latin typeface="Garamond"/>
              </a:rPr>
              <a:t>Морские гидроидные полипы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Garamond"/>
              </a:rPr>
              <a:t>Гидроидные медузы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Garamond"/>
              </a:rPr>
              <a:t>Смешанные гидроиды (сифонофоры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zoom dir="ou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Garamond"/>
              </a:rPr>
              <a:t>МОРСКИЕ ГИДРОИДНЫЕ ПОЛИП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4" name="Picture 5" descr="кораллы-11"/>
          <p:cNvPicPr/>
          <p:nvPr/>
        </p:nvPicPr>
        <p:blipFill>
          <a:blip r:embed="rId1"/>
          <a:stretch/>
        </p:blipFill>
        <p:spPr>
          <a:xfrm>
            <a:off x="395280" y="2276640"/>
            <a:ext cx="5327640" cy="3497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hydra"/>
          <p:cNvPicPr/>
          <p:nvPr/>
        </p:nvPicPr>
        <p:blipFill>
          <a:blip r:embed="rId2"/>
          <a:stretch/>
        </p:blipFill>
        <p:spPr>
          <a:xfrm>
            <a:off x="6156360" y="907920"/>
            <a:ext cx="2781360" cy="36385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Garamond"/>
              </a:rPr>
              <a:t>ГИДРОИДНЫЕ МЕДУЗ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857840" y="1600200"/>
            <a:ext cx="382896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Гидроидные медузы размножаются половым путем, выделяя в воду половые клетки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7" descr="belo11"/>
          <p:cNvPicPr/>
          <p:nvPr/>
        </p:nvPicPr>
        <p:blipFill>
          <a:blip r:embed="rId1"/>
          <a:stretch/>
        </p:blipFill>
        <p:spPr>
          <a:xfrm>
            <a:off x="500040" y="1143000"/>
            <a:ext cx="4248000" cy="35877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6"/>
          <p:cNvSpPr/>
          <p:nvPr/>
        </p:nvSpPr>
        <p:spPr>
          <a:xfrm>
            <a:off x="428760" y="4929120"/>
            <a:ext cx="4286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идроидная медуза Bougainvilli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увеличено в 3 раза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r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18:04:03Z</dcterms:created>
  <dc:creator>Долгорукова</dc:creator>
  <dc:description/>
  <dc:language>en-US</dc:language>
  <cp:lastModifiedBy>Нес</cp:lastModifiedBy>
  <dcterms:modified xsi:type="dcterms:W3CDTF">2011-10-11T16:13:51Z</dcterms:modified>
  <cp:revision>49</cp:revision>
  <dc:subject/>
  <dc:title>Слайд 1</dc:title>
</cp:coreProperties>
</file>