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3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450-F21B-43D5-A78E-C4200481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F88-B766-4612-8413-CB75C62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B33-AB0F-43B2-AAB7-FE5DB178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1ED-AB0A-4A1E-8A0B-E2EEF14C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78E8-429A-495B-B94A-9B6E63C0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DAF95-AD2C-4510-8A24-FE6265CE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E9B6-6F60-4EF0-B1B7-8B9FA4C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83B84-F8AB-4500-ACF9-8AC2173A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5754E-0EDC-4B33-8F39-A5265CA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7539-2810-499D-83B1-BF382A27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E6F3-CE7C-475E-8347-C368979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F15-CD28-4EA7-A622-5548997D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7A39-F15F-41B1-9F8B-16ED79F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2CF53-8C39-4994-854F-37F7E7C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66AB3-8CBE-4E8C-8E23-B2D47B3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15053-E027-4A02-AC6E-3BE66AE4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FFEEF-3C32-4A88-BF7D-DF67217E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208-9940-492C-94FF-C9625B68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9E2-BA2E-4583-9251-02AFF6A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1FF-CB92-4888-B4ED-061F1F2D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5ED-EC40-4C3F-AC43-1DCCE08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606-6E75-4DDB-B618-F9CDE3E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3EC-57AF-4FCC-A623-AFF50D2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8BE-7391-4129-AD12-236561C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35CE-7FDF-4462-A212-238494F39E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6E2-28F9-4D1F-BC7F-CC863D620C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rikatv.kz/spaw/images/DN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bigcatalogphotos.ru/photos/countries-photos/asia-photos/kazakhstan-photos/pavlodar-photos/photo-10-pavlodar-kazakhstan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tp.resurs.kz/galleryp/1264501279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riends.kz/uploads/posts/2010-03/1269939029__mashkhur-jusip-mosque-kazakhstan-pavlodar..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vesti.kz/userdata/b612111e4b86777ff90a5c430db6b035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orexaw.com/uploads/news/19/1263038256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reverans.ru/content/3/costume-087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ircenter.ru/files/products/pics/634/fullsize/337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41.radikal.ru/i093/1003/20/8cc817070c26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himkent.ucoz.ru/_nw/1/22571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47.radikal.ru/i117/0904/df/4d72a86b0738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i.on.ru/people/photo/024/e2/e2_ostok_delo_tonkoe.1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akimvko.gov.kz/ru/gallery/main.php?g2_view=core.DownloadItem&amp;g2_itemId=774&amp;g2_serialNumber=2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content.foto.mail.ru/mail/hat.kz/mykazakhstan/i-35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bftour.ru/images/load/Image/razmah_600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tobler.ucoz.ua/_bl/2/31384119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onji.narod.ru/ffc/city/22.gif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biotat.ucoz.kz/_ld/0/16527317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car.kz/img/saygak%20vozrozhdenie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100dorog.ru/upload/contents/422/story/318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ia-centr.ru/work/files/3244/icon150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0d6220a20811bff97af2ce725cc92a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kazakh.ru/photo/horses/17_111.jpg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100dorog.ru/upload/contents/434/seto20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afisha.nur.kz/up_img/nauryz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grushka.kz/vip84/tat1.jpg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www.armkc.ru/upload/arin%20berdd.jpg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todoroff.files.wordpress.com/2010/03/astan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Цвети мой , Казахстан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Картинка 26 из 6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523880"/>
            <a:ext cx="79246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ahoma"/>
              </a:rPr>
              <a:t>ПАВЛОДАР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Картинка 4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57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ЗАХСТАНЦЫВ ГОДЫ ВЕЛИКОЙ ОТЕЧЕСТВЕННОЙ ВОЙНЫ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Картинка 2 из 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6002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3 из 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39 из 68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5924520" cy="5305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РАЗНЫ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0512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 В ЭТОМ НАШЕ СЧАСТЬ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121 из 165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22 из 165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180 из 103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16 из 165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олодая столиц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АСТАН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701028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НАМ ВМЕСТЕ ИНТЕРЕС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Картинка 131 из 31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НАМ ЕСТЬ,ЧЕМ ГОРДИТЬ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10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НАМ ЕСТЬ, ЧТО БЕРЕЧ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1 из 117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47 из 117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0 из 7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91960"/>
            <a:ext cx="7848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СПАСЁМ АРАЛ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Картинка 5 из 1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523880"/>
            <a:ext cx="79250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ЧИСТИМ ВОДЫ БАЛХАШ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Картинка 1 из 1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833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ЖИВОТНЫМ ПОМОЖ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5 из 9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Картинка 2 из 9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ЧТИМ ТРАДИЦИ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1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2 из 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600200"/>
            <a:ext cx="4291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69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352680"/>
            <a:ext cx="548640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21 из 319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113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4343400" cy="325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57 из 5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543040" cy="335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7 из 8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104 из 102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0"/>
            <a:ext cx="35812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8001000" cy="43862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91960"/>
            <a:ext cx="7848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СУВЕРЕННЫЙ КАЗАХСТАН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novostey.com/i4/2011/12/27/4d2bc6b474022d100bbab9b851f05f32.n4d2bc6b474022d100bbab9b851f05f3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blog.autoatlas.kz/wp-content/uploads/2010/06/219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fanparty.ru/fanclubs/republic-of-kazakhstan/pic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www.kursiv.kz/uploads/posts/2012-03/1331528618_nawryz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gdb.rferl.org/62C1387E-1380-4D7E-8AEA-C9BD30D70B6B_mw800_s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go.mail.ru/search_images?rch=l&amp;type=all&amp;is=0&amp;q=%D1%84%D0%BE%D1%82%D0%BE+%D0%BD%D0%B0%D1%80%D0%BE%D0%B4%D1%8B+%D0%BA%D0%B0%D0%B7%D0%B0%D1%85%D1%81%D1%82%D0%B0%D0%BD%D0%B0#w=720&amp;h=485&amp;s=382168&amp;pic=http%3A%2F%2Ftengrinews.kz%2Fuserdata%2Fgallery%2Fgallery_289%2Fthumb_b%2Fphoto_6545.jpg&amp;page=http%3A%2F%2Ftengrinews.kz%2Ffotoarchive%2F289%2F&amp;descr=%D0%9F%D1%80%D0%B0%D0%B7%D0%B4%D0%BD%D0%B8%D1%87%D0%BD%D1%8B%D0%B9%20%D0%BA%D0%BE%D0%BD%D1%86%D0%B5%D1%80%D1%82.%20%D0%A4%D0%BE%D1%82%D0%BE%20%C2%A9%D0%AF%D1%80%D0%BE%D1%81%D0%BB%D0%B0%D0%B2%20%D0%A0%D0%B0%D0%B4%D0%BB%D0%BE%D0%B2%D1%81%D0%BA%D0%B8%D0%B9%2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6212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машова Людмила Валерьевн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.Павлод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88 из 178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орода Казахста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АЛМАТ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ahoma"/>
              </a:rPr>
              <a:t>ШЫМКЕНТ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Природа Южного Казахстана, Тюлькубасский район"/>
          <p:cNvPicPr/>
          <p:nvPr/>
        </p:nvPicPr>
        <p:blipFill>
          <a:blip r:embed="rId3"/>
          <a:stretch/>
        </p:blipFill>
        <p:spPr>
          <a:xfrm>
            <a:off x="1143000" y="12952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ото Шымкента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3-04-13T11:37:5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