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jpeg" ContentType="image/jpeg"/>
  <Override PartName="/ppt/media/image29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43.gif" ContentType="image/gif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5.jpeg" ContentType="image/jpeg"/>
  <Override PartName="/ppt/media/image2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28E7-CD27-4C9D-A06E-7370DB95C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E5D0-E318-442F-9702-9020F94E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82DA-4EA3-4631-95F0-69F85B2B3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FBE4-3656-445A-AF3D-DD6F26146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15B64-8854-48F6-BF3F-03C78A4BB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2806F-0652-424D-8923-292144AA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A6F00-DE92-4B64-9E09-6822BD6E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0A76F-DB6D-4797-A97C-1288D87D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5F4BE-3775-4368-8D2F-163A1997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F165E-3552-48BE-BC2F-22BBDB04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286B7-579F-4276-9C0A-7AE31CF0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173E-5680-4941-B275-8CC5E656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63290-E5B1-4C5F-984D-B9D3CCC9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B15FF-8DF0-42BA-9DC4-21BC2A0A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EE524-6BA6-4707-86CA-4DCDD55F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C4277-66F5-4E29-8B03-F660FE214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D135C-F575-4959-83E0-328181D21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0CC6-A9EF-4DB3-8497-03E097AC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1079-F875-4786-ADE6-A091F15A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B1D3-2A66-4A12-8767-661A74A4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2161-D807-48D5-8D2E-ABE65A6B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7DC7-B52C-496C-9948-8C01046F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D779-D14A-4BC0-A49D-5A2F37F0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09D3-4B7F-4798-8C4A-86F96C06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3C75-0E84-4FE1-9CA6-29DA45B55FB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C54D-59AD-49E0-A817-9F15F0D9BC3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rikatv.kz/spaw/images/DNK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bigcatalogphotos.ru/photos/countries-photos/asia-photos/kazakhstan-photos/pavlodar-photos/photo-10-pavlodar-kazakhstan.jpg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ftp.resurs.kz/galleryp/1264501279.jp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friends.kz/uploads/posts/2010-03/1269939029__mashkhur-jusip-mosque-kazakhstan-pavlodar...jpg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vesti.kz/userdata/b612111e4b86777ff90a5c430db6b035.jpg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forexaw.com/uploads/news/19/1263038256.jpg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reverans.ru/content/3/costume-087.jpg" TargetMode="External"/><Relationship Id="rId4" Type="http://schemas.openxmlformats.org/officeDocument/2006/relationships/image" Target="../media/image19.jpeg"/><Relationship Id="rId5" Type="http://schemas.openxmlformats.org/officeDocument/2006/relationships/hyperlink" Target="http://www.ircenter.ru/files/products/pics/634/fullsize/337.jpg" TargetMode="External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s41.radikal.ru/i093/1003/20/8cc817070c26.jpg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shimkent.ucoz.ru/_nw/1/22571.jpg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s47.radikal.ru/i117/0904/df/4d72a86b0738.jpg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i.on.ru/people/photo/024/e2/e2_ostok_delo_tonkoe.1.jpg" TargetMode="External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akimvko.gov.kz/ru/gallery/main.php?g2_view=core.DownloadItem&amp;g2_itemId=774&amp;g2_serialNumber=2" TargetMode="Externa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content.foto.mail.ru/mail/hat.kz/mykazakhstan/i-35.jpg" TargetMode="External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ebftour.ru/images/load/Image/razmah_600.jpg" TargetMode="External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tobler.ucoz.ua/_bl/2/31384119.jpg" TargetMode="Externa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konji.narod.ru/ffc/city/22.gif" TargetMode="External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biotat.ucoz.kz/_ld/0/16527317.jpg" TargetMode="External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uncar.kz/img/saygak%20vozrozhdenie.jpg" TargetMode="External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100dorog.ru/upload/contents/422/story/318.jpg" TargetMode="External"/><Relationship Id="rId4" Type="http://schemas.openxmlformats.org/officeDocument/2006/relationships/image" Target="../media/image35.jpeg"/><Relationship Id="rId5" Type="http://schemas.openxmlformats.org/officeDocument/2006/relationships/hyperlink" Target="http://www.ia-centr.ru/work/files/3244/icon150.jpg" TargetMode="External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stat17.privet.ru/lr/0a0d6220a20811bff97af2ce725cc92a" TargetMode="External"/><Relationship Id="rId4" Type="http://schemas.openxmlformats.org/officeDocument/2006/relationships/image" Target="../media/image37.jpeg"/><Relationship Id="rId5" Type="http://schemas.openxmlformats.org/officeDocument/2006/relationships/hyperlink" Target="http://www.kazakh.ru/photo/horses/17_111.jpg" TargetMode="External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100dorog.ru/upload/contents/434/seto20.jpg" TargetMode="External"/><Relationship Id="rId4" Type="http://schemas.openxmlformats.org/officeDocument/2006/relationships/image" Target="../media/image39.jpeg"/><Relationship Id="rId5" Type="http://schemas.openxmlformats.org/officeDocument/2006/relationships/hyperlink" Target="http://afisha.nur.kz/up_img/nauryz.jpg" TargetMode="External"/><Relationship Id="rId6" Type="http://schemas.openxmlformats.org/officeDocument/2006/relationships/image" Target="../media/image40.jpeg"/><Relationship Id="rId7" Type="http://schemas.openxmlformats.org/officeDocument/2006/relationships/hyperlink" Target="http://igrushka.kz/vip84/tat1.jpg" TargetMode="External"/><Relationship Id="rId8" Type="http://schemas.openxmlformats.org/officeDocument/2006/relationships/image" Target="../media/image41.jpeg"/><Relationship Id="rId9" Type="http://schemas.openxmlformats.org/officeDocument/2006/relationships/hyperlink" Target="http://www.armkc.ru/upload/arin%20berdd.jpg" TargetMode="External"/><Relationship Id="rId10" Type="http://schemas.openxmlformats.org/officeDocument/2006/relationships/image" Target="../media/image42.jpeg"/><Relationship Id="rId1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gif"/><Relationship Id="rId4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todoroff.files.wordpress.com/2010/03/astana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Цвети мой , Казахстан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Картинка 26 из 63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19320" y="1523880"/>
            <a:ext cx="792468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Tahoma"/>
              </a:rPr>
              <a:t>ПАВЛОДАР!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Картинка 4 из 415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1447920"/>
            <a:ext cx="80773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Картинка 57 из 415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4300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Картинка 3 из 415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4300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КАЗАХСТАНЦЫВ ГОДЫ ВЕЛИКОЙ ОТЕЧЕСТВЕННОЙ ВОЙНЫ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Картинка 2 из 6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43000" y="1600200"/>
            <a:ext cx="80010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Картинка 3 из 6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4300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Картинка 39 из 68"/>
          <p:cNvPicPr/>
          <p:nvPr/>
        </p:nvPicPr>
        <p:blipFill>
          <a:blip r:embed="rId3"/>
          <a:stretch/>
        </p:blipFill>
        <p:spPr>
          <a:xfrm>
            <a:off x="114300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209680" y="609480"/>
            <a:ext cx="5924520" cy="53056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МЫ РАЗНЫЕ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905120" y="5943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И В ЭТОМ НАШЕ СЧАСТЬЕ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Картинка 121 из 1652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19320" y="0"/>
            <a:ext cx="426708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Картинка 122 из 1652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Картинка 180 из 1033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0"/>
            <a:ext cx="8077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Картинка 16 из 1651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4300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Молодая столица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АСТАНА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676520" y="1447920"/>
            <a:ext cx="7010280" cy="43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219320" y="0"/>
            <a:ext cx="7924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НАМ ВМЕСТЕ ИНТЕРЕСНО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523880" y="1828800"/>
            <a:ext cx="7162920" cy="475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Картинка 131 из 310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4300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НАМ ЕСТЬ,ЧЕМ ГОРДИТЬСЯ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295280" y="1447920"/>
            <a:ext cx="7620120" cy="50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Картинка 101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4300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НАМ ЕСТЬ, ЧТО БЕРЕЧЬ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Картинка 11 из 1175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43000" y="1523880"/>
            <a:ext cx="800100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Картинка 47 из 1175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4300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Картинка 10 из 71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0"/>
            <a:ext cx="8077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5280" y="291960"/>
            <a:ext cx="78487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МЫ СПАСЁМ АРАЛ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Картинка 5 из 16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1523880"/>
            <a:ext cx="792504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ОЧИСТИМ ВОДЫ БАЛХАША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Картинка 1 из 14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1447920"/>
            <a:ext cx="80773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143000" y="0"/>
            <a:ext cx="8331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ЖИВОТНЫМ ПОМОЖЕМ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Картинка 15 из 94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43000" y="1523880"/>
            <a:ext cx="800100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Картинка 2 из 94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0"/>
            <a:ext cx="8077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МЫ ЧТИМ ТРАДИЦИИ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Картинка 1 из 319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86400" y="1676520"/>
            <a:ext cx="3657600" cy="49528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Картинка 2 из 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66680" y="1600200"/>
            <a:ext cx="429120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Картинка 69 из 319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3352680"/>
            <a:ext cx="5486400" cy="3505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Картинка 21 из 319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143000" y="0"/>
            <a:ext cx="5076720" cy="33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Картинка 113 из 319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43000" y="0"/>
            <a:ext cx="4343400" cy="3259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Картинка 57 из 51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371600" y="3505320"/>
            <a:ext cx="2543040" cy="33526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Картинка 7 из 83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495680" y="3505320"/>
            <a:ext cx="4419720" cy="33526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Картинка 104 из 1026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562720" y="0"/>
            <a:ext cx="35812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1143000" y="1905120"/>
            <a:ext cx="8001000" cy="43862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291960"/>
            <a:ext cx="78487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СУВЕРЕННЫЙ КАЗАХСТАН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http://novostey.com/i4/2011/12/27/4d2bc6b474022d100bbab9b851f05f32.n4d2bc6b474022d100bbab9b851f05f32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http://blog.autoatlas.kz/wp-content/uploads/2010/06/219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http://fanparty.ru/fanclubs/republic-of-kazakhstan/pictur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http://www.kursiv.kz/uploads/posts/2012-03/1331528618_nawryz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http://gdb.rferl.org/62C1387E-1380-4D7E-8AEA-C9BD30D70B6B_mw800_s.jp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http://go.mail.ru/search_images?rch=l&amp;type=all&amp;is=0&amp;q=%D1%84%D0%BE%D1%82%D0%BE+%D0%BD%D0%B0%D1%80%D0%BE%D0%B4%D1%8B+%D0%BA%D0%B0%D0%B7%D0%B0%D1%85%D1%81%D1%82%D0%B0%D0%BD%D0%B0#w=720&amp;h=485&amp;s=382168&amp;pic=http%3A%2F%2Ftengrinews.kz%2Fuserdata%2Fgallery%2Fgallery_289%2Fthumb_b%2Fphoto_6545.jpg&amp;page=http%3A%2F%2Ftengrinews.kz%2Ffotoarchive%2F289%2F&amp;descr=%D0%9F%D1%80%D0%B0%D0%B7%D0%B4%D0%BD%D0%B8%D1%87%D0%BD%D1%8B%D0%B9%20%D0%BA%D0%BE%D0%BD%D1%86%D0%B5%D1%80%D1%82.%20%D0%A4%D0%BE%D1%82%D0%BE%20%C2%A9%D0%AF%D1%80%D0%BE%D1%81%D0%BB%D0%B0%D0%B2%20%D0%A0%D0%B0%D0%B4%D0%BB%D0%BE%D0%B2%D1%81%D0%BA%D0%B8%D0%B9%20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762120" y="4724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омашова Людмила Валерьевна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читель начальных классов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г.Павлода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Картинка 88 из 1782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0"/>
            <a:ext cx="8077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Города Казахстана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143000" y="1371600"/>
            <a:ext cx="80010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АЛМАТЫ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066680" y="1295280"/>
            <a:ext cx="807732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14300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800" spc="-1" strike="noStrike">
                <a:solidFill>
                  <a:srgbClr val="ffcc00"/>
                </a:solidFill>
                <a:latin typeface="Tahoma"/>
              </a:rPr>
              <a:t>ШЫМКЕНТ!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Природа Южного Казахстана, Тюлькубасский район"/>
          <p:cNvPicPr/>
          <p:nvPr/>
        </p:nvPicPr>
        <p:blipFill>
          <a:blip r:embed="rId3"/>
          <a:stretch/>
        </p:blipFill>
        <p:spPr>
          <a:xfrm>
            <a:off x="1143000" y="1295280"/>
            <a:ext cx="800100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фото Шымкента"/>
          <p:cNvPicPr/>
          <p:nvPr/>
        </p:nvPicPr>
        <p:blipFill>
          <a:blip r:embed="rId3"/>
          <a:stretch/>
        </p:blipFill>
        <p:spPr>
          <a:xfrm>
            <a:off x="114300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</cp:lastModifiedBy>
  <dcterms:modified xsi:type="dcterms:W3CDTF">2013-04-13T11:37:51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