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gif" ContentType="image/gif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BFB-6185-4EDF-B668-663FE85E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717-5D3F-4568-B255-67D7D21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578-51CC-4A72-B9F4-F024598E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A18-5775-4041-B525-41A2FA48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3915-BBE8-48B9-B356-1CE8AB5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A2AB-BAE5-49DB-BD85-C8421679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7E3C-A091-459E-9143-4BD5430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9AC3-F8AF-4D42-80F8-D547AD2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2035-6020-4541-BE97-FB354A3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EB4D-AEA2-4521-B95C-14BC6F14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DA1D-F8D4-43B0-830A-6EEF9AEA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A0F-8276-41DD-8CBD-0FCB0763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A9C7-B567-482B-95C5-88B01F5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7900-3B80-40DC-B25E-49E85DDE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A411-2C9E-4EB8-B5D6-97B3D97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DFF8-F007-4CE3-A1A7-75BE24CC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DEB-EB7C-494A-9878-2A6CAF3A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B87-8FD0-410A-8911-A1DA059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CD4-4FE3-43CB-A852-22964F8A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204-B026-45AB-9FA3-3F94A1EB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B23-6013-44FD-BAE4-F574658F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630-F754-4915-A9C6-1255C428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520-154B-40E5-B1EB-B766F4A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7A6-635E-4AF5-983C-DF3993A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F0D8-51E2-47BA-A846-8701044FEC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23B6-0353-4ADB-9FAA-31FD519315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337800">
            <a:off x="6713640" y="331560"/>
            <a:ext cx="2232000" cy="107820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052640"/>
            <a:ext cx="7704000" cy="597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Impact"/>
              </a:rPr>
              <a:t>ДЕЛ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Эл.энерг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о иску о защите г-на Эл.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двокат   Васильев А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8 кл. Богоявленская С О 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илиал юридического факульт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арвардской школы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ос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24000" y="0"/>
            <a:ext cx="4537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 над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.энергией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19280" y="260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337800">
            <a:off x="6713640" y="331560"/>
            <a:ext cx="2232000" cy="1078200"/>
          </a:xfrm>
          <a:prstGeom prst="rect">
            <a:avLst/>
          </a:prstGeom>
          <a:solidFill>
            <a:srgbClr val="00ffcc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844640"/>
            <a:ext cx="8136000" cy="34009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50000">
                <a:srgbClr val="ffffff"/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спода присяжные заседатели! Разрешите мне сказать несколько слов о моей подзащитной госпоже Эл.Энерги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ё повествование задержит Вас ненадолго, но Вы поймёте, что  эл.ток  одно из лучших человеческих  творений в семействе  источников энер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333360"/>
            <a:ext cx="4537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 над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.энергией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19280" y="260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337800">
            <a:off x="6713640" y="331560"/>
            <a:ext cx="2232000" cy="107820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407800">
            <a:off x="287280" y="4055760"/>
            <a:ext cx="8785080" cy="11692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ffffff"/>
              </a:gs>
              <a:gs pos="100000">
                <a:srgbClr val="1c1c1c"/>
              </a:gs>
            </a:gsLst>
            <a:lin ang="6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смотрите на эти великолепные картины 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3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19280" y="260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37800">
            <a:off x="6713640" y="331560"/>
            <a:ext cx="2232000" cy="107820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362800">
            <a:off x="1990080" y="2955240"/>
            <a:ext cx="5761080" cy="18180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ffffff"/>
              </a:gs>
              <a:gs pos="100000">
                <a:srgbClr val="1c1c1c"/>
              </a:gs>
            </a:gsLst>
            <a:lin ang="66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ли на э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5280" y="6095520"/>
            <a:ext cx="8291520" cy="1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1280" y="404640"/>
            <a:ext cx="81360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ы природы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43280" y="3171960"/>
            <a:ext cx="28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4076640"/>
            <a:ext cx="8207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нерг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619280" y="260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82000">
            <a:off x="6700680" y="329760"/>
            <a:ext cx="2232360" cy="107820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197000"/>
            <a:ext cx="8569080" cy="26535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50000">
                <a:srgbClr val="ffffff"/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онимаю, что не имею права говорить что-либо о других видах энергии  и  должен только защищать моего подзащитного, но всё же … разве можно создать подобные творения без помощи эл.то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979640" y="33336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 над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.энергией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03640" y="3789360"/>
            <a:ext cx="3168720" cy="3068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3132000" cy="2997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2590920" cy="2468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19280" y="260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82000">
            <a:off x="6700680" y="329760"/>
            <a:ext cx="2232360" cy="107820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844640"/>
            <a:ext cx="8136000" cy="1923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50000">
                <a:srgbClr val="ffffff"/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о может только эл энергия во главе с г-ном  Эл.То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паспорте у него записано, что он -  бывает переменным ,а бывает постоянным и есть ни что  иное как упорядоченное движение заряженных час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4149720"/>
            <a:ext cx="8136000" cy="703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50000">
                <a:srgbClr val="ffffff"/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стати он никогда не скрывался лично я видел его вот зде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5589720"/>
            <a:ext cx="2880000" cy="11692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ffffff"/>
              </a:gs>
              <a:gs pos="100000">
                <a:srgbClr val="1c1c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 зде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979640" y="33336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 над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.энергией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6913800" cy="4299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40000" y="3933720"/>
            <a:ext cx="1079640" cy="1582920"/>
          </a:xfrm>
          <a:prstGeom prst="upArrow">
            <a:avLst>
              <a:gd name="adj1" fmla="val 50000"/>
              <a:gd name="adj2" fmla="val 3665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4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337800">
            <a:off x="6713640" y="331560"/>
            <a:ext cx="2232000" cy="107820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0"/>
            <a:ext cx="3816360" cy="825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50000">
                <a:srgbClr val="ffffff"/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Ы ВСТРЕЧАЕМ ЕГО ВЕЗ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908000">
            <a:off x="3960360" y="1279440"/>
            <a:ext cx="1717920" cy="733680"/>
          </a:xfrm>
          <a:custGeom>
            <a:avLst/>
            <a:gdLst>
              <a:gd name="textAreaLeft" fmla="*/ 276480 w 1717920"/>
              <a:gd name="textAreaRight" fmla="*/ 1224000 w 17179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58" hR="21600" stAng="10800000" swAng="5400000"/>
                <a:lnTo>
                  <a:pt x="11908" y="0"/>
                </a:lnTo>
                <a:arcTo wR="6958" hR="21600" stAng="-5400000" swAng="2627181"/>
                <a:lnTo>
                  <a:pt x="21237" y="14719"/>
                </a:lnTo>
                <a:lnTo>
                  <a:pt x="16391" y="21600"/>
                </a:lnTo>
                <a:lnTo>
                  <a:pt x="10819" y="14719"/>
                </a:lnTo>
                <a:lnTo>
                  <a:pt x="13553" y="14719"/>
                </a:lnTo>
                <a:arcTo wR="6958" hR="21600" stAng="-2772819" swAng="-2207800"/>
                <a:lnTo>
                  <a:pt x="9433" y="1413"/>
                </a:lnTo>
                <a:arcTo wR="6958" hR="21600" stAng="-5819381" swAng="-4980619"/>
                <a:close/>
              </a:path>
              <a:path fill="darkenLess" w="21600" h="21600">
                <a:moveTo>
                  <a:pt x="0" y="21600"/>
                </a:moveTo>
                <a:arcTo wR="6958" hR="21600" stAng="10800000" swAng="5400000"/>
                <a:lnTo>
                  <a:pt x="6958" y="0"/>
                </a:lnTo>
                <a:arcTo wR="6958" hR="21600" stAng="-5400000" swAng="419381"/>
                <a:lnTo>
                  <a:pt x="9433" y="1413"/>
                </a:lnTo>
                <a:arcTo wR="6958" hR="21600" stAng="-5819381" swAng="-4980619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349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4319640" cy="3671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489744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403280" y="2492280"/>
            <a:ext cx="6388200" cy="410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971640" y="2276640"/>
            <a:ext cx="7345440" cy="4581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19280" y="260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82000">
            <a:off x="6733080" y="333360"/>
            <a:ext cx="2232000" cy="70776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484360" y="33336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 над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.энергией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42920" y="1773360"/>
            <a:ext cx="6481800" cy="21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ЗНЬ СОВРЕМЕННОГО ЧЕЛОВЕ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МЫСЛИМА БЕЗ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58920" y="4437000"/>
            <a:ext cx="6481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КТРИЧЕСКОЙ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НЕРГИИ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19280" y="260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337800">
            <a:off x="6713640" y="331560"/>
            <a:ext cx="2232000" cy="1078200"/>
          </a:xfrm>
          <a:prstGeom prst="rect">
            <a:avLst/>
          </a:pr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ОВЕРШ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СЕКРЕ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 так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дведём ито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Эл.энергия имеет ряд очевидных преимуще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Даёт нам свет и теп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тносительно просто добы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Легко преобразуется в другие виды энер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Передаётся на большие расстояния почти без поте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Её легко учиты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.Т.Д.  И.Т.Д.  И.Т.Д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03280" y="981000"/>
            <a:ext cx="640872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НО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л. энергия, как и любая другая требует осторожного обращ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Ток проходящий через тело человека, вызывает 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Ожог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ahoma"/>
              </a:rPr>
              <a:t>Химические изменения в ткан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f"/>
                </a:solidFill>
                <a:latin typeface="Tahoma"/>
              </a:rPr>
              <a:t>Механические повре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бмо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Судор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Прекращение дых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смер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52" dur="2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6" dur="1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657" dur="1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658" dur="1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Во избежание поражения электротоком необходимо соблюдать правила безопасности при пользовании электроприборами и их  ремонте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71640" y="1700280"/>
            <a:ext cx="741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..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6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6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0066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Надеюсь, 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что вы все поняли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68440" y="3247920"/>
            <a:ext cx="2511360" cy="2141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65480" y="551520"/>
            <a:ext cx="8212680" cy="4883040"/>
            <a:chOff x="465480" y="551520"/>
            <a:chExt cx="8212680" cy="4883040"/>
          </a:xfrm>
        </p:grpSpPr>
        <p:sp>
          <p:nvSpPr>
            <p:cNvPr id="94" name="_s186373"/>
            <p:cNvSpPr/>
            <p:nvPr/>
          </p:nvSpPr>
          <p:spPr>
            <a:xfrm flipH="1" flipV="1">
              <a:off x="2593440" y="2384280"/>
              <a:ext cx="989640" cy="304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86374"/>
            <p:cNvSpPr/>
            <p:nvPr/>
          </p:nvSpPr>
          <p:spPr>
            <a:xfrm>
              <a:off x="465480" y="1468440"/>
              <a:ext cx="2284200" cy="12218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теплов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86375"/>
            <p:cNvSpPr/>
            <p:nvPr/>
          </p:nvSpPr>
          <p:spPr>
            <a:xfrm flipH="1">
              <a:off x="2593440" y="3297600"/>
              <a:ext cx="989640" cy="3063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86376"/>
            <p:cNvSpPr/>
            <p:nvPr/>
          </p:nvSpPr>
          <p:spPr>
            <a:xfrm>
              <a:off x="465480" y="3297600"/>
              <a:ext cx="2284200" cy="1221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атом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86377"/>
            <p:cNvSpPr/>
            <p:nvPr/>
          </p:nvSpPr>
          <p:spPr>
            <a:xfrm>
              <a:off x="4569480" y="3602160"/>
              <a:ext cx="0" cy="610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86378"/>
            <p:cNvSpPr/>
            <p:nvPr/>
          </p:nvSpPr>
          <p:spPr>
            <a:xfrm>
              <a:off x="3427560" y="4212720"/>
              <a:ext cx="2284200" cy="1221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светов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86379"/>
            <p:cNvSpPr/>
            <p:nvPr/>
          </p:nvSpPr>
          <p:spPr>
            <a:xfrm>
              <a:off x="5555880" y="3297600"/>
              <a:ext cx="989640" cy="3063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86380"/>
            <p:cNvSpPr/>
            <p:nvPr/>
          </p:nvSpPr>
          <p:spPr>
            <a:xfrm>
              <a:off x="6393240" y="3297600"/>
              <a:ext cx="2284920" cy="1221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лектр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86381"/>
            <p:cNvSpPr/>
            <p:nvPr/>
          </p:nvSpPr>
          <p:spPr>
            <a:xfrm flipV="1">
              <a:off x="5555880" y="2384280"/>
              <a:ext cx="989640" cy="304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86382"/>
            <p:cNvSpPr/>
            <p:nvPr/>
          </p:nvSpPr>
          <p:spPr>
            <a:xfrm>
              <a:off x="6393240" y="1466640"/>
              <a:ext cx="2284920" cy="1221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хи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86383"/>
            <p:cNvSpPr/>
            <p:nvPr/>
          </p:nvSpPr>
          <p:spPr>
            <a:xfrm flipV="1">
              <a:off x="4569480" y="1772640"/>
              <a:ext cx="0" cy="6109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86384"/>
            <p:cNvSpPr/>
            <p:nvPr/>
          </p:nvSpPr>
          <p:spPr>
            <a:xfrm>
              <a:off x="3427560" y="551520"/>
              <a:ext cx="2284200" cy="1221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механ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86385"/>
            <p:cNvSpPr/>
            <p:nvPr/>
          </p:nvSpPr>
          <p:spPr>
            <a:xfrm>
              <a:off x="3427560" y="2384280"/>
              <a:ext cx="2284200" cy="1221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3059280" y="5877000"/>
            <a:ext cx="36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.т.д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969080" cy="2879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8360" y="333360"/>
            <a:ext cx="792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первоначально человек освои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468000" y="4436640"/>
            <a:ext cx="3598920" cy="2016360"/>
          </a:xfrm>
          <a:prstGeom prst="cloudCallout">
            <a:avLst>
              <a:gd name="adj1" fmla="val -1874"/>
              <a:gd name="adj2" fmla="val 5606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73800">
            <a:off x="5578200" y="3990600"/>
            <a:ext cx="2897280" cy="2739960"/>
          </a:xfrm>
          <a:prstGeom prst="cloudCallout">
            <a:avLst>
              <a:gd name="adj1" fmla="val -12064"/>
              <a:gd name="adj2" fmla="val -3965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42920" y="5229360"/>
            <a:ext cx="225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хан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84720" y="4869000"/>
            <a:ext cx="1990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пл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1125360"/>
            <a:ext cx="8064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 цивилизация не стоит 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месте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441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6443640" y="213372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.......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25440"/>
            <a:ext cx="8229600" cy="2784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00cc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8011ef">
              <a:alpha val="4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Основным видом энергии, применяемой  человеком, становится 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ahoma"/>
              </a:rPr>
              <a:t>электрическая энергия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35280" y="404640"/>
            <a:ext cx="56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Impact"/>
              </a:rPr>
              <a:t>20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000200">
            <a:off x="5735160" y="366480"/>
            <a:ext cx="3456000" cy="3673440"/>
          </a:xfrm>
          <a:prstGeom prst="wedgeEllipseCallout">
            <a:avLst>
              <a:gd name="adj1" fmla="val -101921"/>
              <a:gd name="adj2" fmla="val 694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43640" y="1052640"/>
            <a:ext cx="2305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4932360" cy="5832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1225400">
            <a:off x="345240" y="3068280"/>
            <a:ext cx="4364280" cy="2593800"/>
          </a:xfrm>
          <a:prstGeom prst="wedgeRoundRectCallout">
            <a:avLst>
              <a:gd name="adj1" fmla="val -87870"/>
              <a:gd name="adj2" fmla="val 87898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16000" y="3645000"/>
            <a:ext cx="273528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 то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е уверен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518508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1098200">
            <a:off x="1661400" y="4795560"/>
            <a:ext cx="5327640" cy="2060640"/>
          </a:xfrm>
          <a:prstGeom prst="cloudCallout">
            <a:avLst>
              <a:gd name="adj1" fmla="val -1949"/>
              <a:gd name="adj2" fmla="val 12266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189600">
            <a:off x="2991960" y="5373360"/>
            <a:ext cx="27720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явообщ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согласе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5761080" cy="6021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11415000">
            <a:off x="1125360" y="4993560"/>
            <a:ext cx="6986880" cy="1785960"/>
          </a:xfrm>
          <a:prstGeom prst="wedgeEllipseCallout">
            <a:avLst>
              <a:gd name="adj1" fmla="val -69"/>
              <a:gd name="adj2" fmla="val 730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 rot="480000">
            <a:off x="2410920" y="5352840"/>
            <a:ext cx="3598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к какая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нергия лучше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761400">
            <a:off x="3058920" y="5373720"/>
            <a:ext cx="25858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42920" y="1052640"/>
            <a:ext cx="734544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1844640"/>
            <a:ext cx="3506760" cy="2160720"/>
          </a:xfrm>
          <a:prstGeom prst="wedgeRectCallout">
            <a:avLst>
              <a:gd name="adj1" fmla="val 88162"/>
              <a:gd name="adj2" fmla="val 3354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42920" y="2060640"/>
            <a:ext cx="3448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ектро энерги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йчас докажу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rot="1236600">
            <a:off x="-360" y="54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Богоявле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3:26:39Z</dcterms:created>
  <dc:creator>1</dc:creator>
  <dc:description/>
  <dc:language>en-US</dc:language>
  <cp:lastModifiedBy>1</cp:lastModifiedBy>
  <dcterms:modified xsi:type="dcterms:W3CDTF">2007-02-24T04:08:23Z</dcterms:modified>
  <cp:revision>16</cp:revision>
  <dc:subject/>
  <dc:title>Слайд 1</dc:title>
</cp:coreProperties>
</file>