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ADB-683B-4531-9002-59137040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41D-7DC1-4195-B879-80E9CF6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725-0928-4605-BBCD-90AB1EB6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E7F-6D0B-4E18-8602-6380B77C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4C5-BDA9-4481-BB68-018EB99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6A6-7735-44C4-978D-48C6E2A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1D4-28A7-4D59-9BE1-023449A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EE8-1A9D-4608-9856-0B54AC49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07C-D15E-42B9-9D1E-1E1771A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165-F131-4DE3-B9A4-9377515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7D9-7614-400E-BCC7-015E5A9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C9C-AB92-42A5-9172-8B0A665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EB2-9FD9-4FD5-8EA4-DFAC5628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kygear.ru/images/mug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imvo.ru/pages/products/images/mirsuv/standard/713324_20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eklostandart.ru/img/logo_bottle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Вместим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резентацию со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езакова Е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Учитель начальных клас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г.Трёхгор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 из 212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141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79 из 362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2133720"/>
            <a:ext cx="2552400" cy="25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76720" y="3357720"/>
            <a:ext cx="381024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суда для пи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 из 45"/>
          <p:cNvPicPr/>
          <p:nvPr/>
        </p:nvPicPr>
        <p:blipFill>
          <a:blip r:embed="rId1"/>
          <a:stretch/>
        </p:blipFill>
        <p:spPr>
          <a:xfrm>
            <a:off x="5364000" y="260280"/>
            <a:ext cx="2982960" cy="468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195912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лит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ёхлитровая б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12 из 39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125360"/>
            <a:ext cx="6913800" cy="4892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еклянная пос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артинка 103 из 3937"/>
          <p:cNvPicPr/>
          <p:nvPr/>
        </p:nvPicPr>
        <p:blipFill>
          <a:blip r:embed="rId1"/>
          <a:stretch/>
        </p:blipFill>
        <p:spPr>
          <a:xfrm>
            <a:off x="4284720" y="333360"/>
            <a:ext cx="4510080" cy="583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ОГУ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стрюли и чай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8 из 15180"/>
          <p:cNvPicPr/>
          <p:nvPr/>
        </p:nvPicPr>
        <p:blipFill>
          <a:blip r:embed="rId1"/>
          <a:stretch/>
        </p:blipFill>
        <p:spPr>
          <a:xfrm>
            <a:off x="611280" y="170028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17 из 15180"/>
          <p:cNvPicPr/>
          <p:nvPr/>
        </p:nvPicPr>
        <p:blipFill>
          <a:blip r:embed="rId2"/>
          <a:stretch/>
        </p:blipFill>
        <p:spPr>
          <a:xfrm>
            <a:off x="3708360" y="170028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 ли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бъём измеряется в ли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лит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олтора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лит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56 из 1000"/>
          <p:cNvPicPr/>
          <p:nvPr/>
        </p:nvPicPr>
        <p:blipFill>
          <a:blip r:embed="rId1"/>
          <a:stretch/>
        </p:blipFill>
        <p:spPr>
          <a:xfrm>
            <a:off x="6227640" y="404640"/>
            <a:ext cx="2629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ч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А-   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А-  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ЁМ-  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71640" y="227664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3529080" cy="338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55814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76720" y="5157720"/>
            <a:ext cx="558144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4000" y="1484280"/>
            <a:ext cx="106200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24000" y="3357720"/>
            <a:ext cx="8492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68360" y="4869000"/>
            <a:ext cx="561960" cy="952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812000" y="1484280"/>
            <a:ext cx="10620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028000" y="3429000"/>
            <a:ext cx="8492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8244000" y="5084640"/>
            <a:ext cx="5619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1:50:45Z</dcterms:created>
  <dc:creator>Lena</dc:creator>
  <dc:description/>
  <dc:language>en-US</dc:language>
  <cp:lastModifiedBy>User</cp:lastModifiedBy>
  <dcterms:modified xsi:type="dcterms:W3CDTF">2013-09-26T13:23:16Z</dcterms:modified>
  <cp:revision>3</cp:revision>
  <dc:subject/>
  <dc:title>Объём</dc:title>
</cp:coreProperties>
</file>