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F35F-676F-4A3E-B0D5-40D277C8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21AC-853B-4C9C-A1BA-C161DE1A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1EBB9-FED2-4F09-8156-282AF90A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5F1C8-A40C-4756-8AF2-C819FEAC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12946-832E-4F91-8C3F-52383C55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DB388-3108-42E1-BE3E-B65C3F13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B6D18-236E-406A-B87F-B927EBCD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B8BE5-A2AD-44E3-B383-196816AF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A19E6-9470-44D2-A9BE-F494FF5C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69075-CCC9-4165-936C-A3D927A6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42CD8-4376-4336-B905-E9CD1CF5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A653C-CA92-4DC5-8A30-23E32D5F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58EA-C9FA-4D2A-B6C9-8873C0C5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EFC0D-D66E-413C-81F1-63EB2E1E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75BE8-E560-4408-94D6-68D4598B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F4651-9207-48DD-8E5C-BA5A4211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B62AD-E5CA-4FB7-B184-863D6AF8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DF13D-93DA-4A07-B95D-34EB73F0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6B516-85A9-4C23-9822-BB7CB1AB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0C302-8792-40E3-9B43-C3FA01B9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4F368-5ACD-4812-9941-6CE87FB6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2E314-F619-409B-8481-11807436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35669-9E35-4694-8491-F1A49A73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89A5-E674-4253-BAFC-816A1AC5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4BE72-0E8D-4DB1-AEDE-A4C0109D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F990-B7E5-4BB5-B009-32401B96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4333-3B9C-45F4-8224-1FEAD503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EC8F-74FA-4677-B6C0-053C48DB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3DD9-0C37-415A-B524-6142C7D4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A271-D346-49D1-B177-C1244DB7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C42D-6B85-4B37-A9A5-95ACCAA6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8518-D531-48A1-B1AC-78839BCF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56C6-DA5A-4855-B0DD-F4633AC1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861D-B9EE-44C1-8CFD-1A9A24D7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1E11-CC93-44AB-AC13-328CF418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F466-5EBF-424F-9CBE-FB8A7BA1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21D7-FEF4-4855-8D7B-1F3C9F32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6F37-4AB6-425E-9DFD-E48025AD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069A9-D36E-4E6B-9CBC-5EB6FE81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A9A54-AC1D-422E-9514-5FC22CB3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F380E-3AB0-41B3-8B30-0AF55EFC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EF975-5E0D-4C8F-9C16-797DFF11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CD08E-ADE7-4B7F-8AD3-D7525DF2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A09E-D55D-46FA-A97B-2EE1FCDC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BBBB0-5AE9-4B06-8FD9-0A98E8A7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B9D42-A2FD-4BF5-87B4-6D89541B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0DB11-DCD4-4A32-A5E1-F88697E4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C6E44-9054-4B39-858E-5A6BC4E8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EBE82-DB66-4C6B-87EA-63DA8AD7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56F34-7B42-43B8-AE72-3A968862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8F726-3D61-4A7C-B8A2-B03E5BCA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FA7CF-8814-4510-B8A0-FAD68E8E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7F0B2-A49C-45B9-81C1-DD092580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651D1-B6E3-4496-AA74-8E804D4C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FCA1-D5CE-407D-9F86-D7AF1493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EC3E4-DD98-4572-8B08-248FFAF8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2B84E-4DF9-460A-A0B2-CEA76EF8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F9CB2-EC4A-4A30-8B93-312F5982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6C2CB-2F5D-4703-97BD-51B5C24F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9423D-026C-4768-9D68-C77AAE89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D93FE-709D-4F1F-9E38-F50DB489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5A21D-AF53-4B32-B9FC-63F1861B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AC76C-FD63-4A17-B87D-90080217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4260C-71BC-4B96-9F44-5F0264B1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FC01F-A689-43EE-9DB2-2D713F8B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76A3-DB46-4460-BA41-9CEBDD66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AB0D1-7C6C-41A3-BEBF-412190E3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1D96A-985A-4E5B-8EA2-AD328BDF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14B2A-951F-4F10-8245-41F3255D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7FA4A-4D8B-4F3A-B6F5-26CC14F6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9C061-FC9D-4296-A918-9A3FC6B0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84066-9B38-42DD-BE20-A802F1C3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08776-4FEB-4B31-AD66-BD0896BC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C8327-2934-4FE2-9601-762A930A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BDB30-A135-4CF5-927D-BF694E52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4AEF9-9DEA-4FF4-96DB-8CF4E650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60DB-7C9D-4F69-A8E0-385A98E0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26737-0F1C-48A3-8B80-9FC8D844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FBA76-98D0-46EA-B07D-06D835AC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42A4E-2F2E-4673-B763-B5B2F060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7BE6D-2260-4D66-8C84-F530CB5E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7FEE1-CB2D-4EEB-87AE-206C9037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4CF8A-1E02-4901-AC47-60D7C980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7976C-B7B8-4285-85CD-3934719E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0EBEC-5913-494C-931F-6F6995BB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858C6-2D48-497C-9CD6-5A757D0D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CC639-FD09-4535-B086-54E7BFB9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BCF6-9813-4F3D-918B-A2D9D39D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E8535-5B4E-4A67-81BC-6927DB55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DC1EF-349C-415F-B204-189D0A3C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AAF04-78A0-4F0C-82AE-543AFD6E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9831E-8716-47EC-B924-74901BA9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F7301-AD49-4EBD-A000-CA882F10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06058-ACBA-46F0-939D-4A1049FF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C745A-E0F7-45BD-8F82-244D4A7B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BFB4D-245B-431F-A37C-264002F5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27209-7315-4A67-95AB-AAAF78F1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BD96F-88B2-46E3-A73C-F96DD552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272B-1B9C-409B-B2FB-EECD2F03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3E20A-A334-496F-8361-86013546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0AB4D-7852-4916-8E5E-7FF23068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5C58A-BE8D-45FE-B673-F3E43B37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BDD6B-CC38-40C3-BB9B-6242B6A8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B9516-9981-46A1-94E7-DB54BE92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4C4FF-2918-4CEA-B21B-195A19B2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4D638-3040-4A9B-A385-D5A6EC20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9074B-7D4F-4BD8-873D-831304EC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E7863-C53D-439F-85B9-C95B4EF4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16D06-6EBB-43C1-ABF0-B3E46915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57D9-6420-444C-A048-FCB0E048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E201B-768F-4262-91FC-05DFC8B4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7E8D6-AE77-4E97-812B-7B1193D4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FB3EE-FCCB-4A32-81D8-D889D907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FFA5F-3F76-4219-A07F-455E11AB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C6EF4-4F4D-42E8-BFDE-DBAA0062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3B779-FB12-4EE9-B23A-ED5818B0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F6959-C3B0-4A2D-BC0A-4A172895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65258-06CC-4167-B2C3-FB1F62D9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6EB81-F6F8-4402-BCE9-9EFFB1D2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4ADCA-2399-4267-AFF5-4E9EF87B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B8F1-EA1B-4B87-AA13-8C55EB84478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37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9921-BF23-431A-B37F-55199031CE6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9C82-D785-4EA6-AC9A-BBEDE3A587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F743-8846-4BBE-93FF-F8F9AA65B08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33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70DA-F04F-45E6-97D8-D2F32C94458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90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F988-FC59-4E32-9210-CDEE06DFAA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9119-56B4-4FA3-B213-4540244D9E4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0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1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5C07-CC01-410A-BD14-DA4AF7DA82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5FDC-982B-4B4D-AFAF-01967FBAEA5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80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E5C9-AD15-4244-A170-43767A6D293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WordArt 4"/>
          <p:cNvSpPr txBox="1"/>
          <p:nvPr/>
        </p:nvSpPr>
        <p:spPr>
          <a:xfrm>
            <a:off x="450720" y="890640"/>
            <a:ext cx="8129880" cy="41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99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Уеннар яңгыры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99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8484-7EB2-47FB-B03B-56737BD4ACE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200" spc="-1" strike="noStrike">
                <a:solidFill>
                  <a:srgbClr val="006633"/>
                </a:solidFill>
                <a:latin typeface="Garamond"/>
              </a:rPr>
              <a:t>Өй эш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t-RU" sz="3000" spc="-1" strike="noStrike">
                <a:solidFill>
                  <a:srgbClr val="000000"/>
                </a:solidFill>
                <a:latin typeface="Arial"/>
              </a:rPr>
              <a:t>Ватанны саклаучылар көне” дигән темага, җөмлә кисәкләрен кулланып, хикәя язарга (10-12 җөмлә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3A81-0BD3-460E-91A8-5975A14F16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0280" y="190296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7200" spc="-1" strike="noStrike">
                <a:solidFill>
                  <a:srgbClr val="00cc00"/>
                </a:solidFill>
                <a:latin typeface="Times New Roman"/>
              </a:rPr>
              <a:t>Җөмлә кисәкләрен кабатлау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Номер слайда 5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D6C4-EAC6-4E5A-826C-F3965CC15D8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8c0039"/>
                </a:solidFill>
                <a:latin typeface="Arial"/>
              </a:rPr>
              <a:t>Уеннар тәртибе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Бәхетле очрак” у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Караокены күзәт” у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Могҗизалар кыры” у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Тиешле тәртиптә яз” у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Йолдызлы сәг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” у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ffcc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05A8-B4E7-4B74-A55A-B9BB312C1E6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8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tt-RU" sz="3800" spc="-1" strike="noStrike">
                <a:solidFill>
                  <a:srgbClr val="006633"/>
                </a:solidFill>
                <a:latin typeface="Garamond"/>
              </a:rPr>
              <a:t>Мин яратам сине, Татарстан” җыр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730240" y="1049040"/>
            <a:ext cx="438156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Мин яратам сине, Татарст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Ал таңнарың өчен яра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Күк күкрәп, яшен я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нә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Яуган яңгырларың өчен яра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Мин яратам сине, Татарст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Горур халкың өчен яра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Җан эреткән әнкәм телең өче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Татар телең өчен ярат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Арыш кырың, урманнарың өче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Җәйләүләрең өчен ярат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Тукайларың, Сәйдәшләрең өче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Җәлилләрең өчен яра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Татарстан сине ярат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2f26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109A-14FF-40E9-BC4B-F59524CB07B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200" spc="-1" strike="noStrike">
                <a:solidFill>
                  <a:srgbClr val="006633"/>
                </a:solidFill>
                <a:latin typeface="Garamond"/>
              </a:rPr>
              <a:t>Дөрес җаваплар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386000" y="1350720"/>
            <a:ext cx="730080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000000"/>
                </a:solidFill>
                <a:latin typeface="Arial"/>
              </a:rPr>
              <a:t>таңнарың өчен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000000"/>
                </a:solidFill>
                <a:latin typeface="Arial"/>
              </a:rPr>
              <a:t>яңгырларың өчен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000000"/>
                </a:solidFill>
                <a:latin typeface="Arial"/>
              </a:rPr>
              <a:t>халкың өчен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000000"/>
                </a:solidFill>
                <a:latin typeface="Arial"/>
              </a:rPr>
              <a:t>телең өчен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000000"/>
                </a:solidFill>
                <a:latin typeface="Arial"/>
              </a:rPr>
              <a:t>кырың, урманнарың өчен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000000"/>
                </a:solidFill>
                <a:latin typeface="Arial"/>
              </a:rPr>
              <a:t>җәйләүләрең өчен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000000"/>
                </a:solidFill>
                <a:latin typeface="Arial"/>
              </a:rPr>
              <a:t>Тукайларың, Сәйдәшләрең өчен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000000"/>
                </a:solidFill>
                <a:latin typeface="Arial"/>
              </a:rPr>
              <a:t>Җәлилләрең өче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A799-5F05-4506-84D0-9C26318BEAD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200" spc="-1" strike="noStrike">
                <a:solidFill>
                  <a:srgbClr val="006633"/>
                </a:solidFill>
                <a:latin typeface="Garamond"/>
              </a:rPr>
              <a:t>Дөрес җаваплар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400" spc="-1" strike="noStrike">
                <a:solidFill>
                  <a:srgbClr val="000000"/>
                </a:solidFill>
                <a:latin typeface="Arial"/>
              </a:rPr>
              <a:t>1 нче җөмләдә - </a:t>
            </a:r>
            <a:r>
              <a:rPr b="1" lang="tt-RU" sz="3400" spc="-1" strike="noStrike" u="sng">
                <a:solidFill>
                  <a:srgbClr val="ff3399"/>
                </a:solidFill>
                <a:uFillTx/>
                <a:latin typeface="Arial"/>
              </a:rPr>
              <a:t>муллык көзе</a:t>
            </a:r>
            <a:r>
              <a:rPr b="0" lang="tt-RU" sz="3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400" spc="-1" strike="noStrike">
                <a:solidFill>
                  <a:srgbClr val="000000"/>
                </a:solidFill>
                <a:latin typeface="Arial"/>
              </a:rPr>
              <a:t>2 нче җөмләдә - </a:t>
            </a:r>
            <a:r>
              <a:rPr b="1" lang="tt-RU" sz="3400" spc="-1" strike="noStrike" u="sng">
                <a:solidFill>
                  <a:srgbClr val="ff3399"/>
                </a:solidFill>
                <a:uFillTx/>
                <a:latin typeface="Arial"/>
              </a:rPr>
              <a:t>күл буенда</a:t>
            </a:r>
            <a:r>
              <a:rPr b="0" lang="tt-RU" sz="3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400" spc="-1" strike="noStrike">
                <a:solidFill>
                  <a:srgbClr val="000000"/>
                </a:solidFill>
                <a:latin typeface="Arial"/>
              </a:rPr>
              <a:t>3 нче җөмләдә - </a:t>
            </a:r>
            <a:r>
              <a:rPr b="1" lang="tt-RU" sz="3400" spc="-1" strike="noStrike" u="sng">
                <a:solidFill>
                  <a:srgbClr val="ff3399"/>
                </a:solidFill>
                <a:uFillTx/>
                <a:latin typeface="Arial"/>
              </a:rPr>
              <a:t>кырмыскалар</a:t>
            </a:r>
            <a:r>
              <a:rPr b="0" lang="tt-RU" sz="3400" spc="-1" strike="noStrike" u="sng">
                <a:solidFill>
                  <a:srgbClr val="ff3399"/>
                </a:solidFill>
                <a:uFillTx/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02E1-745B-4271-9A8A-2574C582FE6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270000" y="1599840"/>
            <a:ext cx="887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 u="sng">
                <a:solidFill>
                  <a:srgbClr val="ff0000"/>
                </a:solidFill>
                <a:uFillTx/>
                <a:latin typeface="Arial"/>
              </a:rPr>
              <a:t>Бирем.</a:t>
            </a:r>
            <a:r>
              <a:rPr b="1" lang="tt-RU" sz="2800" spc="-1" strike="noStrike">
                <a:solidFill>
                  <a:srgbClr val="ff0000"/>
                </a:solidFill>
                <a:latin typeface="Arial"/>
              </a:rPr>
              <a:t> Җөмлә кисәкләрен үз урынын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tt-RU" sz="2800" spc="-1" strike="noStrike">
                <a:solidFill>
                  <a:srgbClr val="ff0000"/>
                </a:solidFill>
                <a:latin typeface="Arial"/>
              </a:rPr>
              <a:t>куяр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336699"/>
                </a:solidFill>
                <a:latin typeface="Arial"/>
              </a:rPr>
              <a:t>Экскурсиягә, без, бардык, урман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336699"/>
                </a:solidFill>
                <a:latin typeface="Arial"/>
              </a:rPr>
              <a:t>Урманда, ява, яңгыр, яшен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336699"/>
                </a:solidFill>
                <a:latin typeface="Arial"/>
              </a:rPr>
              <a:t>Ясыйм, иртән, гимнастика, ми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336699"/>
                </a:solidFill>
                <a:latin typeface="Arial"/>
              </a:rPr>
              <a:t>Һавада, Галия, саф, була, еш.</a:t>
            </a: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5"/>
          <p:cNvSpPr txBox="1"/>
          <p:nvPr/>
        </p:nvSpPr>
        <p:spPr>
          <a:xfrm>
            <a:off x="480960" y="301680"/>
            <a:ext cx="8024760" cy="9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“</a:t>
            </a: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иешле тәртиптә яз” уены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6e"/>
            </a:gs>
            <a:gs pos="100000">
              <a:srgbClr val="fcfb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3051-75DF-49F7-B5CA-8F1B5A20AF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228600" y="1482840"/>
            <a:ext cx="876312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 u="sng">
                <a:solidFill>
                  <a:srgbClr val="ff0000"/>
                </a:solidFill>
                <a:uFillTx/>
                <a:latin typeface="Arial"/>
              </a:rPr>
              <a:t>Бирем.</a:t>
            </a:r>
            <a:r>
              <a:rPr b="0" lang="tt-RU" sz="3000" spc="-1" strike="noStrike">
                <a:solidFill>
                  <a:srgbClr val="ff0000"/>
                </a:solidFill>
                <a:latin typeface="Arial"/>
              </a:rPr>
              <a:t> Аныклагычларны табар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Алтын көз – муллык көзе – җир өстенә канатын җә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Монда, күл буенда, һава тагын да салкынрак, җиле дә көчлерәк и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Табиг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нең иң тырыш хезмәтчеләре – кырмыскалар эшкә керештелә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WordArt 5"/>
          <p:cNvSpPr txBox="1"/>
          <p:nvPr/>
        </p:nvSpPr>
        <p:spPr>
          <a:xfrm>
            <a:off x="533520" y="0"/>
            <a:ext cx="8153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“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Могҗизалар кыры” уе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27AE-3946-4FD1-8FEB-FD6DFF3D8BE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9933ff"/>
                </a:solidFill>
                <a:latin typeface="Garamond"/>
              </a:rPr>
              <a:t>Тест җаваплары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209520" y="1371600"/>
            <a:ext cx="87361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33cc33"/>
                </a:solidFill>
                <a:latin typeface="Arial"/>
              </a:rPr>
              <a:t>1 вариант</a:t>
            </a: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tt-RU" sz="3600" spc="-1" strike="noStrike">
                <a:solidFill>
                  <a:srgbClr val="0066cc"/>
                </a:solidFill>
                <a:latin typeface="Arial"/>
              </a:rPr>
              <a:t>2 вариант</a:t>
            </a: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tt-RU" sz="3600" spc="-1" strike="noStrike">
                <a:solidFill>
                  <a:srgbClr val="ff0000"/>
                </a:solidFill>
                <a:latin typeface="Arial"/>
              </a:rPr>
              <a:t>3 вариан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1) 1                     1) 2                 1)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2) 2                     2) 2                 2)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3) 2                     3) 2                 3) 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4) 2                     4) 3                 4) 1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5) 1                     5) 2                 5)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6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5-30T16:10:35Z</dcterms:modified>
  <cp:revision>1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