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7.gif" ContentType="image/gif"/>
  <Override PartName="/ppt/media/image2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AD8-5A65-4DAC-BE6C-B141BE72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628-8A78-4307-A4EB-2572AEF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5E2-9DAB-4DC6-9219-EDBF2CAA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824-5B41-4081-8807-047E22EF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6B9-A2E8-45B4-8F60-514098F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554-0DE0-4D15-9876-27133CE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DB78-3284-40DD-AAF0-49CC04A1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6E83-0867-4C10-876B-4BEEA0DC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731-418F-4382-9751-8465EDD7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5B68-6CE1-46F3-AD47-FAD2428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E320-A3F0-4AB6-8E09-23413AD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F15-7FE7-437D-ACDE-4D984E6A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49D1-DE24-4DB8-AC74-D75DF0F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0AE8-6976-4224-A22D-61769F9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1E31-D05B-40C9-80AE-C7919F2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19C6-C731-45D7-BA7C-BD233613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60C-E0FD-49F3-8373-6F2102D8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148-282F-4B47-BBCC-761959C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D5-4132-4CAB-B107-B4258060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BC3-D2BE-4348-9ADB-EA54BE2D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F65-E6B5-43DE-8869-0A8D5D3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5CE-D683-40FB-AC8E-F0B4DA2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9D7-3352-41BD-B314-7C931EE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861-588B-4EC6-ACCF-2D2DFBF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416E-F3D7-4279-9B1C-15643A6280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7C1F-7F74-4AC3-8536-1F4AFC1A5F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7"/>
          <p:cNvSpPr txBox="1"/>
          <p:nvPr/>
        </p:nvSpPr>
        <p:spPr>
          <a:xfrm>
            <a:off x="395280" y="2421000"/>
            <a:ext cx="6697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гражданское правоотно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WordArt 0"/>
          <p:cNvSpPr txBox="1"/>
          <p:nvPr/>
        </p:nvSpPr>
        <p:spPr>
          <a:xfrm>
            <a:off x="108000" y="907920"/>
            <a:ext cx="2087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юридически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акт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2452680" y="765000"/>
            <a:ext cx="6576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стоятельство, с наличием, или отсутств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торого закон связывает возникновение, из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ение и прекращение прав и обязанн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WordArt 2"/>
          <p:cNvSpPr txBox="1"/>
          <p:nvPr/>
        </p:nvSpPr>
        <p:spPr>
          <a:xfrm>
            <a:off x="1763640" y="2208240"/>
            <a:ext cx="58197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Виды юридических фактов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9080" y="2708280"/>
            <a:ext cx="888120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, предусмотренные закон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 не предусмотренные законом, но не прот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речащие е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акты государственных и муниципальных органо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удебные реше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здание продуктов интеллектуальной деятель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01680" y="5589720"/>
            <a:ext cx="859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юридических факт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сходит из различных основан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395280" y="765000"/>
            <a:ext cx="82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События и действия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81160" y="1341360"/>
            <a:ext cx="40035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независимо от воли субъ-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816440" y="1484280"/>
            <a:ext cx="40035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по воле субъ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52360" y="2728800"/>
            <a:ext cx="40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бсолют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смерть, ст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хийное действие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носитель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ист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срока действия договора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700880" y="270828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соответству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ют требованиям зак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не соотве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ствуют требованиям закона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2044800" y="4224240"/>
            <a:ext cx="5048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авомерные действия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39" name="Group 16"/>
          <p:cNvGrpSpPr/>
          <p:nvPr/>
        </p:nvGrpSpPr>
        <p:grpSpPr>
          <a:xfrm>
            <a:off x="468360" y="4581360"/>
            <a:ext cx="4032360" cy="1656000"/>
            <a:chOff x="468360" y="4581360"/>
            <a:chExt cx="4032360" cy="1656000"/>
          </a:xfrm>
        </p:grpSpPr>
        <p:sp>
          <p:nvSpPr>
            <p:cNvPr id="240" name="WordArt 12"/>
            <p:cNvSpPr txBox="1"/>
            <p:nvPr/>
          </p:nvSpPr>
          <p:spPr>
            <a:xfrm>
              <a:off x="468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акты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1" name="Line 14"/>
            <p:cNvSpPr/>
            <p:nvPr/>
          </p:nvSpPr>
          <p:spPr>
            <a:xfrm flipH="1">
              <a:off x="3348000" y="4581360"/>
              <a:ext cx="115272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Group 17"/>
          <p:cNvGrpSpPr/>
          <p:nvPr/>
        </p:nvGrpSpPr>
        <p:grpSpPr>
          <a:xfrm>
            <a:off x="4500720" y="4581360"/>
            <a:ext cx="4032000" cy="1656000"/>
            <a:chOff x="4500720" y="4581360"/>
            <a:chExt cx="4032000" cy="1656000"/>
          </a:xfrm>
        </p:grpSpPr>
        <p:sp>
          <p:nvSpPr>
            <p:cNvPr id="243" name="WordArt 13"/>
            <p:cNvSpPr txBox="1"/>
            <p:nvPr/>
          </p:nvSpPr>
          <p:spPr>
            <a:xfrm>
              <a:off x="5724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оступки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4500720" y="4581360"/>
              <a:ext cx="115236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132000" y="836640"/>
            <a:ext cx="58676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дминистративные, или судебные акты  сделки и судебные решения, устанавли-вающие гражданские права и обязан-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WordArt 10"/>
          <p:cNvSpPr txBox="1"/>
          <p:nvPr/>
        </p:nvSpPr>
        <p:spPr>
          <a:xfrm>
            <a:off x="108000" y="123984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кты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108000" y="324972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ступк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132000" y="2664000"/>
            <a:ext cx="586764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йствия, влекущие за собой граждан-ско-правовые последствия при дости-жении результата безотносительно от направленности воли лица, совершаю-щего юридический поступок (ех: кла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0" name="Group 19"/>
          <p:cNvGrpSpPr/>
          <p:nvPr/>
        </p:nvGrpSpPr>
        <p:grpSpPr>
          <a:xfrm>
            <a:off x="142560" y="4797360"/>
            <a:ext cx="8814240" cy="675720"/>
            <a:chOff x="142560" y="4797360"/>
            <a:chExt cx="8814240" cy="675720"/>
          </a:xfrm>
        </p:grpSpPr>
        <p:sp>
          <p:nvSpPr>
            <p:cNvPr id="251" name="WordArt 16"/>
            <p:cNvSpPr txBox="1"/>
            <p:nvPr/>
          </p:nvSpPr>
          <p:spPr>
            <a:xfrm>
              <a:off x="3780000" y="4797360"/>
              <a:ext cx="156204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СДЕЛКИ</a:t>
              </a:r>
              <a:endPara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52" name="Text Box 17"/>
            <p:cNvSpPr/>
            <p:nvPr/>
          </p:nvSpPr>
          <p:spPr>
            <a:xfrm>
              <a:off x="142560" y="5013360"/>
              <a:ext cx="88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(наиболее широкая и важная категория юридических фактов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3" name="Text Box 18"/>
          <p:cNvSpPr/>
          <p:nvPr/>
        </p:nvSpPr>
        <p:spPr>
          <a:xfrm>
            <a:off x="225720" y="5445000"/>
            <a:ext cx="87411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-действия субъектов, специально направленные на возник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ение, изменение, или прекращение гражданских правоот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WordArt 8"/>
          <p:cNvSpPr txBox="1"/>
          <p:nvPr/>
        </p:nvSpPr>
        <p:spPr>
          <a:xfrm>
            <a:off x="3708360" y="1055520"/>
            <a:ext cx="15620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ДЕЛКИ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6" name="Group 14"/>
          <p:cNvGrpSpPr/>
          <p:nvPr/>
        </p:nvGrpSpPr>
        <p:grpSpPr>
          <a:xfrm>
            <a:off x="179280" y="1557360"/>
            <a:ext cx="3960360" cy="792000"/>
            <a:chOff x="179280" y="1557360"/>
            <a:chExt cx="3960360" cy="792000"/>
          </a:xfrm>
        </p:grpSpPr>
        <p:sp>
          <p:nvSpPr>
            <p:cNvPr id="257" name="WordArt 4"/>
            <p:cNvSpPr txBox="1"/>
            <p:nvPr/>
          </p:nvSpPr>
          <p:spPr>
            <a:xfrm>
              <a:off x="179280" y="1916280"/>
              <a:ext cx="28080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оговоры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 flipH="1">
              <a:off x="305856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9" name="Group 15"/>
          <p:cNvGrpSpPr/>
          <p:nvPr/>
        </p:nvGrpSpPr>
        <p:grpSpPr>
          <a:xfrm>
            <a:off x="4786200" y="1268280"/>
            <a:ext cx="4106880" cy="1008360"/>
            <a:chOff x="4786200" y="1268280"/>
            <a:chExt cx="4106880" cy="1008360"/>
          </a:xfrm>
        </p:grpSpPr>
        <p:sp>
          <p:nvSpPr>
            <p:cNvPr id="260" name="WordArt 11"/>
            <p:cNvSpPr txBox="1"/>
            <p:nvPr/>
          </p:nvSpPr>
          <p:spPr>
            <a:xfrm>
              <a:off x="5867280" y="1268280"/>
              <a:ext cx="302580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односторонние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ействия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478620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2" name="WordArt 16"/>
          <p:cNvSpPr txBox="1"/>
          <p:nvPr/>
        </p:nvSpPr>
        <p:spPr>
          <a:xfrm>
            <a:off x="539640" y="2781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Правообразующие, правоизменяющие,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прекращающ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207000" y="4076640"/>
            <a:ext cx="878508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Один и тот же юридический факт может выполн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ные функц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для возникновения гражданско-правовых послед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й иногда неодходим не один, а несколько юрид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ческих фактов (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юрид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, или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факт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со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тав).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ех: вступление в наследств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07520" y="765000"/>
            <a:ext cx="83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Деление происходит в зависимости от критери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324000" y="148428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Имущественные и неимуществен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57720" y="2298600"/>
            <a:ext cx="79621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Имуществен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то, или иное материальное бл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возникают по поводу принадлежности имущества,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хода права владения от одного субъекта к друг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32920" y="4824360"/>
            <a:ext cx="701136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Неимуществен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неимущественные пра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и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 не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Абсолютные и относитель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99760" y="2443320"/>
            <a:ext cx="7980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Абсолют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управомоченному лицу(ех:собственнику) противосто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еопределенно широкий круг обязанных лиц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оведение обязанных лиц состоит в не нарушении пр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Управомоченного субъ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38720" y="4824360"/>
            <a:ext cx="76759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тноситель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одному управомоченному лицу противостоит опред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ленный круг обязанных лиц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должник-кредит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121760" y="1454040"/>
            <a:ext cx="70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численности и определен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ного сост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WordArt 3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Вещные и обязатель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410040" y="2276640"/>
            <a:ext cx="8395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Вещ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посредством собственных действий (е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право собственности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вещных прав осуществляется на основе вещ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8800" y="4581360"/>
            <a:ext cx="840276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бязатель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на основе требований активного дей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вия от обязанного 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обязательного права осуществляется на основе и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ка о возмещении понесенных убыт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401760" y="1382760"/>
            <a:ext cx="84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снове - способ реализации правомочия, принадлежа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го нос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4760" y="1844280"/>
            <a:ext cx="8697960" cy="453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1.Источники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3.Элементы гражданского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4.Юридические факты и гражданские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Источники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WordArt 0"/>
          <p:cNvSpPr txBox="1"/>
          <p:nvPr/>
        </p:nvSpPr>
        <p:spPr>
          <a:xfrm>
            <a:off x="468360" y="9079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Гражданский кодекс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31840" y="1308240"/>
            <a:ext cx="87328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Основной регулятор товарно-денежных отношений в стр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Первая часть вступила в силу с 1.1.1995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торая часть - с 1.3.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487440" y="27097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Федеральные законы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3035160"/>
            <a:ext cx="87328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Регулирующие отношения, составляющие предмет гражданского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487440" y="399888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Подзаконые акты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0920" y="4325760"/>
            <a:ext cx="87328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Указы Президента, постановления Правительства, акты министерств и федеральных органов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487440" y="569736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4.Иные источник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50920" y="6064200"/>
            <a:ext cx="8732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Например –обыч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08000" y="1022400"/>
            <a:ext cx="24447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771640" y="884160"/>
            <a:ext cx="61930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гулирует определенный круг обще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нных отношений, называемых предме-том гражданского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1620720" y="2422440"/>
            <a:ext cx="61912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редмет гражданского прав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68360" y="3178080"/>
            <a:ext cx="828036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мущественные отношения, т.е. отношения, складыва-ющиеся по поводу материальных бла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24000" y="4967280"/>
            <a:ext cx="417672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язанные с принадлеж-ностью определенных иму-щественных благ (отноше-ния собствен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643280" y="4967280"/>
            <a:ext cx="432144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вязанные с переходом иму-щественных прав от одного субъекта, к другому.(дог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ры, наследование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3203640" y="4292640"/>
            <a:ext cx="2663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1 группа</a:t>
            </a:r>
            <a:endParaRPr b="1" lang="en-US" sz="24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79280" y="1450800"/>
            <a:ext cx="8785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имущественные отношения связанные с имущественны-ми (авторское право, использование товарных знаков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203640" y="730080"/>
            <a:ext cx="2663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2 группа</a:t>
            </a:r>
            <a:endParaRPr b="1" lang="en-US" sz="24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244440" y="2565360"/>
            <a:ext cx="8648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-правовое регулирован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68360" y="3292560"/>
            <a:ext cx="828036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ирует такж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отчуждаемые права и свободы чело-века и др.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изнь, здоровье, честь и достоинство личности, деловую репутацию, неприкосновенность частной жизни, личную и семейную тайну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ношения между предпринимателями, или с их участ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9280" y="1224000"/>
            <a:ext cx="87854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кое право указывает на основания при которых абкстрактно-возможное регулирование превращается в реальное. Эти основания называются 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ЮРИДИЧЕСКИМИ ФАК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4360" y="3368520"/>
            <a:ext cx="785016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щественные отношения после его урегулирования гражданским правом превращается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ражданское правовое отно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но представляет собой связь между участниками гражданского правового отношения, в силу которой они выступают в качестве обладателей субъективных гражданских пр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3591720" y="763560"/>
            <a:ext cx="2154240" cy="1253520"/>
            <a:chOff x="3591720" y="763560"/>
            <a:chExt cx="2154240" cy="1253520"/>
          </a:xfrm>
        </p:grpSpPr>
        <p:sp>
          <p:nvSpPr>
            <p:cNvPr id="182" name="Text Box 4"/>
            <p:cNvSpPr/>
            <p:nvPr/>
          </p:nvSpPr>
          <p:spPr>
            <a:xfrm>
              <a:off x="3591720" y="1557360"/>
              <a:ext cx="2154240" cy="459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одерж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4716360" y="763560"/>
              <a:ext cx="0" cy="7207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Group 8"/>
          <p:cNvGrpSpPr/>
          <p:nvPr/>
        </p:nvGrpSpPr>
        <p:grpSpPr>
          <a:xfrm>
            <a:off x="489960" y="765000"/>
            <a:ext cx="4108680" cy="1252080"/>
            <a:chOff x="489960" y="765000"/>
            <a:chExt cx="4108680" cy="1252080"/>
          </a:xfrm>
        </p:grpSpPr>
        <p:sp>
          <p:nvSpPr>
            <p:cNvPr id="185" name="Text Box 3"/>
            <p:cNvSpPr/>
            <p:nvPr/>
          </p:nvSpPr>
          <p:spPr>
            <a:xfrm>
              <a:off x="489960" y="1557360"/>
              <a:ext cx="1713960" cy="45972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убъек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H="1">
              <a:off x="2293560" y="765000"/>
              <a:ext cx="2305080" cy="7192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4861080" y="765000"/>
            <a:ext cx="3868560" cy="1252080"/>
            <a:chOff x="4861080" y="765000"/>
            <a:chExt cx="3868560" cy="1252080"/>
          </a:xfrm>
        </p:grpSpPr>
        <p:sp>
          <p:nvSpPr>
            <p:cNvPr id="188" name="Text Box 5"/>
            <p:cNvSpPr/>
            <p:nvPr/>
          </p:nvSpPr>
          <p:spPr>
            <a:xfrm>
              <a:off x="7157520" y="1557360"/>
              <a:ext cx="1572120" cy="45972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4861080" y="765000"/>
              <a:ext cx="2231640" cy="719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WordArt 12"/>
          <p:cNvSpPr txBox="1"/>
          <p:nvPr/>
        </p:nvSpPr>
        <p:spPr>
          <a:xfrm>
            <a:off x="108000" y="3573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убъекты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2601360" y="2276640"/>
            <a:ext cx="635580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осители гражданских правомочий (прав)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обязанностей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Физические ли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Юридические ли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Российская Федерац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Субъекты РФ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Муниципальные образов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ностранные госуда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9840" y="5661000"/>
            <a:ext cx="8980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обязательно участие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не менее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2 субъекто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правомоченная (имеющая права)  и обязанная стор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08000" y="148428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643120" y="936720"/>
            <a:ext cx="635148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авомочия (права) и обязанности его уча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ников (субъект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ам одной стороны обязательно отвеч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ют юридические обязанности друг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1403280" y="2784600"/>
            <a:ext cx="6486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ражданское правоотношени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716120" y="333072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Делится в зависимости от содержа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468360" y="3933720"/>
            <a:ext cx="3887280" cy="1008000"/>
            <a:chOff x="468360" y="3933720"/>
            <a:chExt cx="3887280" cy="1008000"/>
          </a:xfrm>
        </p:grpSpPr>
        <p:sp>
          <p:nvSpPr>
            <p:cNvPr id="199" name="WordArt 17"/>
            <p:cNvSpPr txBox="1"/>
            <p:nvPr/>
          </p:nvSpPr>
          <p:spPr>
            <a:xfrm>
              <a:off x="468360" y="4408560"/>
              <a:ext cx="1895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ростое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 flipH="1">
              <a:off x="2484000" y="3933720"/>
              <a:ext cx="187164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23"/>
          <p:cNvGrpSpPr/>
          <p:nvPr/>
        </p:nvGrpSpPr>
        <p:grpSpPr>
          <a:xfrm>
            <a:off x="4643280" y="3933720"/>
            <a:ext cx="4056120" cy="1008000"/>
            <a:chOff x="4643280" y="3933720"/>
            <a:chExt cx="4056120" cy="1008000"/>
          </a:xfrm>
        </p:grpSpPr>
        <p:sp>
          <p:nvSpPr>
            <p:cNvPr id="202" name="WordArt 18"/>
            <p:cNvSpPr txBox="1"/>
            <p:nvPr/>
          </p:nvSpPr>
          <p:spPr>
            <a:xfrm>
              <a:off x="6588000" y="4479840"/>
              <a:ext cx="211140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Сложное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>
              <a:off x="4643280" y="3933720"/>
              <a:ext cx="187200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Text Box 24"/>
          <p:cNvSpPr/>
          <p:nvPr/>
        </p:nvSpPr>
        <p:spPr>
          <a:xfrm>
            <a:off x="75960" y="5261040"/>
            <a:ext cx="43243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одна обяза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зай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4613400" y="5261040"/>
            <a:ext cx="44967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несколько обязан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перевозки гру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189000" y="109224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бъект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724120" y="907920"/>
            <a:ext cx="6127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о, на что направлена деятельность уча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иков правоотн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684360" y="2025720"/>
            <a:ext cx="122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К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т.128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10" name="WordArt 15"/>
          <p:cNvSpPr txBox="1"/>
          <p:nvPr/>
        </p:nvSpPr>
        <p:spPr>
          <a:xfrm>
            <a:off x="2484360" y="2009880"/>
            <a:ext cx="608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ы правоотношени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1979640" y="5157720"/>
            <a:ext cx="1085760" cy="1154880"/>
            <a:chOff x="1979640" y="5157720"/>
            <a:chExt cx="1085760" cy="1154880"/>
          </a:xfrm>
        </p:grpSpPr>
        <p:pic>
          <p:nvPicPr>
            <p:cNvPr id="212" name="Picture 16" descr="j0234735"/>
            <p:cNvPicPr/>
            <p:nvPr/>
          </p:nvPicPr>
          <p:blipFill>
            <a:blip r:embed="rId6"/>
            <a:stretch/>
          </p:blipFill>
          <p:spPr>
            <a:xfrm>
              <a:off x="1979640" y="5157720"/>
              <a:ext cx="10857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7"/>
            <p:cNvSpPr/>
            <p:nvPr/>
          </p:nvSpPr>
          <p:spPr>
            <a:xfrm>
              <a:off x="1985400" y="5852880"/>
              <a:ext cx="107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ещ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4" name="Group 20"/>
          <p:cNvGrpSpPr/>
          <p:nvPr/>
        </p:nvGrpSpPr>
        <p:grpSpPr>
          <a:xfrm>
            <a:off x="462960" y="3184560"/>
            <a:ext cx="1546200" cy="1760400"/>
            <a:chOff x="462960" y="3184560"/>
            <a:chExt cx="1546200" cy="1760400"/>
          </a:xfrm>
        </p:grpSpPr>
        <p:pic>
          <p:nvPicPr>
            <p:cNvPr id="215" name="Picture 18" descr="j0236509"/>
            <p:cNvPicPr/>
            <p:nvPr/>
          </p:nvPicPr>
          <p:blipFill>
            <a:blip r:embed="rId7"/>
            <a:stretch/>
          </p:blipFill>
          <p:spPr>
            <a:xfrm>
              <a:off x="757080" y="3184560"/>
              <a:ext cx="100800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9"/>
            <p:cNvSpPr/>
            <p:nvPr/>
          </p:nvSpPr>
          <p:spPr>
            <a:xfrm>
              <a:off x="462960" y="4119480"/>
              <a:ext cx="15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работ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услуг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4975560" y="4941720"/>
            <a:ext cx="2285280" cy="1418400"/>
            <a:chOff x="4975560" y="4941720"/>
            <a:chExt cx="2285280" cy="1418400"/>
          </a:xfrm>
        </p:grpSpPr>
        <p:pic>
          <p:nvPicPr>
            <p:cNvPr id="218" name="Picture 22" descr="j0309721"/>
            <p:cNvPicPr/>
            <p:nvPr/>
          </p:nvPicPr>
          <p:blipFill>
            <a:blip r:embed="rId8"/>
            <a:stretch/>
          </p:blipFill>
          <p:spPr>
            <a:xfrm>
              <a:off x="5628960" y="4941720"/>
              <a:ext cx="9763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23"/>
            <p:cNvSpPr/>
            <p:nvPr/>
          </p:nvSpPr>
          <p:spPr>
            <a:xfrm>
              <a:off x="4975560" y="5900400"/>
              <a:ext cx="22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формац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0" name="Group 27"/>
          <p:cNvGrpSpPr/>
          <p:nvPr/>
        </p:nvGrpSpPr>
        <p:grpSpPr>
          <a:xfrm>
            <a:off x="2820240" y="3068640"/>
            <a:ext cx="3190680" cy="1876320"/>
            <a:chOff x="2820240" y="3068640"/>
            <a:chExt cx="3190680" cy="1876320"/>
          </a:xfrm>
        </p:grpSpPr>
        <p:pic>
          <p:nvPicPr>
            <p:cNvPr id="221" name="Picture 25" descr="j0234686"/>
            <p:cNvPicPr/>
            <p:nvPr/>
          </p:nvPicPr>
          <p:blipFill>
            <a:blip r:embed="rId9"/>
            <a:stretch/>
          </p:blipFill>
          <p:spPr>
            <a:xfrm>
              <a:off x="3882960" y="3068640"/>
              <a:ext cx="10652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26"/>
            <p:cNvSpPr/>
            <p:nvPr/>
          </p:nvSpPr>
          <p:spPr>
            <a:xfrm>
              <a:off x="2820240" y="411948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бствен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3" name="Group 30"/>
          <p:cNvGrpSpPr/>
          <p:nvPr/>
        </p:nvGrpSpPr>
        <p:grpSpPr>
          <a:xfrm>
            <a:off x="6264000" y="3357720"/>
            <a:ext cx="2974320" cy="1587240"/>
            <a:chOff x="6264000" y="3357720"/>
            <a:chExt cx="2974320" cy="1587240"/>
          </a:xfrm>
        </p:grpSpPr>
        <p:pic>
          <p:nvPicPr>
            <p:cNvPr id="224" name="Picture 28" descr="j0303462"/>
            <p:cNvPicPr/>
            <p:nvPr/>
          </p:nvPicPr>
          <p:blipFill>
            <a:blip r:embed="rId10"/>
            <a:stretch/>
          </p:blipFill>
          <p:spPr>
            <a:xfrm>
              <a:off x="7138800" y="3357720"/>
              <a:ext cx="122400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29"/>
            <p:cNvSpPr/>
            <p:nvPr/>
          </p:nvSpPr>
          <p:spPr>
            <a:xfrm>
              <a:off x="6264000" y="4119480"/>
              <a:ext cx="29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ематериаль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благ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Helios</cp:lastModifiedBy>
  <dcterms:modified xsi:type="dcterms:W3CDTF">2013-01-29T04:59:17Z</dcterms:modified>
  <cp:revision>2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