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20.jpeg" ContentType="image/jpeg"/>
  <Override PartName="/ppt/media/image5.jpeg" ContentType="image/jpeg"/>
  <Override PartName="/ppt/media/image28.png" ContentType="image/png"/>
  <Override PartName="/ppt/media/image29.jpeg" ContentType="image/jpeg"/>
  <Override PartName="/ppt/media/image6.png" ContentType="image/png"/>
  <Override PartName="/ppt/media/image31.png" ContentType="image/png"/>
  <Override PartName="/ppt/media/image9.png" ContentType="image/png"/>
  <Override PartName="/ppt/media/image35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36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D71C-73EF-4C38-9541-22DA42092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B72C-0689-451E-B2A4-5413EFEC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EF08-F692-4590-8696-DCE88A262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5E7E-7728-4EDE-A811-F94C3800D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4B22-F9D6-4A89-8331-7F035967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030A-735A-4216-94D4-C37B999A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E68C-F680-424D-88D0-3EAFFC86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1F2F-84AB-4A4B-A1CE-AA696E12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542A-1FF8-4A54-A2DC-BCEB0AB4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F3CF-59F8-4C2A-85A9-C6D862D6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7A89-1447-4EE7-BBA2-C625B11A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160E-C03B-4CAF-A248-D5652B85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A08C-9338-4737-8638-A98E4D7FAD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421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ЕКТНАЯ РАБОТА ПО ГЕОГРАФИИ</a:t>
            </a:r>
            <a:br>
              <a:rPr sz="2800"/>
            </a:br>
            <a:r>
              <a:rPr b="1" i="1" lang="ru-RU" sz="5400" spc="-1" strike="noStrike">
                <a:solidFill>
                  <a:srgbClr val="00cc00"/>
                </a:solidFill>
                <a:latin typeface="Times New Roman"/>
              </a:rPr>
              <a:t>Удивительная Россия </a:t>
            </a:r>
            <a:br>
              <a:rPr sz="5400"/>
            </a:br>
            <a:r>
              <a:rPr b="1" i="1" lang="ru-RU" sz="5400" spc="-1" strike="noStrike">
                <a:solidFill>
                  <a:srgbClr val="00cc00"/>
                </a:solidFill>
                <a:latin typeface="Times New Roman"/>
              </a:rPr>
              <a:t>или </a:t>
            </a:r>
            <a:br>
              <a:rPr sz="5400"/>
            </a:br>
            <a:r>
              <a:rPr b="1" i="1" lang="ru-RU" sz="5400" spc="-1" strike="noStrike">
                <a:solidFill>
                  <a:srgbClr val="00cc00"/>
                </a:solidFill>
                <a:latin typeface="Times New Roman"/>
              </a:rPr>
              <a:t>уникальные топонимы нашей страны</a:t>
            </a:r>
            <a:br>
              <a:rPr sz="28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5500440"/>
            <a:ext cx="7429680" cy="96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ыполнила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Митрущенкова Валерия, 8А кла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уководитель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Овчинникова С. В., учитель географ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ЕОФИЦИАЛЬ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85840" y="357120"/>
            <a:ext cx="4071960" cy="2643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4357800" y="285840"/>
            <a:ext cx="4357440" cy="2643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3"/>
          <a:stretch/>
        </p:blipFill>
        <p:spPr>
          <a:xfrm>
            <a:off x="285840" y="2928960"/>
            <a:ext cx="4071960" cy="2857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faf598f631bf"/>
          <p:cNvPicPr/>
          <p:nvPr/>
        </p:nvPicPr>
        <p:blipFill>
          <a:blip r:embed="rId4"/>
          <a:stretch/>
        </p:blipFill>
        <p:spPr>
          <a:xfrm>
            <a:off x="4357800" y="2928960"/>
            <a:ext cx="43434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2500560" cy="2571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" descr=""/>
          <p:cNvPicPr/>
          <p:nvPr/>
        </p:nvPicPr>
        <p:blipFill>
          <a:blip r:embed="rId2"/>
          <a:stretch/>
        </p:blipFill>
        <p:spPr>
          <a:xfrm>
            <a:off x="2857680" y="1214280"/>
            <a:ext cx="1333440" cy="9907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3"/>
          <a:stretch/>
        </p:blipFill>
        <p:spPr>
          <a:xfrm>
            <a:off x="4214880" y="357120"/>
            <a:ext cx="4595760" cy="2514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4"/>
          <a:stretch/>
        </p:blipFill>
        <p:spPr>
          <a:xfrm>
            <a:off x="1928880" y="3143160"/>
            <a:ext cx="3886200" cy="3200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5"/>
          <a:stretch/>
        </p:blipFill>
        <p:spPr>
          <a:xfrm>
            <a:off x="6072120" y="3143160"/>
            <a:ext cx="1609920" cy="1219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6"/>
          <a:stretch/>
        </p:blipFill>
        <p:spPr>
          <a:xfrm>
            <a:off x="7143840" y="4429080"/>
            <a:ext cx="1714320" cy="116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7"/>
          <a:stretch/>
        </p:blipFill>
        <p:spPr>
          <a:xfrm>
            <a:off x="5929200" y="4786200"/>
            <a:ext cx="13334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2571840" y="1357200"/>
            <a:ext cx="3762360" cy="2143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2786040" y="3500280"/>
            <a:ext cx="342900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АМЫЕ СМЕШ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357200" y="357120"/>
            <a:ext cx="2238480" cy="2857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4429080" y="357120"/>
            <a:ext cx="4000680" cy="2857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2928960" y="3500280"/>
            <a:ext cx="39290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content.foto.mail.ru/bk/ahramia/_answers/i-4642.jpg"/>
          <p:cNvPicPr/>
          <p:nvPr/>
        </p:nvPicPr>
        <p:blipFill>
          <a:blip r:embed="rId1"/>
          <a:stretch/>
        </p:blipFill>
        <p:spPr>
          <a:xfrm>
            <a:off x="1857240" y="1143000"/>
            <a:ext cx="571500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428760" y="642960"/>
            <a:ext cx="4000320" cy="2643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hac"/>
          <p:cNvPicPr/>
          <p:nvPr/>
        </p:nvPicPr>
        <p:blipFill>
          <a:blip r:embed="rId2"/>
          <a:stretch/>
        </p:blipFill>
        <p:spPr>
          <a:xfrm>
            <a:off x="4143240" y="3500280"/>
            <a:ext cx="4572000" cy="2927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http://fffail.ru/sites/fffail.ru/files/styles/large/public/images/20122112135101.jpg"/>
          <p:cNvPicPr/>
          <p:nvPr/>
        </p:nvPicPr>
        <p:blipFill>
          <a:blip r:embed="rId3"/>
          <a:stretch/>
        </p:blipFill>
        <p:spPr>
          <a:xfrm>
            <a:off x="4714920" y="642960"/>
            <a:ext cx="40719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71760"/>
            <a:ext cx="8229600" cy="30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60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опо́ни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(от др.- греч. τόπος (topos) — «место», и ὄνομα (onoma) — «имя, название») — имя собственное, обозначающее название (идентификатор) географического объект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понимы изучаются наукой 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топонимикой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5480" y="274680"/>
            <a:ext cx="871524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реди топонимов выделяются различные классы, такие как:</a:t>
            </a:r>
            <a:br>
              <a:rPr sz="14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оронимы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— названия любых территорий, областей, районов;</a:t>
            </a:r>
            <a:br>
              <a:rPr sz="1800"/>
            </a:b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Астионимы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— названия городов;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рбоним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— названия внутригородских объектов;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одоним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— названия улиц;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горонимы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— названия площадей;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ромонимы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— названия путей сообщения;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идронимы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— географические названия водных объектов, в том числе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елагонимы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— названия морей;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имноним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— названия озёр;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тамонимы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— названия рек;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елоним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— названия болот, заболоченных мест;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оним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— названия поднятых форм рельефа (гор, хребтов, вершин, холмов)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йконимы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 — названия населённых мест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икротопоним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— названия небольших объектов                                                                                             (угодий, урочищ, сенокосов, выгонов, топей, лесосек, гарей, пастбищ, колодцев, ключей, омутов, порогов и т. д., обычно известные лишь ограниченному кругу людей, проживающих в определённом районе);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Геоним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— названия дорог, проездов и т. п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АМЫЕ ПОПУЛЯР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57120" y="357120"/>
            <a:ext cx="4229280" cy="2571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>
            <a:off x="357120" y="2857680"/>
            <a:ext cx="4238640" cy="3571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3"/>
          <a:stretch/>
        </p:blipFill>
        <p:spPr>
          <a:xfrm>
            <a:off x="4572000" y="2928960"/>
            <a:ext cx="4214880" cy="3500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4"/>
          <a:stretch/>
        </p:blipFill>
        <p:spPr>
          <a:xfrm>
            <a:off x="4572000" y="428760"/>
            <a:ext cx="4214880" cy="2500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"/>
          <p:cNvPicPr/>
          <p:nvPr/>
        </p:nvPicPr>
        <p:blipFill>
          <a:blip r:embed="rId5"/>
          <a:stretch/>
        </p:blipFill>
        <p:spPr>
          <a:xfrm>
            <a:off x="357120" y="35712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"/>
          <p:cNvPicPr/>
          <p:nvPr/>
        </p:nvPicPr>
        <p:blipFill>
          <a:blip r:embed="rId6"/>
          <a:stretch/>
        </p:blipFill>
        <p:spPr>
          <a:xfrm>
            <a:off x="357120" y="3500280"/>
            <a:ext cx="4214880" cy="2928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"/>
          <p:cNvPicPr/>
          <p:nvPr/>
        </p:nvPicPr>
        <p:blipFill>
          <a:blip r:embed="rId7"/>
          <a:stretch/>
        </p:blipFill>
        <p:spPr>
          <a:xfrm>
            <a:off x="4572000" y="35712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"/>
          <p:cNvPicPr/>
          <p:nvPr/>
        </p:nvPicPr>
        <p:blipFill>
          <a:blip r:embed="rId8"/>
          <a:stretch/>
        </p:blipFill>
        <p:spPr>
          <a:xfrm>
            <a:off x="4572000" y="3500280"/>
            <a:ext cx="4238640" cy="29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АМЫЕ ДЛИННЫЕ И САМЫЕ КОРОТК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http://www.bnkomi.ru/content/news/images/11148/magnit.jpg"/>
          <p:cNvPicPr/>
          <p:nvPr/>
        </p:nvPicPr>
        <p:blipFill>
          <a:blip r:embed="rId1"/>
          <a:stretch/>
        </p:blipFill>
        <p:spPr>
          <a:xfrm>
            <a:off x="357120" y="428760"/>
            <a:ext cx="835812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http://www.omskprint.ru/news_photo/09224112956.jpg"/>
          <p:cNvPicPr/>
          <p:nvPr/>
        </p:nvPicPr>
        <p:blipFill>
          <a:blip r:embed="rId1"/>
          <a:stretch/>
        </p:blipFill>
        <p:spPr>
          <a:xfrm>
            <a:off x="4929120" y="357120"/>
            <a:ext cx="3810240" cy="5353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http://komikz.ru/images/356545dfgh.jpg"/>
          <p:cNvPicPr/>
          <p:nvPr/>
        </p:nvPicPr>
        <p:blipFill>
          <a:blip r:embed="rId2"/>
          <a:stretch/>
        </p:blipFill>
        <p:spPr>
          <a:xfrm>
            <a:off x="500040" y="428760"/>
            <a:ext cx="4286160" cy="2786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3"/>
          <a:stretch/>
        </p:blipFill>
        <p:spPr>
          <a:xfrm>
            <a:off x="1857240" y="3357720"/>
            <a:ext cx="292896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 АЛФАВИТ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428760" y="357120"/>
            <a:ext cx="1800000" cy="2571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7072200" y="500040"/>
            <a:ext cx="1667160" cy="2762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3"/>
          <a:stretch/>
        </p:blipFill>
        <p:spPr>
          <a:xfrm>
            <a:off x="2428920" y="3857760"/>
            <a:ext cx="41432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Пользователь</cp:lastModifiedBy>
  <dcterms:modified xsi:type="dcterms:W3CDTF">2013-09-26T19:17:24Z</dcterms:modified>
  <cp:revision>76</cp:revision>
  <dc:subject/>
  <dc:title>Слайд 1</dc:title>
</cp:coreProperties>
</file>