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53B-F2E5-4D27-A992-737E03DF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7CA-59CE-4824-B672-F14A98D8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FAA-0274-4590-81CD-30A5E144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7F5-1797-4386-8AAC-19E032B2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C72-A2F5-4B76-9175-58D6FCF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30EE-6357-4097-A3BD-7DA11B53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13D3-3481-4168-85B3-96E17BA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D19-2B85-4687-B353-83DC966D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0F4-4A9F-4790-9567-4BC93B13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AC56-D922-42B7-8BB9-1E441FD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FC5-E255-4CED-A105-ED9A09D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EA6-595D-4D44-B63D-EF69E5F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DAEA-73B9-4C3C-93AD-39810DF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4C7B-72E0-4F88-9FCF-55D28F5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57C-C0B1-47CC-8675-28507A4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C1B8-5A3C-47E6-B20D-C5B1F9A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4383-9887-4021-8776-AB01C5D0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22FB-93A0-4A71-A03D-B2A2C5B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E172-F9DA-4795-B498-C714FC2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7BB0-ED65-43E4-80BE-5F4BD1AE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0580-AD83-4833-880C-56365E36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B152-D4E3-47F4-87B5-AB6444ED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76B-C0A0-4340-80D0-394CBA2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65F0-5CD4-447B-8015-9A595098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45D9-002E-42FA-8DA3-403037F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09DA-9E8F-4F7B-A13C-EBF97A68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0CEB-EFDD-434D-B13D-0786227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609D-0C8A-4B8F-BBB8-BC61ABB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3948-E2F4-43DE-A6ED-E404504A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AB25-BA65-4AAC-97DD-87C04AB4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C15-94F3-49ED-A1D1-D8C53ED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084-2BD8-4012-BB18-E8104699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118-9774-472D-9C0D-FCE70F7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070-815D-4916-B092-79236FA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346-3EAE-470A-A3AC-50FF24F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818-AC43-480C-800C-FD25E20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D67A-2D8E-4241-BD92-0D8206C1E271}" type="slidenum">
              <a:rPr b="0" lang="ru-RU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18C6-DFB2-4F91-B98E-12D5D7E0E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7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244-9870-436D-B9B9-9134FF3E7CC9}" type="slidenum">
              <a:rPr b="0" lang="ru-RU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47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РАБОТА ПЕДАГОГА-ПСИХОЛОГА ПО РАЗРЕШЕНИЮ МЕЖЛИЧНОСТНЫХ КОНФЛИКТОВ У ПОДРОСТКОВ В УСЛОВИЯХ ОБЩЕОБРАЗОВАТЕЛЬНОЙ ШКОЛЫ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916360" y="51620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ыполнила: педагог-психолог МБОУ Сергачской СОШ №4 Фролова Ольга Сергеевн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1193400" y="61956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ультаты диагностики по методике Т. Лир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84360" y="11296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тили межличностных отношений у испытуемых всей выборк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1557360"/>
          <a:ext cx="7201080" cy="5121360"/>
        </p:xfrm>
        <a:graphic>
          <a:graphicData uri="http://schemas.openxmlformats.org/drawingml/2006/table">
            <a:tbl>
              <a:tblPr/>
              <a:tblGrid>
                <a:gridCol w="765360"/>
                <a:gridCol w="2616120"/>
                <a:gridCol w="1676160"/>
                <a:gridCol w="2143440"/>
              </a:tblGrid>
              <a:tr h="396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ла-октант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е значения по группам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имент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итар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гоистич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грессив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зритель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чиняем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висим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ужелюб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I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ьтруистич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инирование-подчинение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8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ужелюбие - агрессив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820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ahoma"/>
              </a:rPr>
              <a:t>Провести коррекционно-развивающую программу и проанализировать динамику  овладения конструктивными способами разрешения конфликтов среди подростков</a:t>
            </a:r>
            <a:endParaRPr b="0" lang="en-US" sz="20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7020000" y="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№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755640" y="1557360"/>
            <a:ext cx="770400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66104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оррекционно-развивающая программа по разрешению межличностных конфликтов у подростков в общеобразовательной школе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39640" y="29088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 формирование способов конструктивного разрешения межличностных конфликтов среди подростков в условиях общеобразовательного учреждения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8360" y="400392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 программы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социальной активности подростков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конструктивных коммуникативных навыков, в том числе и умения сотрудничать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агрессивности и формирование адекватной самооценки подростков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 благоприятный психоэмоциональный климат в классном коллективе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539640" y="1699920"/>
            <a:ext cx="813600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грамма состоит из 10 занятий, в которые входят по несколько упражнений, каждое занятие проходит в групповой форме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я программа рассчитана на реализацию в течение 5 недель (по 2 занятия в неделю) 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должительность каждого занятия – 45 минут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исследовании приняли участие учащиеся 9-х классов в количестве 48 человека (22 мальчика) и (26 девочек) от 14 до 15 лет, разделённых (после проведения методики К. Томаса) на две группы по 24 человек – экспериментальную и контрольную. 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но-экспериментальная база: МБОУ СОШ №2 г. Сергача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68360" y="4035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</a:rPr>
              <a:t>Коррекционно-развивающая программа по разрешению межличностных конфликтов у подростков в общеобразовательной школе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401040" y="54828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инамика результатов диагностики по тесту К. Томаса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3" name="Object 10"/>
          <p:cNvGraphicFramePr/>
          <p:nvPr/>
        </p:nvGraphicFramePr>
        <p:xfrm>
          <a:off x="539640" y="1125360"/>
          <a:ext cx="8353440" cy="49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353440" cy="49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84360" y="5180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инамика средних результатов по группам до и после проведение коррекционной программы по методике М.Снайдер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11"/>
          <p:cNvGraphicFramePr/>
          <p:nvPr/>
        </p:nvGraphicFramePr>
        <p:xfrm>
          <a:off x="539640" y="1484280"/>
          <a:ext cx="79930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9930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971640" y="404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намика средних результатов по группам до и после проведение коррекционной программы по тесту Лири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Рисунок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Теоретическая значимость исследования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63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576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зучен и обобщён обширный научно-теоретический материал по проблеме межличностных конфликтов в подростковом возрасте,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576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выявлены основные направления работы социального педагога по конструктивному разрешению межличностных конфликтов среди подростков в общеобразовательной школе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97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Практическая значимость исследования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89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одобран действующий материал по проблеме нахождения педагогом-психологом оптимальных методов и технологий конструктивного разрешения межличностных конфликтов среди подростков в общеобразовательной школе,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разработана и апробирована коррекционно-развивающая программа работы педагога-психолога по разрешению межличностных конфликтов в подростковой среде, выявлена динамика  уровня развития конфликтности в подростковой среде.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Материал нашей работы может быть использован в практической деятельности социальных педагогов, психологов, методистов общеобразовательных учреждений и учреждений дополнительного образования, работающих с подростками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Перспективы исследования</a:t>
            </a:r>
            <a:endParaRPr b="0" lang="en-US" sz="40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692360" y="1773720"/>
            <a:ext cx="550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ланируется дальнейшее изучение исследования проблемы работы педагога-психолога по разрешению межличностных конфликтов среди подростков в общеобразовательной школе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611280" y="1341360"/>
            <a:ext cx="799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пасиб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за внимание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539640" y="47520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Проблема исследования: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овы оптимальные формы и методы разрешения межличностных конфликтов среди подростков в условиях общеобразовательной школы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9640" y="177192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Цель исследования: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учить возможности положительного влияния педагога-психолога на подростков, по формированию у них конструктивных способов  разрешения межличностных конфликтов в условиях общеобразовательной школы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39640" y="335664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Объект исследования: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фессиональная  деятельность педагога-психолога среди подростков в условиях общеобразовательной школы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26920" y="4632840"/>
            <a:ext cx="792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Предмет исследования: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педагога-психолога по разрешению межличностных конфликтов у подростков в условиях общеобразовательной школы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395280" y="104868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ипотеза исследования: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педагога-психолога по разрешению межличностных конфликтов у подростков в условиях общеобразовательной школы будет эффективной в том, случае, если своевременно будет изучена склонность к конфликтному поведению подростков и на основе полученных диагностических данных  будет разработана коррекционно-развивающая программа, направленная на формирование конструктивных способов разрешения межличностных конфликтов среди подростков в условиях общеобразовательной школы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755640" y="821880"/>
            <a:ext cx="7561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дачи исследовани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состояние исследуемой проблемы в психолого-педагогической  литературе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особенности межличностных конфликтов в подростковом возрасте и основные направления работы педагога-психолога по разрешению межличностных конфликтов среди подростков в условиях общеобразовательной школы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склонность к конфликтному поведению у подростко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коррекционно-развивающую программу и проанализировать динамику  овладения конструктивными способами разрешения конфликтов среди подростко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Изучить состояние исследуемой проблемы в психолого-педагогической  литературе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ликтом следует считать наличие противоречия, разногласий, интересов, потребностей, целей, что нарушает нормальное взаимодействие людей и препятствует достижению их целей, а также приводит к противоборству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ликт может выполнять конструктивную и деструктивную функции по отношению к основным участникам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нфликтных ситуациях можно применить разные стратегии поведения: настойчивость, принуждение; уход, уклонение; приспособление, устойчивость; компромисс, взаимные уступки; сотрудничество, решение проблемы.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020000" y="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569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ff"/>
                </a:solidFill>
                <a:latin typeface="Tahoma"/>
              </a:rPr>
              <a:t>Выявить особенности межличностных конфликтов в подростковом возрасте и основные направления работы педагога-психолога по разрешению межличностных конфликтов среди подростков в условиях общеобразовательной школы</a:t>
            </a:r>
            <a:endParaRPr b="0" lang="en-US" sz="19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476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сихологическими особенностями подростков, обусловливающими конфликтное поведение, являются неустойчивая эмоциональная сфера, импульсивность, противоречивость; самоутверждение своей самостоятельности и индивидуальности, ведущая деятельность - общение со сверстниками, освоение новых норм поведения и отношений с людьми; формирование самооценки, характера; склонность к риску, агрессивности как приемам самоутверждения; формирование самосознания; возникновение социального сознания и самосознания; самоопределение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spcBef>
                <a:spcPts val="476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К основным направлениям работы педагога-психолога по разрешению межличностных конфликтов в подростковой среде относятся те, которые реализуются через целостный образовательный процесс, а также профессиональную деятельность педагога-психолога.</a:t>
            </a: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020000" y="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№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6944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ahoma"/>
              </a:rPr>
              <a:t>Изучить склонность к конфликтному поведению у подростков</a:t>
            </a:r>
            <a:endParaRPr b="0" lang="en-US" sz="20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020000" y="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№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8360" y="1219320"/>
            <a:ext cx="81360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основных психодиагностических методИК, использовались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0720" algn="just">
              <a:spcAft>
                <a:spcPts val="4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т на определение уровня самоконтроля в общении М. Снайдера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пределить уровень контроля при общении с другими людьми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0720" algn="just">
              <a:spcAft>
                <a:spcPts val="4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т описания поведения в конфликтной ситуации К. Томаса, адаптированный Н.В. Гришиной (1990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пределить характерную для человека тактику поведения в конфликтных ситуация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450720" algn="just">
              <a:spcAft>
                <a:spcPts val="4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т Т. Лири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следование представлений субъекта о себе и идеальном «Я», а также для изучения взаимоотношений в малых группах, выявления преобладающего типа отношений к людям в самооценке и взаимооценке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042920" y="981000"/>
            <a:ext cx="6913800" cy="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1232"/>
          <p:cNvSpPr/>
          <p:nvPr/>
        </p:nvSpPr>
        <p:spPr>
          <a:xfrm>
            <a:off x="1109880" y="475560"/>
            <a:ext cx="70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первичной диагностики по тесту К. Томаса (в баллах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льная групп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295280"/>
          <a:ext cx="7702560" cy="54936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420560"/>
                <a:gridCol w="1417680"/>
                <a:gridCol w="1216080"/>
                <a:gridCol w="1216080"/>
              </a:tblGrid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ытуем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перничеств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честв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ромис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бегани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пособлени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4360" y="1844640"/>
          <a:ext cx="7704000" cy="863640"/>
        </p:xfrm>
        <a:graphic>
          <a:graphicData uri="http://schemas.openxmlformats.org/drawingml/2006/table">
            <a:tbl>
              <a:tblPr/>
              <a:tblGrid>
                <a:gridCol w="1215720"/>
                <a:gridCol w="1217880"/>
                <a:gridCol w="1419120"/>
                <a:gridCol w="1417680"/>
                <a:gridCol w="1217520"/>
                <a:gridCol w="1216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по группе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55640" y="3860640"/>
          <a:ext cx="7702560" cy="64800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419120"/>
                <a:gridCol w="1419120"/>
                <a:gridCol w="1216080"/>
                <a:gridCol w="12160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ытуем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перничеств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честв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ромис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бегани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пособлени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1310"/>
          <p:cNvSpPr/>
          <p:nvPr/>
        </p:nvSpPr>
        <p:spPr>
          <a:xfrm>
            <a:off x="1116360" y="2996640"/>
            <a:ext cx="70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первичной диагностики по тесту К. Томаса (в баллах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трольная групп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4508640"/>
          <a:ext cx="7702560" cy="1290600"/>
        </p:xfrm>
        <a:graphic>
          <a:graphicData uri="http://schemas.openxmlformats.org/drawingml/2006/table">
            <a:tbl>
              <a:tblPr/>
              <a:tblGrid>
                <a:gridCol w="1216080"/>
                <a:gridCol w="1217520"/>
                <a:gridCol w="1419120"/>
                <a:gridCol w="1416240"/>
                <a:gridCol w="1217520"/>
                <a:gridCol w="1216080"/>
              </a:tblGrid>
              <a:tr h="12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по группе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39640" y="3085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езультаты по тесту на оценку уровня самоконтроля в общении по М.Снайдеру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Объект 1"/>
          <p:cNvGraphicFramePr/>
          <p:nvPr/>
        </p:nvGraphicFramePr>
        <p:xfrm>
          <a:off x="-468360" y="1557360"/>
          <a:ext cx="96123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557360"/>
                    <a:ext cx="9612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49:45Z</dcterms:created>
  <dc:creator>Колясникова Валентина</dc:creator>
  <dc:description/>
  <dc:language>en-US</dc:language>
  <cp:lastModifiedBy>Ёжик(Обкуренный)</cp:lastModifiedBy>
  <dcterms:modified xsi:type="dcterms:W3CDTF">2013-09-26T05:58:36Z</dcterms:modified>
  <cp:revision>12</cp:revision>
  <dc:subject/>
  <dc:title>РАБОТА ПЕДАГОГА – ПСИХОЛОГА  ПО КОРРЕКЦИИ ЭМОЦИОНАЛЬНЫХ НАРУШЕНИЙ У  МЛАДШИХ ШКОЛЬНИКОВ</dc:title>
</cp:coreProperties>
</file>