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854-A4D9-498F-867D-9528F350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EFE-D23F-45DE-8AD9-DB5B4F51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DA2-02EB-4315-AF29-3404D4B9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03B-D7DD-46F1-9753-B918B2C4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7E9-3DB1-421A-872B-34B3EBAD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BD9-11F5-4911-8B3E-3C9170A7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640-254D-474C-BFA2-0F25EE62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E39-ABA4-45E5-A171-2E2DFA7A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0EB-A59C-4137-BC7F-D722F40F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9E5-5A63-4489-BD13-FEA01311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4F4-5E2D-4357-B655-165B0A89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867-6E94-46AC-B895-A00C902F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abfd"/>
            </a:gs>
            <a:gs pos="50000">
              <a:srgbClr val="ffffff"/>
            </a:gs>
            <a:gs pos="100000">
              <a:srgbClr val="17ab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D927-D3E1-4E3C-8598-A7B209E2F5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oard.od.ua/uploads/aimages/large/102/101016-91847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64396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ff"/>
                </a:solidFill>
                <a:latin typeface="Times New Roman"/>
              </a:rPr>
              <a:t>Компьютерные игры: </a:t>
            </a:r>
            <a:br>
              <a:rPr sz="4800"/>
            </a:br>
            <a:r>
              <a:rPr b="1" i="1" lang="ru-RU" sz="4800" spc="-1" strike="noStrike">
                <a:solidFill>
                  <a:srgbClr val="3366ff"/>
                </a:solidFill>
                <a:latin typeface="Times New Roman"/>
              </a:rPr>
              <a:t>друзья или враги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1"/>
          <a:stretch/>
        </p:blipFill>
        <p:spPr>
          <a:xfrm>
            <a:off x="2286000" y="1428840"/>
            <a:ext cx="5192640" cy="308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7120" y="4643280"/>
            <a:ext cx="87868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66ff"/>
                </a:solidFill>
                <a:latin typeface="Times New Roman"/>
              </a:rPr>
              <a:t>Ученик 1</a:t>
            </a:r>
            <a:r>
              <a:rPr b="0" lang="en-US" sz="35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3500" spc="-1" strike="noStrike" baseline="30000">
                <a:solidFill>
                  <a:srgbClr val="3366ff"/>
                </a:solidFill>
                <a:latin typeface="Times New Roman"/>
              </a:rPr>
              <a:t>2</a:t>
            </a:r>
            <a:r>
              <a:rPr b="0" lang="en-US" sz="35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3500" spc="-1" strike="noStrike">
                <a:solidFill>
                  <a:srgbClr val="3366ff"/>
                </a:solidFill>
                <a:latin typeface="Times New Roman"/>
              </a:rPr>
              <a:t> класса БОУ СОШ № 16 г. Омска Волошин Андрей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66ff"/>
                </a:solidFill>
                <a:latin typeface="Times New Roman"/>
              </a:rPr>
              <a:t>Классный руководитель Михайлова И.Н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36720" y="-360"/>
            <a:ext cx="46069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Times New Roman"/>
              </a:rPr>
              <a:t>Мнение врач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691920"/>
            <a:ext cx="59022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вредные факторы, действующие на человека за компьютером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дячее положение в течение длительного времен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лектромагнитное излучени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ерегрузка суставов кист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вышенная нагрузка на зрени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напряжение при угрозе виртуальной жизни в иг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588000" y="1557360"/>
            <a:ext cx="2252880" cy="36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85723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грать  в компьютерные игры нравится всем: и мальчикам, и девочкам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Школьники в начальной школе тратят на компьютерные игры не много своего времени, а поэтому игры не оказывают ощутимого отрицательного влияния на учебу и здоровь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еные советуют играть в развивающие игр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дики считают, что необходимо ограничивать время за компьютером, правильно сидеть и каждые 10-15 минут нахождения за компьютером делать упражнения для глаз, а также не сложные физические упражн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ждый человек сам для себя может определить кем для него станут компьютерные игры – друзьями или враг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81000"/>
          <a:ext cx="9144000" cy="6699240"/>
        </p:xfrm>
        <a:graphic>
          <a:graphicData uri="http://schemas.openxmlformats.org/drawingml/2006/table">
            <a:tbl>
              <a:tblPr/>
              <a:tblGrid>
                <a:gridCol w="4500720"/>
                <a:gridCol w="46432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игра – друг, когда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игра  – враг, когда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 новые способы подачи учебной информации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 собственный мир, уединение, агрессия и жестокост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ывает повышени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еса к учеб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ует ответственност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вает логические способности, внимание, памят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няет живое общение с друзьям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игре необходимо принимать решения  и анализировать  действия самостоятельно,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имают время от учебы и занятий спортом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объединяются в групповых играх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азывают плохое влияние на здоровь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ы – это тема для общени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игры влияют на настроени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астает самооценк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ы сильно увлекаю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907920"/>
            <a:ext cx="774396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компьютером необходимо сидеть в правильном полож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лательно агрессивные игры - «стрелялки» и «бродилки», «леталки», «гонки» заменить на развивающие иг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ительность игры без перерыва должна быть не более 15 минут. И не играть перед сном, и, тем более, ноч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ниматься активными играми и физическими упражнениями, чувствовать радость от этог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на компьютере не должна подменять реальное общение с друзьями и близкими!!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ьное положение при работе на компьютер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209600" y="1341360"/>
            <a:ext cx="7013520" cy="527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10108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хника безопасности в компьютерном клас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C:\Users\serge\Downloads\page24_page36_47.jpg"/>
          <p:cNvPicPr/>
          <p:nvPr/>
        </p:nvPicPr>
        <p:blipFill>
          <a:blip r:embed="rId1"/>
          <a:stretch/>
        </p:blipFill>
        <p:spPr>
          <a:xfrm>
            <a:off x="2928960" y="1785960"/>
            <a:ext cx="3857760" cy="484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2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i-main-pic" descr="Картинка 413 из 416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2492280"/>
            <a:ext cx="2685960" cy="381024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3"/>
          <p:cNvSpPr/>
          <p:nvPr/>
        </p:nvSpPr>
        <p:spPr>
          <a:xfrm>
            <a:off x="3203640" y="260280"/>
            <a:ext cx="5543640" cy="2664000"/>
          </a:xfrm>
          <a:prstGeom prst="wedgeRoundRectCallout">
            <a:avLst>
              <a:gd name="adj1" fmla="val -68157"/>
              <a:gd name="adj2" fmla="val 9147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3564000" y="4364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"Делу время, а потехе час"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Цель: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Выяснить,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чего больше: пользы или вреда приносят школьникам компьютерные игр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624996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од рабо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ние одноклассников и их родителей о компьютер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х (анкетирование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  Мнение ученых о влиянии компьютерных игр на учебу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  Мнение медиков о влиянии компьютерных игр на здоровь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 Анализ результатов исследова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 Вы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5913360" y="21430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24724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информа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тели однокласс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кольн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н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ги и журналы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етоды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еседа (с ребятами, родителями, специалистам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кетирование (10 мальчиков и 10 девочек), в возрасте от 6 до 8 лет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тение книг и статей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иск в Интернет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37" descr=""/>
          <p:cNvPicPr/>
          <p:nvPr/>
        </p:nvPicPr>
        <p:blipFill>
          <a:blip r:embed="rId1"/>
          <a:stretch/>
        </p:blipFill>
        <p:spPr>
          <a:xfrm>
            <a:off x="5357880" y="85716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042920" y="292428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480" y="142920"/>
            <a:ext cx="54291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кета для одноклассников и их роди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 для одноклассников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равится ли тебе играть 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мпьютерные игры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2.     Как много времени у тебя уходит на компьютерные игры в день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3.     Какие компьютерные игры нравятся тебе больше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.     Умеешь ли ты пользоваться интернетом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ак ты считаешь, компьютерные игры для тебя «друзья» или «враги»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 для родителей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Есть ли у Вас дома ПК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ак, по Вашему мнению, компьютерные игры влияют на Вашего ребенка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5" descr=""/>
          <p:cNvPicPr/>
          <p:nvPr/>
        </p:nvPicPr>
        <p:blipFill>
          <a:blip r:embed="rId1"/>
          <a:stretch/>
        </p:blipFill>
        <p:spPr>
          <a:xfrm>
            <a:off x="5357880" y="2143080"/>
            <a:ext cx="3568680" cy="297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85480" y="3141720"/>
            <a:ext cx="864396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3333cc"/>
                </a:solidFill>
                <a:uFillTx/>
                <a:latin typeface="Times New Roman"/>
              </a:rPr>
              <a:t>2 вопрос:</a:t>
            </a:r>
            <a:r>
              <a:rPr b="1" lang="ru-RU" sz="25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2500" spc="-1" strike="noStrike">
                <a:solidFill>
                  <a:srgbClr val="3333cc"/>
                </a:solidFill>
                <a:latin typeface="Times New Roman"/>
              </a:rPr>
              <a:t>Как много времени у тебя уходит на компьютерные игры в день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280" y="142920"/>
            <a:ext cx="7674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3333cc"/>
                </a:solidFill>
                <a:uFillTx/>
                <a:latin typeface="Times New Roman"/>
              </a:rPr>
              <a:t>1 вопрос:</a:t>
            </a:r>
            <a:br>
              <a:rPr sz="2500"/>
            </a:br>
            <a:r>
              <a:rPr b="1" i="1" lang="ru-RU" sz="2500" spc="-1" strike="noStrike">
                <a:solidFill>
                  <a:srgbClr val="3333cc"/>
                </a:solidFill>
                <a:latin typeface="Times New Roman"/>
              </a:rPr>
              <a:t>Нравится ли тебе играть в компьютерные игры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Содержимое 8" descr=""/>
          <p:cNvPicPr/>
          <p:nvPr/>
        </p:nvPicPr>
        <p:blipFill>
          <a:blip r:embed="rId1"/>
          <a:stretch/>
        </p:blipFill>
        <p:spPr>
          <a:xfrm>
            <a:off x="184320" y="898560"/>
            <a:ext cx="4060800" cy="1774800"/>
          </a:xfrm>
          <a:prstGeom prst="rect">
            <a:avLst/>
          </a:prstGeom>
          <a:ln w="0">
            <a:noFill/>
          </a:ln>
        </p:spPr>
      </p:pic>
      <p:pic>
        <p:nvPicPr>
          <p:cNvPr id="55" name="Диаграмма 10" descr=""/>
          <p:cNvPicPr/>
          <p:nvPr/>
        </p:nvPicPr>
        <p:blipFill>
          <a:blip r:embed="rId2"/>
          <a:stretch/>
        </p:blipFill>
        <p:spPr>
          <a:xfrm>
            <a:off x="4398840" y="898560"/>
            <a:ext cx="4060800" cy="163188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11" descr=""/>
          <p:cNvPicPr/>
          <p:nvPr/>
        </p:nvPicPr>
        <p:blipFill>
          <a:blip r:embed="rId3"/>
          <a:stretch/>
        </p:blipFill>
        <p:spPr>
          <a:xfrm>
            <a:off x="112680" y="4041720"/>
            <a:ext cx="4132440" cy="2560680"/>
          </a:xfrm>
          <a:prstGeom prst="rect">
            <a:avLst/>
          </a:prstGeom>
          <a:ln w="0">
            <a:noFill/>
          </a:ln>
        </p:spPr>
      </p:pic>
      <p:pic>
        <p:nvPicPr>
          <p:cNvPr id="57" name="Диаграмма 12" descr=""/>
          <p:cNvPicPr/>
          <p:nvPr/>
        </p:nvPicPr>
        <p:blipFill>
          <a:blip r:embed="rId4"/>
          <a:stretch/>
        </p:blipFill>
        <p:spPr>
          <a:xfrm>
            <a:off x="4970520" y="4041720"/>
            <a:ext cx="3703680" cy="256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632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3333cc"/>
                </a:solidFill>
                <a:uFillTx/>
                <a:latin typeface="Times New Roman"/>
              </a:rPr>
              <a:t>3 вопрос:</a:t>
            </a:r>
            <a:r>
              <a:rPr b="1" lang="ru-RU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500" spc="-1" strike="noStrike">
                <a:solidFill>
                  <a:srgbClr val="3333cc"/>
                </a:solidFill>
                <a:latin typeface="Times New Roman"/>
              </a:rPr>
              <a:t>Какие компьютерные игры тебе нравятся больше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8440" y="3286080"/>
            <a:ext cx="734508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Содержимое 13" descr=""/>
          <p:cNvPicPr/>
          <p:nvPr/>
        </p:nvPicPr>
        <p:blipFill>
          <a:blip r:embed="rId1"/>
          <a:stretch/>
        </p:blipFill>
        <p:spPr>
          <a:xfrm>
            <a:off x="112680" y="755640"/>
            <a:ext cx="4341960" cy="263196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14" descr=""/>
          <p:cNvPicPr/>
          <p:nvPr/>
        </p:nvPicPr>
        <p:blipFill>
          <a:blip r:embed="rId2"/>
          <a:stretch/>
        </p:blipFill>
        <p:spPr>
          <a:xfrm>
            <a:off x="4613400" y="684360"/>
            <a:ext cx="4489200" cy="2846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642960" y="3429000"/>
            <a:ext cx="785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3333cc"/>
                </a:solidFill>
                <a:uFillTx/>
                <a:latin typeface="Times New Roman"/>
              </a:rPr>
              <a:t>4 вопрос:  </a:t>
            </a:r>
            <a:r>
              <a:rPr b="1" i="1" lang="ru-RU" sz="2500" spc="-1" strike="noStrike">
                <a:solidFill>
                  <a:srgbClr val="3333cc"/>
                </a:solidFill>
                <a:latin typeface="Times New Roman"/>
              </a:rPr>
              <a:t>Умеешь ли ты пользоваться интернетом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Диаграмма 16" descr=""/>
          <p:cNvPicPr/>
          <p:nvPr/>
        </p:nvPicPr>
        <p:blipFill>
          <a:blip r:embed="rId3"/>
          <a:stretch/>
        </p:blipFill>
        <p:spPr>
          <a:xfrm>
            <a:off x="398520" y="4113360"/>
            <a:ext cx="3846600" cy="2274840"/>
          </a:xfrm>
          <a:prstGeom prst="rect">
            <a:avLst/>
          </a:prstGeom>
          <a:ln w="0">
            <a:noFill/>
          </a:ln>
        </p:spPr>
      </p:pic>
      <p:pic>
        <p:nvPicPr>
          <p:cNvPr id="64" name="Диаграмма 17" descr=""/>
          <p:cNvPicPr/>
          <p:nvPr/>
        </p:nvPicPr>
        <p:blipFill>
          <a:blip r:embed="rId4"/>
          <a:stretch/>
        </p:blipFill>
        <p:spPr>
          <a:xfrm>
            <a:off x="4613400" y="4113360"/>
            <a:ext cx="4108320" cy="223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5050"/>
                </a:solidFill>
                <a:uFillTx/>
                <a:latin typeface="Times New Roman"/>
              </a:rPr>
              <a:t>5 вопрос:</a:t>
            </a:r>
            <a:r>
              <a:rPr b="1" lang="ru-RU" sz="2500" spc="-1" strike="noStrike">
                <a:solidFill>
                  <a:srgbClr val="ff5050"/>
                </a:solidFill>
                <a:latin typeface="Times New Roman"/>
              </a:rPr>
              <a:t>  </a:t>
            </a:r>
            <a:r>
              <a:rPr b="1" i="1" lang="ru-RU" sz="2500" spc="-1" strike="noStrike">
                <a:solidFill>
                  <a:srgbClr val="ff5050"/>
                </a:solidFill>
                <a:latin typeface="Times New Roman"/>
              </a:rPr>
              <a:t>Как ты считаешь, компьютерные игры для тебя «друзья» или «враги»?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одержимое 7" descr=""/>
          <p:cNvPicPr/>
          <p:nvPr/>
        </p:nvPicPr>
        <p:blipFill>
          <a:blip r:embed="rId1"/>
          <a:stretch/>
        </p:blipFill>
        <p:spPr>
          <a:xfrm>
            <a:off x="469800" y="755640"/>
            <a:ext cx="4013280" cy="218448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8" descr=""/>
          <p:cNvPicPr/>
          <p:nvPr/>
        </p:nvPicPr>
        <p:blipFill>
          <a:blip r:embed="rId2"/>
          <a:stretch/>
        </p:blipFill>
        <p:spPr>
          <a:xfrm>
            <a:off x="4898880" y="755640"/>
            <a:ext cx="4013280" cy="218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072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3333cc"/>
                </a:solidFill>
                <a:uFillTx/>
                <a:latin typeface="Times New Roman"/>
              </a:rPr>
              <a:t>Вопросы для родителей</a:t>
            </a:r>
            <a:br>
              <a:rPr sz="2500"/>
            </a:br>
            <a:r>
              <a:rPr b="0" lang="ru-RU" sz="2500" spc="-1" strike="noStrike" u="sng">
                <a:solidFill>
                  <a:srgbClr val="3333cc"/>
                </a:solidFill>
                <a:uFillTx/>
                <a:latin typeface="Times New Roman"/>
              </a:rPr>
              <a:t>1 вопрос: </a:t>
            </a:r>
            <a:r>
              <a:rPr b="0" i="1" lang="ru-RU" sz="2500" spc="-1" strike="noStrike">
                <a:solidFill>
                  <a:srgbClr val="3333cc"/>
                </a:solidFill>
                <a:latin typeface="Times New Roman"/>
              </a:rPr>
              <a:t>Есть ли у Вас дома компьютер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326880" y="612720"/>
            <a:ext cx="4013280" cy="218448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6" descr=""/>
          <p:cNvPicPr/>
          <p:nvPr/>
        </p:nvPicPr>
        <p:blipFill>
          <a:blip r:embed="rId2"/>
          <a:stretch/>
        </p:blipFill>
        <p:spPr>
          <a:xfrm>
            <a:off x="4827600" y="612720"/>
            <a:ext cx="4013280" cy="21844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2642760"/>
            <a:ext cx="84294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3333cc"/>
                </a:solidFill>
                <a:uFillTx/>
                <a:latin typeface="Times New Roman"/>
              </a:rPr>
              <a:t>2 вопрос: </a:t>
            </a:r>
            <a:r>
              <a:rPr b="1" i="1" lang="ru-RU" sz="2500" spc="-1" strike="noStrike">
                <a:solidFill>
                  <a:srgbClr val="3333cc"/>
                </a:solidFill>
                <a:latin typeface="Times New Roman"/>
              </a:rPr>
              <a:t>Как по Вашему мнению, компьютерные игры влияют на Вашего ребенка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Диаграмма 7" descr=""/>
          <p:cNvPicPr/>
          <p:nvPr/>
        </p:nvPicPr>
        <p:blipFill>
          <a:blip r:embed="rId3"/>
          <a:stretch/>
        </p:blipFill>
        <p:spPr>
          <a:xfrm>
            <a:off x="326880" y="3398760"/>
            <a:ext cx="4054680" cy="3119400"/>
          </a:xfrm>
          <a:prstGeom prst="rect">
            <a:avLst/>
          </a:prstGeom>
          <a:ln w="0">
            <a:noFill/>
          </a:ln>
        </p:spPr>
      </p:pic>
      <p:pic>
        <p:nvPicPr>
          <p:cNvPr id="73" name="Диаграмма 8" descr=""/>
          <p:cNvPicPr/>
          <p:nvPr/>
        </p:nvPicPr>
        <p:blipFill>
          <a:blip r:embed="rId4"/>
          <a:stretch/>
        </p:blipFill>
        <p:spPr>
          <a:xfrm>
            <a:off x="3827520" y="3192480"/>
            <a:ext cx="5132160" cy="3767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cc"/>
                </a:solidFill>
                <a:uFillTx/>
                <a:latin typeface="Times New Roman"/>
              </a:rPr>
              <a:t>Мнение ученых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6760" y="714240"/>
            <a:ext cx="5715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Шотландские ученые провели эксперимент, в котором принимали участие 600 учеников из 32 школ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ть эксперимен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ежедневная игра в компьютерную игру Brain Training, созданную Японским нейробиологом Данд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 эксперимен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ньшилось времени выполнения учебных заданий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лучшилось поведение школьников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 всех участников повысилась внимание и интерес к учеб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высилась самооценк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Доктор Рюта Кавасима, создатель серии игр Brain Training (изображение с сайта www.ripten.com)."/>
          <p:cNvPicPr/>
          <p:nvPr/>
        </p:nvPicPr>
        <p:blipFill>
          <a:blip r:embed="rId1"/>
          <a:stretch/>
        </p:blipFill>
        <p:spPr>
          <a:xfrm>
            <a:off x="6397560" y="1052640"/>
            <a:ext cx="2541600" cy="2733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357960" y="378612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понский нейробиоло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1:02:32Z</dcterms:created>
  <dc:creator>Shataloff</dc:creator>
  <dc:description/>
  <dc:language>en-US</dc:language>
  <cp:lastModifiedBy>serge</cp:lastModifiedBy>
  <dcterms:modified xsi:type="dcterms:W3CDTF">2012-12-12T02:44:13Z</dcterms:modified>
  <cp:revision>184</cp:revision>
  <dc:subject/>
  <dc:title>ЭКОЛОГО-БИОЛОГИЧЕСКАЯ ХАРАКТЕРИСТИКА  ОКУНЯ-КЛЮВАЧА ИСЛАНДСКОЙ ЭКОНОМИЧЕСКОЙ ЗОНЫ (Научный отчет)   Договор 28-01/2003, раздел 1.1, подраздел 1.1.2</dc:title>
</cp:coreProperties>
</file>