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7BA-B31B-4806-8FC4-169DBA6C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8FF-5FAE-4684-A185-7DC27863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74A-11DD-4793-87A0-0BDB4F27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273-8ECA-4A46-96A8-FF12C33E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248-5EBD-4846-8788-AE2955EC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12F-D55D-425B-B62D-9012894E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D55-FF11-4562-8A44-97E2FA82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155-6200-41AC-929F-7AAA7264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F14-24B0-466D-A313-CB99081E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E72-FDA1-469C-A5EB-65D6581E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484-BF7E-44B2-8C1A-D4D91416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048-A131-49B7-AB9B-E65FBB3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12B7-0CA4-4648-BC8B-3BACC90C1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postcard.ru%2Fpic%2Fflowers_rose%2F1013889400_olympiad.jpg&amp;pageurl=http%3A%2F%2Fwww.photovision.ru%2Fphoto%2F24898%3Fsize%3Dbig&amp;id=161858796&amp;iid=7&amp;imgwidth=533&amp;imgheight=400&amp;imgsize=4159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7/gedeon1980.97/0_18e1f_c74d28a9_X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1;&#1077;&#1075;&#1077;&#1085;&#1076;&#1099;%20&#1086;%20&#1088;&#1086;&#1079;&#1077;.shs" TargetMode="External"/><Relationship Id="rId2" Type="http://schemas.openxmlformats.org/officeDocument/2006/relationships/hyperlink" Target="file:///&#1051;&#1077;&#1075;&#1077;&#1085;&#1076;&#1099;%20&#1086;%20&#1088;&#1086;&#1079;&#1077;.shs" TargetMode="External"/><Relationship Id="rId3" Type="http://schemas.openxmlformats.org/officeDocument/2006/relationships/hyperlink" Target="file:///&#1051;&#1077;&#1075;&#1077;&#1085;&#1076;&#1099;%20&#1086;%20&#1088;&#1086;&#1079;&#1077;.shs" TargetMode="External"/><Relationship Id="rId4" Type="http://schemas.openxmlformats.org/officeDocument/2006/relationships/hyperlink" Target="file:///&#1051;&#1077;&#1075;&#1077;&#1085;&#1076;&#1099;%20&#1086;%20&#1088;&#1086;&#1079;&#1077;.shs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klopp.ru/uploads/posts/2008-03/1206897444_y9fikpdi0l1m8wikc5roey4y0ijnb5eq_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95280" y="189000"/>
            <a:ext cx="52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 Narrow"/>
              </a:rPr>
              <a:t>Мастерская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 Narrow"/>
              </a:rPr>
              <a:t>по стихотворению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 Narrow"/>
              </a:rPr>
              <a:t>в прозе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 Narrow"/>
              </a:rPr>
              <a:t>И.С.Тургенева «Роза»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203480" y="82548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3" name="Picture 12" descr="i?id=161858796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76280"/>
            <a:ext cx="3529080" cy="3014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3"/>
          <p:cNvSpPr/>
          <p:nvPr/>
        </p:nvSpPr>
        <p:spPr>
          <a:xfrm>
            <a:off x="-2139840" y="3933720"/>
            <a:ext cx="1128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8080"/>
                </a:solidFill>
                <a:latin typeface="Arial"/>
              </a:rPr>
              <a:t>                                               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Автор разработки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учитель школы 639 Невского района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Надежда Михайловна Минкина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008 го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4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68360" y="549360"/>
            <a:ext cx="35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Рефлекси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-289080" y="1504800"/>
            <a:ext cx="59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Было ли скучно в мастерской?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Чтение рабо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Обмен мнениями о работе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6" name="Picture 9" descr="Картинка 30 из 348586"/>
          <p:cNvPicPr/>
          <p:nvPr/>
        </p:nvPicPr>
        <p:blipFill>
          <a:blip r:embed="rId1"/>
          <a:stretch/>
        </p:blipFill>
        <p:spPr>
          <a:xfrm>
            <a:off x="4500720" y="1197000"/>
            <a:ext cx="4535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03640" y="11592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Содержание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76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-636480" y="765000"/>
            <a:ext cx="9024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1.Титульный лист      2. Содержание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3.Цели мастерской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4. Этапы мастерской: задание – индуктор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5. Этап социализации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(обращение к личному опыту учащихся)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6»Деконструкция»  текста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(работа с разными источниками)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7.Работа со стихами русских поэтов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8. Чтение и осмысление стихотворения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в прозе И.С. Тургенева «Роза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9.Два пути осмысления текста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10.Рефлексия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816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-84240" y="-36360"/>
            <a:ext cx="68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астерско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-2413080" y="620640"/>
            <a:ext cx="1281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1. Исследовать образ розы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                </a:t>
            </a: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в легендах и русской литературе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2. Сформировать личное отношение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к стихотворениям в прозе И.С.Тургенев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3. Соединить личный опыт учащихся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с опытом русских поэтов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808080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Подготовить к написанию эссе по рассказ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 Black"/>
              </a:rPr>
              <a:t>И.С.Тургенева «Роза»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11" descr="i?id=73190191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005360"/>
            <a:ext cx="266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6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24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92160" y="568440"/>
            <a:ext cx="764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Этапы мастерско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Задание-индуктор;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«включение» в тему;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-1774800" y="2924280"/>
            <a:ext cx="1091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Записать ассоциации,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связанные со словом «Роза»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" name="Picture 8" descr="d4ac2a533b37"/>
          <p:cNvPicPr/>
          <p:nvPr/>
        </p:nvPicPr>
        <p:blipFill>
          <a:blip r:embed="rId1"/>
          <a:stretch/>
        </p:blipFill>
        <p:spPr>
          <a:xfrm>
            <a:off x="4932360" y="407664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404640"/>
            <a:ext cx="47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Этапы мастерско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-1387440" y="1576440"/>
            <a:ext cx="919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Этап социализации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Обращение к личному опыту учащихся        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Время совместной деятельности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-527040" y="359244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Работа в группах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Рассказать историю, связанную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с розо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Записать, что символизирует роза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в рассказе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" name="Picture 8" descr="ЦВЕТУЩЕЙ РОЗЫ АРОМАТ"/>
          <p:cNvPicPr/>
          <p:nvPr/>
        </p:nvPicPr>
        <p:blipFill>
          <a:blip r:embed="rId1"/>
          <a:stretch/>
        </p:blipFill>
        <p:spPr>
          <a:xfrm>
            <a:off x="5724360" y="189000"/>
            <a:ext cx="3097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755640" y="115920"/>
            <a:ext cx="50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Этапы мастерско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765000"/>
            <a:ext cx="696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808080"/>
                </a:solidFill>
                <a:latin typeface="Arial"/>
              </a:rPr>
              <a:t>»Деконструкция</a:t>
            </a:r>
            <a:r>
              <a:rPr b="1" i="1" lang="ru-RU" sz="3200" spc="-1" strike="noStrike">
                <a:solidFill>
                  <a:srgbClr val="808080"/>
                </a:solidFill>
                <a:latin typeface="Arial"/>
              </a:rPr>
              <a:t> текста»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86440" y="1360440"/>
            <a:ext cx="661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Работа с научным описанием роз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 статьёй в словаре Дал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1 групп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916360" y="3213000"/>
            <a:ext cx="1298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i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та с раздаточным материалом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 первых упоминаниях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 легендах о розе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-3 групп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" name="Picture 14" descr="i?id=53593793&amp;tov=0"/>
          <p:cNvPicPr/>
          <p:nvPr/>
        </p:nvPicPr>
        <p:blipFill>
          <a:blip r:embed="rId5"/>
          <a:stretch/>
        </p:blipFill>
        <p:spPr>
          <a:xfrm>
            <a:off x="5796000" y="3860640"/>
            <a:ext cx="29289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96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2124000" y="333360"/>
            <a:ext cx="41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Этапы мастерско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-1079640" y="1144440"/>
            <a:ext cx="809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4. Работа со стихами русских поэтов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Учащиеся выписывают ключевые слова,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создающие образ  розы, выясняют,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что символизирует образ в стихотворении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" name="Text Box 6" descr=""/>
          <p:cNvPicPr/>
          <p:nvPr/>
        </p:nvPicPr>
        <p:blipFill>
          <a:blip r:embed="rId1"/>
          <a:stretch/>
        </p:blipFill>
        <p:spPr>
          <a:xfrm>
            <a:off x="-2438280" y="2584440"/>
            <a:ext cx="10905840" cy="4011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Картинка 21 из 3485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3184560"/>
            <a:ext cx="3564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4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619280" y="189000"/>
            <a:ext cx="42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Этапы мастерско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900000" y="981000"/>
            <a:ext cx="65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5. Чтение и осмысление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стихотворения в прозе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И.С.Тургенева «Роза» (Апрель, 1878год)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0" name="Picture 7" descr="i?id=144503943&amp;tov=0"/>
          <p:cNvPicPr/>
          <p:nvPr/>
        </p:nvPicPr>
        <p:blipFill>
          <a:blip r:embed="rId1"/>
          <a:stretch/>
        </p:blipFill>
        <p:spPr>
          <a:xfrm>
            <a:off x="1763640" y="3357720"/>
            <a:ext cx="5400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-128520" y="423720"/>
            <a:ext cx="7292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Два пути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осмысления текст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-487440" y="2133720"/>
            <a:ext cx="592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Вопросы автора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и автору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Работа с ключевыми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словами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3" name="Picture 7" descr="Картинка 1 из 171"/>
          <p:cNvPicPr/>
          <p:nvPr/>
        </p:nvPicPr>
        <p:blipFill>
          <a:blip r:embed="rId1"/>
          <a:stretch/>
        </p:blipFill>
        <p:spPr>
          <a:xfrm>
            <a:off x="5651640" y="189000"/>
            <a:ext cx="3313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96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07:08:23Z</dcterms:created>
  <dc:creator>www.PHILka.RU</dc:creator>
  <dc:description/>
  <dc:language>en-US</dc:language>
  <cp:lastModifiedBy>www.PHILka.RU</cp:lastModifiedBy>
  <dcterms:modified xsi:type="dcterms:W3CDTF">2009-11-02T19:58:11Z</dcterms:modified>
  <cp:revision>12</cp:revision>
  <dc:subject/>
  <dc:title>Слайд 1</dc:title>
</cp:coreProperties>
</file>