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FD0-BBAA-4A9A-B011-FB4A97D3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99F-53AC-446F-AF6D-59CCCA78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C0A-1458-4242-A4F5-3BEF9781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1DD-8CF6-4F2B-843B-E7948567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E8E0-D218-41D9-A814-3CF12CB9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8664-451F-4891-B741-A879C110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D6ED-BBE5-41A8-9FDB-59DE1E3F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A67-5D1D-4280-B172-720FAA56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E9D6-10F7-4AD6-9B00-8EAF430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4399-3E72-41E7-B7B5-3F5F7308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4F43-BCA8-43C4-AB31-1DA48CD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862-D3A0-4528-9C25-C36E715D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D865-8DB7-4C17-8B1F-60CB23BF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D4DE-3D05-4438-AD8A-2F970859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1545-B9BD-46BD-A6A1-B910E350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CB80-B9AF-4FC1-8770-85EE3DB5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FA68-82E4-46D5-8379-54164CE1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343-9850-4C39-BAEB-7B72DF13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611-5C4F-4BB5-8A3C-05E75658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0D1-3858-4AC5-AFA0-E6D7C5AC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F3D-C7E4-4601-9734-CB1B2025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1B0-B8A6-4B51-B63C-95F677A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3EC-7E9A-4A2C-8836-80E9CFB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E4F-83F2-4AAC-ACBA-A8F8A3A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AFA-B086-4642-AD33-4B5A828E5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5B5B-00E1-4F29-A0B8-2BF430FAE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075;&#1072;" TargetMode="External"/><Relationship Id="rId2" Type="http://schemas.openxmlformats.org/officeDocument/2006/relationships/hyperlink" Target="http://ru.wikipedia.org/w/index.php?title=&#1052;&#1072;&#1083;&#1099;&#1082;&#1086;&#1074;&#1082;&#1072;_(&#1088;&#1077;&#1082;&#1072;)&amp;action=edit&amp;redlink=1" TargetMode="External"/><Relationship Id="rId3" Type="http://schemas.openxmlformats.org/officeDocument/2006/relationships/hyperlink" Target="http://ru.wikipedia.org/wiki/1699_&#1075;&#1086;&#1076;" TargetMode="External"/><Relationship Id="rId4" Type="http://schemas.openxmlformats.org/officeDocument/2006/relationships/hyperlink" Target="http://ru.wikipedia.org/wiki/XVII_&#1074;&#1077;&#1082;" TargetMode="External"/><Relationship Id="rId5" Type="http://schemas.openxmlformats.org/officeDocument/2006/relationships/hyperlink" Target="http://ru.wikipedia.org/wiki/&#1057;&#1086;&#1089;&#1085;&#1086;&#1074;&#1099;&#1081;_&#1054;&#1089;&#1090;&#1088;&#1086;&#1074;" TargetMode="External"/><Relationship Id="rId6" Type="http://schemas.openxmlformats.org/officeDocument/2006/relationships/hyperlink" Target="http://ru.wikipedia.org/wiki/&#1061;&#1074;&#1072;&#1083;&#1099;&#1085;&#1089;&#1082;" TargetMode="External"/><Relationship Id="rId7" Type="http://schemas.openxmlformats.org/officeDocument/2006/relationships/hyperlink" Target="http://ru.wikipedia.org/w/index.php?title=&#1058;&#1077;&#1088;&#1089;&#1072;_(&#1089;&#1077;&#1083;&#1086;)&amp;action=edit&amp;redlink=1" TargetMode="External"/><Relationship Id="rId8" Type="http://schemas.openxmlformats.org/officeDocument/2006/relationships/hyperlink" Target="http://ru.wikipedia.org/wiki/&#1042;&#1086;&#1089;&#1082;&#1088;&#1077;&#1089;&#1077;&#1085;&#1089;&#1082;&#1086;&#1077;_(&#1057;&#1072;&#1088;&#1072;&#1090;&#1086;&#1074;&#1089;&#1082;&#1072;&#1103;_&#1086;&#1073;&#1083;&#1072;&#1089;&#1090;&#1100;)" TargetMode="External"/><Relationship Id="rId9" Type="http://schemas.openxmlformats.org/officeDocument/2006/relationships/hyperlink" Target="http://ru.wikipedia.org/wiki/1780_&#1075;&#1086;&#1076;" TargetMode="External"/><Relationship Id="rId10" Type="http://schemas.openxmlformats.org/officeDocument/2006/relationships/hyperlink" Target="http://ru.wikipedia.org/wiki/&#1042;&#1086;&#1083;&#1100;&#1089;&#1082;&#1080;&#1081;_&#1091;&#1077;&#1079;&#1076;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91;&#1096;&#1080;&#1085;,_&#1055;&#1105;&#1090;&#1088;_&#1044;&#1084;&#1080;&#1090;&#1088;&#1080;&#1077;&#1074;&#1080;&#1095;" TargetMode="External"/><Relationship Id="rId2" Type="http://schemas.openxmlformats.org/officeDocument/2006/relationships/hyperlink" Target="http://ru.wikipedia.org/wiki/&#1044;&#1072;&#1074;&#1072;&#1090;&#1094;,_&#1042;&#1083;&#1072;&#1076;&#1080;&#1084;&#1080;&#1088;_&#1061;&#1088;&#1080;&#1089;&#1090;&#1080;&#1072;&#1085;&#1086;&#1074;&#1080;&#1095;" TargetMode="External"/><Relationship Id="rId3" Type="http://schemas.openxmlformats.org/officeDocument/2006/relationships/hyperlink" Target="http://ru.wikipedia.org/wiki/&#1044;&#1072;&#1074;&#1072;&#1090;&#1094;,_&#1042;&#1083;&#1072;&#1076;&#1080;&#1084;&#1080;&#1088;_&#1061;&#1088;&#1080;&#1089;&#1090;&#1080;&#1072;&#1085;&#1086;&#1074;&#1080;&#1095;" TargetMode="External"/><Relationship Id="rId4" Type="http://schemas.openxmlformats.org/officeDocument/2006/relationships/hyperlink" Target="http://ru.wikipedia.org/wiki/&#1051;&#1077;&#1084;&#1072;&#1085;,_&#1040;&#1083;&#1100;&#1073;&#1077;&#1088;&#1090;_&#1057;&#1077;&#1084;&#1105;&#1085;&#1086;&#1074;&#1080;&#1095;" TargetMode="External"/><Relationship Id="rId5" Type="http://schemas.openxmlformats.org/officeDocument/2006/relationships/hyperlink" Target="http://ru.wikipedia.org/wiki/&#1051;&#1077;&#1084;&#1072;&#1085;,_&#1040;&#1083;&#1100;&#1073;&#1077;&#1088;&#1090;_&#1057;&#1077;&#1084;&#1105;&#1085;&#1086;&#1074;&#1080;&#1095;" TargetMode="External"/><Relationship Id="rId6" Type="http://schemas.openxmlformats.org/officeDocument/2006/relationships/hyperlink" Target="http://ru.wikipedia.org/wiki/&#1051;&#1091;&#1082;&#1080;&#1088;&#1089;&#1082;&#1080;&#1081;,_&#1057;&#1077;&#1088;&#1075;&#1077;&#1081;_&#1043;&#1077;&#1086;&#1088;&#1075;&#1080;&#1077;&#1074;&#1080;&#1095;" TargetMode="External"/><Relationship Id="rId7" Type="http://schemas.openxmlformats.org/officeDocument/2006/relationships/hyperlink" Target="http://ru.wikipedia.org/wiki/&#1051;&#1091;&#1082;&#1080;&#1088;&#1089;&#1082;&#1080;&#1081;,_&#1057;&#1077;&#1088;&#1075;&#1077;&#1081;_&#1043;&#1077;&#1086;&#1088;&#1075;&#1080;&#1077;&#1074;&#1080;&#1095;" TargetMode="External"/><Relationship Id="rId8" Type="http://schemas.openxmlformats.org/officeDocument/2006/relationships/hyperlink" Target="http://ru.wikipedia.org/wiki/&#1056;&#1050;&#1050;&#1040;" TargetMode="External"/><Relationship Id="rId9" Type="http://schemas.openxmlformats.org/officeDocument/2006/relationships/hyperlink" Target="http://ru.wikipedia.org/wiki/&#1052;&#1077;&#1089;&#1103;&#1094;&#1077;&#1074;,_&#1053;&#1080;&#1082;&#1086;&#1083;&#1072;&#1081;_&#1053;&#1080;&#1082;&#1086;&#1083;&#1072;&#1077;&#1074;&#1080;&#1095;" TargetMode="External"/><Relationship Id="rId10" Type="http://schemas.openxmlformats.org/officeDocument/2006/relationships/hyperlink" Target="http://ru.wikipedia.org/wiki/&#1057;&#1077;&#1084;&#1105;&#1085;&#1086;&#1074;,_&#1053;&#1080;&#1082;&#1086;&#1083;&#1072;&#1081;_&#1053;&#1080;&#1082;&#1086;&#1083;&#1072;&#1077;&#1074;&#1080;&#1095;_(&#1091;&#1095;&#1105;&#1085;&#1099;&#1081;)" TargetMode="External"/><Relationship Id="rId11" Type="http://schemas.openxmlformats.org/officeDocument/2006/relationships/hyperlink" Target="http://ru.wikipedia.org/wiki/&#1055;&#1077;&#1090;&#1088;&#1086;&#1074;,_&#1040;&#1083;&#1077;&#1082;&#1089;&#1072;&#1085;&#1076;&#1088;_&#1055;&#1077;&#1090;&#1088;&#1086;&#1074;&#1080;&#1095;_(&#1083;&#1105;&#1090;&#1095;&#1080;&#1082;-&#1080;&#1089;&#1087;&#1099;&#1090;&#1072;&#1090;&#1077;&#1083;&#1100;_I_&#1082;&#1083;&#1072;&#1089;&#1089;&#1072;)" TargetMode="External"/><Relationship Id="rId12" Type="http://schemas.openxmlformats.org/officeDocument/2006/relationships/hyperlink" Target="http://ru.wikipedia.org/wiki/%C2%EE%EB%FC%F1%EA#cite_note-9" TargetMode="External"/><Relationship Id="rId13" Type="http://schemas.openxmlformats.org/officeDocument/2006/relationships/hyperlink" Target="http://ru.wikipedia.org/wiki/&#1040;&#1075;&#1090;&#1077;,_&#1040;&#1085;&#1090;&#1086;&#1085;&#1080;&#1085;_&#1040;&#1087;&#1086;&#1083;&#1083;&#1086;&#1085;&#1086;&#1074;&#1080;&#1095;" TargetMode="External"/><Relationship Id="rId14" Type="http://schemas.openxmlformats.org/officeDocument/2006/relationships/hyperlink" Target="http://ru.wikipedia.org/wiki/&#1040;&#1075;&#1090;&#1077;,_&#1040;&#1085;&#1090;&#1086;&#1085;&#1080;&#1085;_&#1040;&#1087;&#1086;&#1083;&#1083;&#1086;&#1085;&#1086;&#1074;&#1080;&#1095;" TargetMode="External"/><Relationship Id="rId15" Type="http://schemas.openxmlformats.org/officeDocument/2006/relationships/hyperlink" Target="http://ru.wikipedia.org/wiki/&#1057;&#1072;&#1072;&#1082;&#1103;&#1085;,_&#1044;&#1072;&#1074;&#1080;&#1076;_&#1053;&#1072;&#1079;&#1072;&#1088;&#1086;&#1074;&#1080;&#1095;" TargetMode="External"/><Relationship Id="rId16" Type="http://schemas.openxmlformats.org/officeDocument/2006/relationships/hyperlink" Target="http://ru.wikipedia.org/wiki/&#1050;&#1077;&#1088;&#1077;&#1085;&#1089;&#1082;&#1080;&#1081;,_&#1040;&#1083;&#1077;&#1082;&#1089;&#1072;&#1085;&#1076;&#1088;_&#1060;&#1105;&#1076;&#1086;&#1088;&#1086;&#1074;&#1080;&#1095;" TargetMode="External"/><Relationship Id="rId17" Type="http://schemas.openxmlformats.org/officeDocument/2006/relationships/hyperlink" Target="http://ru.wikipedia.org/w/index.php?title=&#1048;&#1074;&#1072;&#1085;&#1086;&#1074;,_&#1070;&#1088;&#1080;&#1081;_&#1042;&#1072;&#1089;&#1080;&#1083;&#1100;&#1077;&#1074;&#1080;&#1095;&amp;action=edit&amp;redlink=1" TargetMode="External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3;&#1080;&#1085;&#1086;&#1074;,_&#1055;&#1072;&#1074;&#1077;&#1083;_&#1060;&#1105;&#1076;&#1086;&#1088;&#1086;&#1074;&#1080;&#1095;" TargetMode="External"/><Relationship Id="rId2" Type="http://schemas.openxmlformats.org/officeDocument/2006/relationships/hyperlink" Target="http://ru.wikipedia.org/wiki/&#1058;&#1072;&#1083;&#1072;&#1083;&#1080;&#1093;&#1080;&#1085;,_&#1042;&#1080;&#1082;&#1090;&#1086;&#1088;_&#1042;&#1072;&#1089;&#1080;&#1083;&#1100;&#1077;&#1074;&#1080;&#1095;" TargetMode="External"/><Relationship Id="rId3" Type="http://schemas.openxmlformats.org/officeDocument/2006/relationships/hyperlink" Target="http://ru.wikipedia.org/wiki/&#1050;&#1083;&#1086;&#1095;&#1082;&#1086;&#1074;,_&#1042;&#1072;&#1089;&#1080;&#1083;&#1080;&#1081;_&#1043;&#1077;&#1086;&#1088;&#1075;&#1080;&#1077;&#1074;&#1080;&#1095;" TargetMode="External"/><Relationship Id="rId4" Type="http://schemas.openxmlformats.org/officeDocument/2006/relationships/hyperlink" Target="http://ru.wikipedia.org/wiki/&#1047;&#1072;&#1084;&#1095;&#1072;&#1083;&#1086;&#1074;,_&#1055;&#1077;&#1090;&#1088;_&#1048;&#1074;&#1072;&#1085;&#1086;&#1074;&#1080;&#1095;" TargetMode="External"/><Relationship Id="rId5" Type="http://schemas.openxmlformats.org/officeDocument/2006/relationships/hyperlink" Target="http://ru.wikipedia.org/wiki/&#1047;&#1072;&#1084;&#1095;&#1072;&#1083;&#1086;&#1074;,_&#1055;&#1077;&#1090;&#1088;_&#1048;&#1074;&#1072;&#1085;&#1086;&#1074;&#1080;&#1095;" TargetMode="External"/><Relationship Id="rId6" Type="http://schemas.openxmlformats.org/officeDocument/2006/relationships/hyperlink" Target="http://ru.wikipedia.org/wiki/&#1052;&#1091;&#1089;&#1090;&#1072;&#1092;&#1080;&#1085;,_&#1052;&#1080;&#1093;&#1072;&#1080;&#1083;_&#1040;&#1085;&#1076;&#1088;&#1077;&#1077;&#1074;&#1080;&#1095;" TargetMode="External"/><Relationship Id="rId7" Type="http://schemas.openxmlformats.org/officeDocument/2006/relationships/hyperlink" Target="http://ru.wikipedia.org/wiki/&#1045;&#1075;&#1086;&#1088;&#1086;&#1074;,_&#1057;&#1077;&#1088;&#1075;&#1077;&#1081;_&#1042;&#1083;&#1072;&#1076;&#1080;&#1084;&#1080;&#1088;&#1086;&#1074;&#1080;&#1095;_(&#1043;&#1077;&#1088;&#1086;&#1081;_&#1057;&#1086;&#1074;&#1077;&#1090;&#1089;&#1082;&#1086;&#1075;&#1086;_&#1057;&#1086;&#1102;&#1079;&#1072;)" TargetMode="External"/><Relationship Id="rId8" Type="http://schemas.openxmlformats.org/officeDocument/2006/relationships/hyperlink" Target="http://ru.wikipedia.org/w/index.php?title=&#1061;&#1072;&#1083;&#1100;&#1079;&#1086;&#1074;,_&#1042;&#1080;&#1082;&#1090;&#1086;&#1088;_&#1057;&#1090;&#1077;&#1087;&#1072;&#1085;&#1086;&#1074;&#1080;&#1095;&amp;action=edit&amp;redlink=1" TargetMode="External"/><Relationship Id="rId9" Type="http://schemas.openxmlformats.org/officeDocument/2006/relationships/hyperlink" Target="http://ru.wikipedia.org/w/index.php?title=&#1061;&#1072;&#1083;&#1100;&#1079;&#1086;&#1074;,_&#1042;&#1080;&#1082;&#1090;&#1086;&#1088;_&#1057;&#1090;&#1077;&#1087;&#1072;&#1085;&#1086;&#1074;&#1080;&#1095;&amp;action=edit&amp;redlink=1" TargetMode="External"/><Relationship Id="rId10" Type="http://schemas.openxmlformats.org/officeDocument/2006/relationships/hyperlink" Target="http://ru.wikipedia.org/w/index.php?title=&#1064;&#1080;&#1096;&#1082;&#1080;&#1085;,_&#1071;&#1082;&#1086;&#1074;_&#1042;&#1072;&#1089;&#1080;&#1083;&#1100;&#1077;&#1074;&#1080;&#1095;&amp;action=edit&amp;redlink=1" TargetMode="External"/><Relationship Id="rId11" Type="http://schemas.openxmlformats.org/officeDocument/2006/relationships/hyperlink" Target="http://ru.wikipedia.org/wiki/&#1041;&#1086;&#1075;&#1072;&#1090;&#1086;&#1074;,_&#1055;&#1072;&#1074;&#1077;&#1083;_&#1052;&#1080;&#1093;&#1072;&#1081;&#1083;&#1086;&#1074;&#1080;&#1095;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8;&#1072;&#1084;" TargetMode="External"/><Relationship Id="rId2" Type="http://schemas.openxmlformats.org/officeDocument/2006/relationships/hyperlink" Target="http://ru.wikipedia.org/wiki/&#1045;&#1083;&#1077;&#1094;" TargetMode="External"/><Relationship Id="rId3" Type="http://schemas.openxmlformats.org/officeDocument/2006/relationships/hyperlink" Target="http://ru.wikipedia.org/wiki/&#1042;&#1077;&#1083;&#1080;&#1082;&#1080;&#1081;_&#1059;&#1089;&#1090;&#1102;&#1075;" TargetMode="External"/><Relationship Id="rId4" Type="http://schemas.openxmlformats.org/officeDocument/2006/relationships/hyperlink" Target="http://ru.wikipedia.org/wiki/&#1050;&#1083;&#1072;&#1089;&#1089;&#1080;&#1094;&#1080;&#1079;&#1084;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1;&#1089;&#1089;&#1082;&#1080;&#1081;_&#1082;&#1083;&#1072;&#1089;&#1089;&#1080;&#1094;&#1080;&#1079;&#1084;" TargetMode="External"/><Relationship Id="rId2" Type="http://schemas.openxmlformats.org/officeDocument/2006/relationships/hyperlink" Target="http://ru.wikipedia.org/wiki/&#1050;&#1086;&#1083;&#1086;&#1085;&#1085;&#1072;&#1076;&#1072;" TargetMode="External"/><Relationship Id="rId3" Type="http://schemas.openxmlformats.org/officeDocument/2006/relationships/hyperlink" Target="http://ru.wikipedia.org/wiki/&#1050;&#1086;&#1088;&#1080;&#1085;&#1092;&#1089;&#1082;&#1080;&#1081;_&#1086;&#1088;&#1076;&#1077;&#1088;" TargetMode="External"/><Relationship Id="rId4" Type="http://schemas.openxmlformats.org/officeDocument/2006/relationships/hyperlink" Target="http://ru.wikipedia.org/wiki/&#1050;&#1086;&#1088;&#1080;&#1085;&#1092;&#1089;&#1082;&#1080;&#1081;_&#1086;&#1088;&#1076;&#1077;&#1088;" TargetMode="External"/><Relationship Id="rId5" Type="http://schemas.openxmlformats.org/officeDocument/2006/relationships/hyperlink" Target="http://ru.wikipedia.org/wiki/&#1055;&#1086;&#1074;&#1086;&#1083;&#1078;&#1100;&#1077;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0112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МОУ «Средняя общеобразовательная школа №5    г. Вольска Саратовской области»</a:t>
            </a:r>
            <a:r>
              <a:rPr b="0" lang="en-US" sz="6000" spc="-1" strike="noStrike">
                <a:solidFill>
                  <a:srgbClr val="99ff99"/>
                </a:solidFill>
                <a:latin typeface="Arial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Вольск городок –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Петербурга уголок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56000" y="4437000"/>
            <a:ext cx="640080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проекта: ученик 4 класса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едосеев Ив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ководитель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липпова Светлана Серг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Arial"/>
              </a:rPr>
              <a:t>Вольский драматический теат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58920" y="151128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льское музыкальное училищ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675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оя родная школа №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978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оциальная значимость моего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 люблю свой родной горо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уюсь его красивыми зданиями, парками и скверами, золотыми куполами церквей и соборов. Наш город прекрасен в любое время года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 горжусь, что живу в городе, в котором родились герои Советского Союз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 хочу, чтобы мои одноклассники и ребята моей школы полюбили этот город так, как люблю его я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пользуемые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ru.wikipedia.or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Volsk-Life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volsk-blago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saratovregion.ucoz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›region/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volski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/volsk.htm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Arial"/>
              </a:rPr>
              <a:t>История образования города Вольс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026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льск основан на берегу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олг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на месте впадения в неё реки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Малык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ервое упоминание о слободе Малыковской датируется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1699 год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XVII ве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царь жалует на земли на берегах Волги крупным феодалам — монастырям, которые переводят сюда из своих вотчин крестьян и основывают сёла Малыковка,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Сосновый Остр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ыне город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Хвалынс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Тер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Воскресенск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сновным видом деятельности был промысел рыбы, которую отправляли в монастыри. Чуть позже Малыковка становится военно-опорным пунктом, задача которого охранять торговые суда, плывущие по Волге от калмыков, ногаев, крым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1780 год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лобода получила статус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уездного гор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лгс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затем название преобразовалось в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ьс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Люди, связанные с Вольск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П. Д. Груш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дважды Герой Социалистического Труда, академик, создатель зенитных управляемых рак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В. Х. 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Дават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русский военно-общественный деятель, журналист, профессор-матема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А. С. 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Ле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советский и российский компози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С. Г. 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Лукирск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русский генерал (1917), служил в 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РК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Н. Н. Месяце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советский общественный деятель, председатель Гостелерадио, посол СССР в Австра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Н. Н. Семён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один из основоположников химической физ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П. А. Петр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Герой Российской Федерации, заслуженный военный лётчик РФ, военный лётчик 1-го класса, лётчик-испытатель 1-го класса, военный лётчик-снайпер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[9]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А. А. 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Агт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русский военный деятель, генерал-май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Д. Н. Саакя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советский учёный-механиза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А. Ф. Керенск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председатель Временного Правительства России в 1917 г. был избран в Госдуму от города Воль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Ю. В. Иван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начальник разведывательного управления ВМФ СССР (с 1965 по 1979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ерои Советского Союза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одом из Вольс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е 50 героев Советского Союза были уроженцами Вольска и Вольского района или ушли на фронт по призыву Вольского военкома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П. Ф. Блин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лётчик, Герой Советского Сою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В. В. Талалих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лётчик, Герой Советского Сою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В. Г. Клоч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младший политрук, Герой Советского Сою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П. И.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Замчал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Герой Советского Союза, гвардии майор, корпусной инженер 9-го гвардейского танкового Уманского Краснознамённого ордена Суворова корпу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М. А. Мустаф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Герой Советского Союза, командир звена 165-го гвардейского штурмового авиационного Краснознамённого полка, гвардии старший лейтена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С. В. Егор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Герой Советского Союза, командир понтонной роты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В. С.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Хальз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Герой Советского Союза, летчик-штурмов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Я. В. Шишк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Герой Советского Союза, летчик-истребитель, гвардии полк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П. М. Бога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лейтенант Рабоче-крестьянской Красной Армии, участник советско-финской и Великой Отечественной войн, Герой Советского Сою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.К. Лазарев — герой Советского Союза, механик-водитель танка 6-й танковой бриг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оборы и церкви Вольс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бая страница истории Вольска —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храмовое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 строительство. Наподобие торговых городов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Ельц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 и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Великого Устюг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в старину панорама Вольска с реки также обогащалась великолепием многих храмовых силуэтов. Первый каменный собор Иоанна Предтечи, выстроенный в 1740-х годах, сто лет спустя был заменен новым собором, выстроенном в стиле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классицизм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Arial"/>
              </a:rPr>
              <a:t>Достопримечательности </a:t>
            </a:r>
            <a:br>
              <a:rPr sz="4000"/>
            </a:br>
            <a:r>
              <a:rPr b="0" lang="en-US" sz="4000" spc="-1" strike="noStrike">
                <a:solidFill>
                  <a:srgbClr val="99ff99"/>
                </a:solidFill>
                <a:latin typeface="Arial"/>
              </a:rPr>
              <a:t>города Вольс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76720" y="162864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знаменитый памятник деятельности В. А. Злобина в Вольске — уникальный по архитектуре (</a:t>
            </a:r>
            <a:r>
              <a:rPr b="0" lang="ru-RU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русский классициз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двухэтажный Гостиный ряд (двор), выходящий главным фасадом на Торговую площадь. Его парадная </a:t>
            </a:r>
            <a:r>
              <a:rPr b="0" lang="ru-RU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колонна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в проекте</a:t>
            </a:r>
            <a:r>
              <a:rPr b="0" lang="ru-RU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коринфского</a:t>
            </a:r>
            <a:r>
              <a:rPr b="0" lang="ru-RU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 орде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протянулась на целый квартал. Ни один уездный город </a:t>
            </a:r>
            <a:r>
              <a:rPr b="0" lang="ru-RU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Поволжь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не имел торгового здания с галереей во втором этаж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395280" y="2205000"/>
            <a:ext cx="43927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ощадь 10-летия Октябр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084280"/>
            <a:ext cx="44020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роицкий собо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 в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0" y="1341000"/>
            <a:ext cx="39704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роицкий соб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1 в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990960" cy="4762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211640" y="3165480"/>
            <a:ext cx="4932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лаговещенский хр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6:17:40Z</dcterms:created>
  <dc:creator>Семья</dc:creator>
  <dc:description/>
  <dc:language>en-US</dc:language>
  <cp:lastModifiedBy>Семья</cp:lastModifiedBy>
  <dcterms:modified xsi:type="dcterms:W3CDTF">2013-09-26T17:48:44Z</dcterms:modified>
  <cp:revision>2</cp:revision>
  <dc:subject/>
  <dc:title>«С днём рождения, любимый город!»</dc:title>
</cp:coreProperties>
</file>