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547-9236-4789-B3D1-B3AC8C15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88C-1F5A-4094-BC00-A96A06A0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7C7-66F7-4B02-AE8B-CCB8F13D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56A-6E51-4A33-8626-7CC1E4D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893-AE4A-43BF-A3C7-F2306AE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0C7-DA76-40DD-86CA-B11E91B4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2A8C-C54E-484B-935A-CF4C4C6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DAF9-64D0-4FCB-B9D8-F627F26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2584-E8D7-4D89-9FC6-F1D51CA2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984-218F-421C-8748-F478FF32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96E-0923-45C2-ABA4-6D8C212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A76-4BFC-4AFF-9420-5378175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FC6-CDE6-455F-B867-E3A9F684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38AD-0E1F-42A4-BEC0-8CF1B62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B9E-FC2E-4FDE-8A66-D25ECA6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A0A6-5D79-4B47-A6E2-80568BF9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01B5-3A12-4061-9152-0970E2D4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0EB-A390-4B7D-BB62-C351E70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F9F-AC26-4B98-8F9D-2CCE01A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685-CD23-40BE-ABAF-6560180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9DB-7C6E-4E6C-8443-CF130DA7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1F1-F3DC-4A54-95EE-673756D7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766-4D6C-41FE-88BC-457BC37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D01-F922-4436-94CE-6152CCD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0233-69F2-46BC-A3AC-41670075E9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8CE2-1553-4103-BAF5-EE5E3C0F802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811440"/>
            <a:ext cx="728676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4716360" y="0"/>
            <a:ext cx="302436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</a:rPr>
              <a:t>Основан первый русский орден Святого апостола Андрея Первозванного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55" name="Picture 6" descr="орден"/>
          <p:cNvPicPr/>
          <p:nvPr/>
        </p:nvPicPr>
        <p:blipFill>
          <a:blip r:embed="rId1"/>
          <a:stretch/>
        </p:blipFill>
        <p:spPr>
          <a:xfrm>
            <a:off x="0" y="1268280"/>
            <a:ext cx="4248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68691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Осуществлена реформа календаря. Начало Нового года с 1 января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vedomost"/>
          <p:cNvPicPr/>
          <p:nvPr/>
        </p:nvPicPr>
        <p:blipFill>
          <a:blip r:embed="rId1"/>
          <a:stretch/>
        </p:blipFill>
        <p:spPr>
          <a:xfrm>
            <a:off x="1692360" y="333360"/>
            <a:ext cx="4500360" cy="4537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69584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048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264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42920" y="4941720"/>
            <a:ext cx="605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</a:rPr>
              <a:t>Начата печать первой русской газеты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http://www.hermitagemuseum.org/iedu_Ru/zd/graphics/Zdz11032.jpg"/>
          <p:cNvPicPr/>
          <p:nvPr/>
        </p:nvPicPr>
        <p:blipFill>
          <a:blip r:embed="rId1"/>
          <a:stretch/>
        </p:blipFill>
        <p:spPr>
          <a:xfrm>
            <a:off x="0" y="1589040"/>
            <a:ext cx="3851280" cy="3322800"/>
          </a:xfrm>
          <a:prstGeom prst="rect">
            <a:avLst/>
          </a:prstGeom>
          <a:ln w="9360">
            <a:solidFill>
              <a:srgbClr val="c16059"/>
            </a:solidFill>
            <a:miter/>
          </a:ln>
        </p:spPr>
      </p:pic>
      <p:sp>
        <p:nvSpPr>
          <p:cNvPr id="163" name="Rectangle 6"/>
          <p:cNvSpPr/>
          <p:nvPr/>
        </p:nvSpPr>
        <p:spPr>
          <a:xfrm>
            <a:off x="3995640" y="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динальные реформы были проведены Петром I в области культуры и просвещения. Открылся первый русский музей – Кунсткамера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Рисунок4"/>
          <p:cNvPicPr/>
          <p:nvPr/>
        </p:nvPicPr>
        <p:blipFill>
          <a:blip r:embed="rId1"/>
          <a:stretch/>
        </p:blipFill>
        <p:spPr>
          <a:xfrm>
            <a:off x="0" y="1844640"/>
            <a:ext cx="4067280" cy="3400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211640" y="260280"/>
            <a:ext cx="345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16 мая 1703 года на одном из островов в устье Невы по распоряжению Петра I начали строительство Петропавловской крепости. Крепость положила начало новому городу, названному Петром в честь Святого, своего покровителя, Санкт-Петербургом. В 1712 году Петербург стал официальной столицей Российского государства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250920" y="335772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508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Создаются новые государственные учреждения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Сенат, коллегия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8" name="Picture 10" descr="сенат"/>
          <p:cNvPicPr/>
          <p:nvPr/>
        </p:nvPicPr>
        <p:blipFill>
          <a:blip r:embed="rId1"/>
          <a:stretch/>
        </p:blipFill>
        <p:spPr>
          <a:xfrm>
            <a:off x="0" y="0"/>
            <a:ext cx="76676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250920" y="333360"/>
            <a:ext cx="748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Основана Академия наук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Открываются новые школы: навигацкие, артиллерийские, инженерные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Открываются горные училища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Times New Roman"/>
              </a:rPr>
              <a:t>Появились новые учебники «Арифметика», «Грамматика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1" descr="kostum"/>
          <p:cNvPicPr/>
          <p:nvPr/>
        </p:nvPicPr>
        <p:blipFill>
          <a:blip r:embed="rId1"/>
          <a:stretch/>
        </p:blipFill>
        <p:spPr>
          <a:xfrm>
            <a:off x="1619280" y="333360"/>
            <a:ext cx="4572000" cy="3211560"/>
          </a:xfrm>
          <a:prstGeom prst="rect">
            <a:avLst/>
          </a:prstGeom>
          <a:ln w="9360">
            <a:solidFill>
              <a:srgbClr val="c16059"/>
            </a:solidFill>
            <a:miter/>
          </a:ln>
        </p:spPr>
      </p:pic>
      <p:sp>
        <p:nvSpPr>
          <p:cNvPr id="171" name="Text Box 6"/>
          <p:cNvSpPr/>
          <p:nvPr/>
        </p:nvSpPr>
        <p:spPr>
          <a:xfrm>
            <a:off x="2031840" y="488952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3573360"/>
            <a:ext cx="766764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</a:rPr>
              <a:t>В приказном порядке была введена европейская одежда, обязательное ношение мундиров для военных и гражданских чиновников.</a:t>
            </a:r>
            <a:r>
              <a:rPr b="1" lang="ru-RU" sz="44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boroda"/>
          <p:cNvPicPr/>
          <p:nvPr/>
        </p:nvPicPr>
        <p:blipFill>
          <a:blip r:embed="rId1"/>
          <a:stretch/>
        </p:blipFill>
        <p:spPr>
          <a:xfrm>
            <a:off x="0" y="1125360"/>
            <a:ext cx="3887640" cy="4465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067280" y="1159920"/>
            <a:ext cx="367344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Приказ царя: брить бороды всем мужчинам, кроме крестьян и духовенства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55640" y="226800"/>
            <a:ext cx="352908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Императору в значительной мере удалось решить большинство задач, которые стояли перед страной 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76" name="Picture 5" descr="петр1-2"/>
          <p:cNvPicPr/>
          <p:nvPr/>
        </p:nvPicPr>
        <p:blipFill>
          <a:blip r:embed="rId1"/>
          <a:stretch/>
        </p:blipFill>
        <p:spPr>
          <a:xfrm>
            <a:off x="0" y="692280"/>
            <a:ext cx="420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69660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Times New Roman"/>
              </a:rPr>
              <a:t>Российская </a:t>
            </a:r>
            <a:br>
              <a:rPr sz="8800"/>
            </a:br>
            <a:r>
              <a:rPr b="0" lang="ru-RU" sz="8800" spc="-1" strike="noStrike">
                <a:solidFill>
                  <a:srgbClr val="800000"/>
                </a:solidFill>
                <a:latin typeface="Times New Roman"/>
              </a:rPr>
              <a:t>империя</a:t>
            </a:r>
            <a:br>
              <a:rPr sz="8800"/>
            </a:b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урок истории</a:t>
            </a:r>
            <a:br>
              <a:rPr sz="28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727280" y="4429080"/>
            <a:ext cx="5640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езентацию приготовила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МБОУ СОШ №1 г. Оханска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яткина Л.П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-1405080" y="404640"/>
            <a:ext cx="8929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Россия получила выход к Балтийскому морю, создала регулярную армию и флот, обрела государственное устройство, которое соответствовало европейским образцам, сделала мощный рывок в экономике и культурном развитии, заставила считаться с собой другие европейские страны.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369800"/>
            <a:ext cx="5076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Monotype Corsiva"/>
              </a:rPr>
              <a:t>  </a:t>
            </a: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Петр </a:t>
            </a:r>
            <a:r>
              <a:rPr b="1" lang="en-US" sz="7200" spc="-1" strike="noStrike">
                <a:solidFill>
                  <a:srgbClr val="800000"/>
                </a:solidFill>
                <a:latin typeface="Monotype Corsiva"/>
              </a:rPr>
              <a:t>I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0" y="378936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( 1672 – 1725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.г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2" name="Picture 4" descr="1703_1_r"/>
          <p:cNvPicPr/>
          <p:nvPr/>
        </p:nvPicPr>
        <p:blipFill>
          <a:blip r:embed="rId1"/>
          <a:stretch/>
        </p:blipFill>
        <p:spPr>
          <a:xfrm>
            <a:off x="3564000" y="549360"/>
            <a:ext cx="391464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3924360" y="260280"/>
            <a:ext cx="4103640" cy="72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ий царь с 1682 года и </a:t>
            </a:r>
            <a:r>
              <a:rPr b="1" i="1" lang="ru-RU" sz="4000" spc="-1" strike="noStrike">
                <a:solidFill>
                  <a:srgbClr val="2f1311"/>
                </a:solidFill>
                <a:latin typeface="Times New Roman"/>
              </a:rPr>
              <a:t>первый российский император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с 1721 года. Великий государственный, военный и культурный деятель России, вошел в историю как государственный </a:t>
            </a:r>
            <a:r>
              <a:rPr b="1" i="1" lang="ru-RU" sz="4000" spc="-1" strike="noStrike">
                <a:solidFill>
                  <a:srgbClr val="2f1311"/>
                </a:solidFill>
                <a:latin typeface="Times New Roman"/>
              </a:rPr>
              <a:t>реформатор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4" name="Picture 7" descr="петр1-3"/>
          <p:cNvPicPr/>
          <p:nvPr/>
        </p:nvPicPr>
        <p:blipFill>
          <a:blip r:embed="rId1"/>
          <a:stretch/>
        </p:blipFill>
        <p:spPr>
          <a:xfrm>
            <a:off x="0" y="765000"/>
            <a:ext cx="37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Романов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5916600"/>
            <a:ext cx="8771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пётр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4284720" y="5084640"/>
            <a:ext cx="48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Романов"/>
          <p:cNvPicPr/>
          <p:nvPr/>
        </p:nvPicPr>
        <p:blipFill>
          <a:blip r:embed="rId1"/>
          <a:stretch/>
        </p:blipFill>
        <p:spPr>
          <a:xfrm>
            <a:off x="0" y="0"/>
            <a:ext cx="6804000" cy="4286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пётр1"/>
          <p:cNvPicPr/>
          <p:nvPr/>
        </p:nvPicPr>
        <p:blipFill>
          <a:blip r:embed="rId2"/>
          <a:stretch/>
        </p:blipFill>
        <p:spPr>
          <a:xfrm>
            <a:off x="3419640" y="229392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8120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Во время  правления </a:t>
            </a:r>
            <a:br>
              <a:rPr sz="4400"/>
            </a:b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Петра I </a:t>
            </a:r>
            <a:br>
              <a:rPr sz="4400"/>
            </a:b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произошли события, решительно повлиявшие</a:t>
            </a:r>
            <a:br>
              <a:rPr sz="4400"/>
            </a:b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 на становление царя - реформатора. 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voronez"/>
          <p:cNvPicPr/>
          <p:nvPr/>
        </p:nvPicPr>
        <p:blipFill>
          <a:blip r:embed="rId1"/>
          <a:stretch/>
        </p:blipFill>
        <p:spPr>
          <a:xfrm>
            <a:off x="1258920" y="260280"/>
            <a:ext cx="5256360" cy="3943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900000" y="40766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Создание российского флота. Выход в Балтийское море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Появление регулярной (постоянной) арм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0:48:01Z</dcterms:created>
  <dc:creator>Ольга Викоровна</dc:creator>
  <dc:description/>
  <dc:language>en-US</dc:language>
  <cp:lastModifiedBy>User</cp:lastModifiedBy>
  <dcterms:modified xsi:type="dcterms:W3CDTF">2013-09-23T17:50:56Z</dcterms:modified>
  <cp:revision>20</cp:revision>
  <dc:subject/>
  <dc:title>Петр I</dc:title>
</cp:coreProperties>
</file>