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1BD1-A6B5-4730-AB20-7AF5CF39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C1A3-3BCF-4262-9310-E295B838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034E-9481-4A19-A929-B8C10C41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0F1A-2F5F-43A0-B877-C2BAA7B2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1035-85B0-4D38-B8CF-DE0FCFAD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FBBE-72DE-451E-9950-44F8FFB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F237-15E0-4CE7-9884-8ED5B078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D06A-5599-4658-A8FE-B4601D9A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3F55-6687-4759-AA2E-9DB2F84E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84B9-09E0-414E-9CF2-C369002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2632-5F12-45D4-9C80-DEFF7DD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5AD3-A3DF-45ED-AF05-679D96E8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308-8525-4BC5-A92E-FC0F283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73CF-A175-4623-BC03-6824F22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28B-C5D6-40C0-9229-AAC7C6DC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0905-3BA2-420C-853B-1C674698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8840-3B6A-4899-89E5-E7C5CBB9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1575-F61E-422C-9F26-4EC5367F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CBD9-57C8-4621-ABE4-7BA0B013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D97F-05F1-46D9-8D3F-27A7EA9E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074A-CAE1-4F21-BBDC-5DAF2BB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14E9-A058-4349-9B5A-AD5FDC4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0108-6B37-4EC2-A019-D1D4B1E0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85C1-AACC-4C6E-B67B-A976C4AA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0768-8A1C-41AC-9761-A9BD736D3E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840" cy="4571280"/>
            <a:chOff x="91512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8600" y="1219320"/>
              <a:ext cx="864720" cy="4546800"/>
              <a:chOff x="1128600" y="1219320"/>
              <a:chExt cx="864720" cy="45468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8600" y="122760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8680" y="1219320"/>
                <a:ext cx="0" cy="45216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4960" y="124272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3320" y="124272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6760"/>
              <a:ext cx="7314840" cy="4094640"/>
              <a:chOff x="915120" y="1436760"/>
              <a:chExt cx="731484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6760"/>
                <a:ext cx="7294680" cy="820440"/>
                <a:chOff x="915120" y="1436760"/>
                <a:chExt cx="729468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6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1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32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560" y="2521080"/>
                <a:ext cx="7295400" cy="820080"/>
                <a:chOff x="934560" y="2521080"/>
                <a:chExt cx="7295400" cy="82008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560" y="25210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8000" y="279576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8400" y="306612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160" y="334116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6640"/>
                <a:ext cx="7294680" cy="820440"/>
                <a:chOff x="915120" y="3626640"/>
                <a:chExt cx="72946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66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06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0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0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560" y="4710960"/>
                <a:ext cx="7295400" cy="820440"/>
                <a:chOff x="934560" y="4710960"/>
                <a:chExt cx="7295400" cy="8204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560" y="471096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8000" y="498564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8400" y="525672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160" y="55314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8240" y="1243080"/>
              <a:ext cx="864720" cy="4547520"/>
              <a:chOff x="2298240" y="1243080"/>
              <a:chExt cx="86472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82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83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46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629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4440" y="1243080"/>
              <a:ext cx="864720" cy="4547520"/>
              <a:chOff x="3484440" y="1243080"/>
              <a:chExt cx="86472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44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627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608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9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70640" y="1243080"/>
              <a:ext cx="864720" cy="4547520"/>
              <a:chOff x="4670640" y="1243080"/>
              <a:chExt cx="86472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70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89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5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53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6080" y="1243080"/>
              <a:ext cx="864720" cy="4547520"/>
              <a:chOff x="5806080" y="1243080"/>
              <a:chExt cx="8647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6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32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1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708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7800" y="1243080"/>
              <a:ext cx="864720" cy="4547520"/>
              <a:chOff x="6967800" y="1243080"/>
              <a:chExt cx="86472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7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60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2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25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1EE-3F7C-4042-9406-AC48ED8138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«Формирование положительной самооценки подростка – важная составляющая семейного воспитания»</a:t>
            </a:r>
            <a:br>
              <a:rPr sz="1200"/>
            </a:br>
            <a:br>
              <a:rPr sz="1200"/>
            </a:br>
            <a:r>
              <a:rPr b="1" i="1" lang="ru-RU" sz="1400" spc="-1" strike="noStrike">
                <a:solidFill>
                  <a:srgbClr val="00b050"/>
                </a:solidFill>
                <a:latin typeface="Cambria"/>
              </a:rPr>
              <a:t>Михайлова Елена Викторовна</a:t>
            </a:r>
            <a:br>
              <a:rPr sz="1400"/>
            </a:br>
            <a:r>
              <a:rPr b="1" i="1" lang="ru-RU" sz="1400" spc="-1" strike="noStrike">
                <a:solidFill>
                  <a:srgbClr val="00b050"/>
                </a:solidFill>
                <a:latin typeface="Cambria"/>
              </a:rPr>
              <a:t>МОУ СОШ № 1 п. Селижарово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еты родителям, заинтересованным в формировании адекватной самооценки подрост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 оберегайте подростка от повседневных дел, не стремитесь решить за него все проблемы, но и не перегружайте его. Не нужно ставить перед ним непосильные задачи, для выполнения которых он еще просто не до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вляй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енку 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ы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ехваливай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оего сына или дочь, но и н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ывайте поощрять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г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служи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ощряйте в ребе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ти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бывайт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росток внимательно наблюд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ми. Показывайте своим примером адекватность отношения к успехам и неу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равнивайте своего ребенка с другими детьми. Сравнивайте его с самим собой (тем, какой он был вчера или будет завт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бойтесь искренне любить своего ребенка и, главное — показывать ему свою любов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люди, которым всегда везет. А есть неудачники. За что бы они ни брались, все у них валится из рук, всюду они опаздывают, всюду оказываются последними, никогда не выигрывают и во всем всегда оказываются виноваты. Как объяснить причины таких неудач? Психолог сказал бы, что у таких людей занижена само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же такое самооц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амооц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о, как человек оценивает себя, свои возможности, свои поступки. Мы постоянно сравниваем себя с другими и на основе этого сравнения вырабатываем мнение о себе, о своих возможностях и способностях, чертах своего характера и человеческих качествах. Так постепенно складывается наша само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бывают с </a:t>
            </a: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заниженной самооценко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завышенной самооценк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сли самооценка занижена – это приводит человека к неуверенности в себе, робости и отсутствию дерзаний, невозможности реализовать свои способности. Такая оценка проявляется в высказываниях вида: «У меня это никогда не получится», «Я это не смогу выучить», «Я не виноват, что…»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ышенная самооценка тоже не украшает человека, такие люди самоуверенны, часто переоценивают свои силы. Он идет на игнорирование неудач ради сохранения привычной высокой оценки самого себя, своих поступков и дел. Справедливые замечания воспринимаются такими людьми как придирка, а объективная оценка результатов работы – как несправедливо заниженная. Неуспех предстает как следствие чьих-то козней или неблагоприятно сложившихся обстоятельств, ни в коей мере не зависящих от действий сам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возникает вопрос. Какой же должна быть самооценка человека?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Реальной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должен оценивать себя реально, то есть таким, каков он есть на самом деле. В этом случае говорят, что у него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адекватная 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Адекватная  - значит соответствующая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остку необходимо иметь положительное представление о себе, что является непременным условием счастья, способности к адаптации в изменяющихся социальных условиях. Если у ребенка отрицательная самооценка, то он способен находить чуть ли не в каждом деле непреодолимые препятствия. Ситуация экзамена для таких подростков оказывается просто катастрофиче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важна роль семьи в формировании положительной самооценки учащегося. В ученическом коллективе, а особенно в семейном обществе, каждый подросток должен стоять в центре внимания, тогда он будет иметь адекватную самооцен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адекватной самооценки в значительной степени зависит от справедливой оценки всех этих людей. Особенно важно помочь поверить в себя, в свои возможности, в свою ценность. В этом, уважаемые родители, главная роль – ваша. Вам ребенок доверяет свои секреты, делится своими успехами и неудачами. Вы должны поддержать его, формируя у него адекватную положительную самооцен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Елена</cp:lastModifiedBy>
  <dcterms:modified xsi:type="dcterms:W3CDTF">2013-09-25T20:17:59Z</dcterms:modified>
  <cp:revision>5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