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B44B6-E72E-448A-8C01-41A1A20CE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604E-3E29-4747-B27B-4C4D0F37A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819A3-122C-4E6F-BC32-5A09AB7F8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532E6-623D-4B35-90CF-08A3BC16E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322B6-9C33-4C72-BC13-598550FB6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3153-B502-402A-B352-225BB521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61AA-34EC-4D55-96E6-CA83CD5B9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0D4E-DAE1-498A-B7B2-109A32571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872A-7A62-4545-A780-A546CBDD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17DC-A733-4034-BBB5-92764D15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8364-7240-4B61-B2FB-75BB1D12E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BBF77-823B-4C84-8E6D-E150CD2E9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13A5-FD87-422A-9F26-7DFB2E658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2028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ценки развития России в начале </a:t>
            </a:r>
            <a:r>
              <a:rPr b="0" lang="en-US" sz="3200" spc="-1" strike="noStrike">
                <a:solidFill>
                  <a:srgbClr val="000000"/>
                </a:solidFill>
                <a:latin typeface="Times New Roman"/>
              </a:rPr>
              <a:t>XX </a:t>
            </a:r>
            <a:r>
              <a:rPr b="0" lang="ru-RU" sz="3200" spc="-1" strike="noStrike">
                <a:solidFill>
                  <a:srgbClr val="000000"/>
                </a:solidFill>
                <a:latin typeface="Times New Roman"/>
              </a:rPr>
              <a:t>века</a:t>
            </a:r>
            <a:endParaRPr b="0" lang="en-US" sz="3200" spc="-1" strike="noStrike">
              <a:solidFill>
                <a:srgbClr val="000000"/>
              </a:solidFill>
              <a:latin typeface="Times New Roman"/>
            </a:endParaRPr>
          </a:p>
        </p:txBody>
      </p:sp>
      <p:sp>
        <p:nvSpPr>
          <p:cNvPr id="42" name="PlaceHolder 2"/>
          <p:cNvSpPr>
            <a:spLocks noGrp="1"/>
          </p:cNvSpPr>
          <p:nvPr>
            <p:ph/>
          </p:nvPr>
        </p:nvSpPr>
        <p:spPr>
          <a:xfrm>
            <a:off x="250560" y="1981080"/>
            <a:ext cx="3313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звание теории:</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Материалистическое направление (М.П. Ким, Ю.С. Кукушкин и др.)</a:t>
            </a:r>
            <a:endParaRPr b="0" lang="en-US" sz="2000" spc="-1" strike="noStrike">
              <a:solidFill>
                <a:srgbClr val="000000"/>
              </a:solidFill>
              <a:latin typeface="Times New Roman"/>
            </a:endParaRPr>
          </a:p>
        </p:txBody>
      </p:sp>
      <p:sp>
        <p:nvSpPr>
          <p:cNvPr id="43" name="PlaceHolder 3"/>
          <p:cNvSpPr>
            <a:spLocks noGrp="1"/>
          </p:cNvSpPr>
          <p:nvPr>
            <p:ph/>
          </p:nvPr>
        </p:nvSpPr>
        <p:spPr>
          <a:xfrm>
            <a:off x="3348000" y="1981080"/>
            <a:ext cx="561672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Интерпретации факта в различных теориях:</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олитический строй - самодержавие. Россия - тюрьма народов. Сплошная безграмотность населения (до 80%). Среди стран Европы самый высокий уровень эксплуатации трудящихся. В экономике аграрный сектор составляет 80%. Доля России в мировом промышленном производстве 4% (США – 34%) и имеет тенденцию к снижению. В стране обострены до предела все проблемы: политические, экономические, социальные, национальные и др. Россия находилась накануне революц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920" y="304920"/>
            <a:ext cx="2520720" cy="579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64" name="PlaceHolder 2"/>
          <p:cNvSpPr>
            <a:spLocks noGrp="1"/>
          </p:cNvSpPr>
          <p:nvPr>
            <p:ph/>
          </p:nvPr>
        </p:nvSpPr>
        <p:spPr>
          <a:xfrm>
            <a:off x="2895120" y="304920"/>
            <a:ext cx="6248520" cy="579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Владение частной собственностью – неотъемлемое право личности, условие самореализации ее возможности и свобод. Непримиримого противоречия между имущими и не имущими нет. Задача государства сблизить интересы и жизненный уровень всех слоев населения, достигнуть общественной гармонии. Диктатура – слово «кровавое», а государство диктатуры пролетариата – это открытое государственное насилие одной части общества над другим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88640"/>
            <a:ext cx="7772400" cy="6094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чины гражданской войны в России</a:t>
            </a:r>
            <a:endParaRPr b="0" lang="en-US" sz="3200" spc="-1" strike="noStrike">
              <a:solidFill>
                <a:srgbClr val="000000"/>
              </a:solidFill>
              <a:latin typeface="Times New Roman"/>
            </a:endParaRPr>
          </a:p>
        </p:txBody>
      </p:sp>
      <p:sp>
        <p:nvSpPr>
          <p:cNvPr id="66" name="PlaceHolder 2"/>
          <p:cNvSpPr>
            <a:spLocks noGrp="1"/>
          </p:cNvSpPr>
          <p:nvPr>
            <p:ph/>
          </p:nvPr>
        </p:nvSpPr>
        <p:spPr>
          <a:xfrm>
            <a:off x="108000" y="1294920"/>
            <a:ext cx="29512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67" name="PlaceHolder 3"/>
          <p:cNvSpPr>
            <a:spLocks noGrp="1"/>
          </p:cNvSpPr>
          <p:nvPr>
            <p:ph/>
          </p:nvPr>
        </p:nvSpPr>
        <p:spPr>
          <a:xfrm>
            <a:off x="3132000" y="907560"/>
            <a:ext cx="60120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сле Октябрьской социалистической революции Советская власть за несколько месяцев установилась по всей стране, народ приступил к строительству нового общества на социалистических принципах. Создаются новые формы государственной власти всего народа. Мировая буржуазия с целью реставрации капиталистических порядков развязала Гражданскую войну в России. Территория России была поделена между капиталистическими странами, и внутренняя контрреволюция получила политическую, экономическую, военную помощь от мирового капитализм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456840"/>
            <a:ext cx="218304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69" name="PlaceHolder 2"/>
          <p:cNvSpPr>
            <a:spLocks noGrp="1"/>
          </p:cNvSpPr>
          <p:nvPr>
            <p:ph/>
          </p:nvPr>
        </p:nvSpPr>
        <p:spPr>
          <a:xfrm>
            <a:off x="2666520" y="456840"/>
            <a:ext cx="579132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В результате государственного переворота большевики захватили власть, приступили к ликвидации частной собственности и развязали красный террор, который знаменовал начало Гражданской войны в Росси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260280"/>
            <a:ext cx="77724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чины новой экономической политики (НЭП)</a:t>
            </a:r>
            <a:endParaRPr b="0" lang="en-US" sz="2800" spc="-1" strike="noStrike">
              <a:solidFill>
                <a:srgbClr val="000000"/>
              </a:solidFill>
              <a:latin typeface="Times New Roman"/>
            </a:endParaRPr>
          </a:p>
        </p:txBody>
      </p:sp>
      <p:sp>
        <p:nvSpPr>
          <p:cNvPr id="71" name="PlaceHolder 2"/>
          <p:cNvSpPr>
            <a:spLocks noGrp="1"/>
          </p:cNvSpPr>
          <p:nvPr>
            <p:ph/>
          </p:nvPr>
        </p:nvSpPr>
        <p:spPr>
          <a:xfrm>
            <a:off x="107640" y="1219320"/>
            <a:ext cx="287964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72" name="PlaceHolder 3"/>
          <p:cNvSpPr>
            <a:spLocks noGrp="1"/>
          </p:cNvSpPr>
          <p:nvPr>
            <p:ph/>
          </p:nvPr>
        </p:nvSpPr>
        <p:spPr>
          <a:xfrm>
            <a:off x="2700360" y="1196640"/>
            <a:ext cx="622296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ЭП – политика и практика коммунистической партии, рассчитанная на переход от капитализма к социализму. Политическое руководство со стороны коммунистической партии обязательно. Политический строй – диктатура пролетариата. Направлен на вытеснение капиталистических элементов и изменение психологии народа. НЭП исторически закономерен для всех стран мира при переходе от капитализма к социализму. Период НЭПа в СССР 1921-1927 г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08000" y="533160"/>
            <a:ext cx="251928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74" name="PlaceHolder 2"/>
          <p:cNvSpPr>
            <a:spLocks noGrp="1"/>
          </p:cNvSpPr>
          <p:nvPr>
            <p:ph/>
          </p:nvPr>
        </p:nvSpPr>
        <p:spPr>
          <a:xfrm>
            <a:off x="2700000" y="476280"/>
            <a:ext cx="633564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НЭП – чисто российское явление, вызванное кризисом Гражданской войны и военно-коммунистическими заблуждениями большевиков. В условиях политического монополизма большевиков частная собственность была изначально обречена так как правящая партия использовала ортодоксальные идеи бестоварного социализма. Период НЭПа в СССР 1921-1928 г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07640" y="609480"/>
            <a:ext cx="259236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е направление</a:t>
            </a:r>
            <a:endParaRPr b="0" lang="en-US" sz="2400" spc="-1" strike="noStrike">
              <a:solidFill>
                <a:srgbClr val="000000"/>
              </a:solidFill>
              <a:latin typeface="Times New Roman"/>
            </a:endParaRPr>
          </a:p>
        </p:txBody>
      </p:sp>
      <p:sp>
        <p:nvSpPr>
          <p:cNvPr id="76" name="PlaceHolder 2"/>
          <p:cNvSpPr>
            <a:spLocks noGrp="1"/>
          </p:cNvSpPr>
          <p:nvPr>
            <p:ph/>
          </p:nvPr>
        </p:nvSpPr>
        <p:spPr>
          <a:xfrm>
            <a:off x="2700000" y="692280"/>
            <a:ext cx="644364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Период характеризовался колебаниями среди  лидеров РКП(б) по вопросу об отношению к заимствованным с Запада формам промышленного и сельскохозяйственного предпринимательства. В конечном счете, компромиссный вариант был отвергнут. Россия вступила на путь создания государственной экономик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188640"/>
            <a:ext cx="7772400" cy="9903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ценки состояния культуры </a:t>
            </a:r>
            <a:br>
              <a:rPr sz="3200"/>
            </a:br>
            <a:r>
              <a:rPr b="0" lang="ru-RU" sz="3200" spc="-1" strike="noStrike">
                <a:solidFill>
                  <a:srgbClr val="000000"/>
                </a:solidFill>
                <a:latin typeface="Times New Roman"/>
              </a:rPr>
              <a:t>на рубеже 20-х гг. </a:t>
            </a:r>
            <a:r>
              <a:rPr b="0" lang="en-US" sz="3200" spc="-1" strike="noStrike">
                <a:solidFill>
                  <a:srgbClr val="000000"/>
                </a:solidFill>
                <a:latin typeface="Times New Roman"/>
              </a:rPr>
              <a:t>XX</a:t>
            </a:r>
            <a:r>
              <a:rPr b="0" lang="ru-RU" sz="3200" spc="-1" strike="noStrike">
                <a:solidFill>
                  <a:srgbClr val="000000"/>
                </a:solidFill>
                <a:latin typeface="Times New Roman"/>
              </a:rPr>
              <a:t> в.</a:t>
            </a:r>
            <a:endParaRPr b="0" lang="en-US" sz="3200" spc="-1" strike="noStrike">
              <a:solidFill>
                <a:srgbClr val="000000"/>
              </a:solidFill>
              <a:latin typeface="Times New Roman"/>
            </a:endParaRPr>
          </a:p>
        </p:txBody>
      </p:sp>
      <p:sp>
        <p:nvSpPr>
          <p:cNvPr id="78" name="PlaceHolder 2"/>
          <p:cNvSpPr>
            <a:spLocks noGrp="1"/>
          </p:cNvSpPr>
          <p:nvPr>
            <p:ph/>
          </p:nvPr>
        </p:nvSpPr>
        <p:spPr>
          <a:xfrm>
            <a:off x="108000" y="1676520"/>
            <a:ext cx="295128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79" name="PlaceHolder 3"/>
          <p:cNvSpPr>
            <a:spLocks noGrp="1"/>
          </p:cNvSpPr>
          <p:nvPr>
            <p:ph/>
          </p:nvPr>
        </p:nvSpPr>
        <p:spPr>
          <a:xfrm>
            <a:off x="2916000" y="1341360"/>
            <a:ext cx="622764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Уничтожаются традиции, привычки, духовные ценности эксплуататорских классов. Утверждается культура, основанная на коллективизме, взаимопомощи и равенстве всех людей. Проводится культурная революция с целью ликвидации безграмотности (в России 82 % безграмотных) и воспитания у людей новой коммунистической морал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07640" y="685800"/>
            <a:ext cx="24066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81" name="PlaceHolder 2"/>
          <p:cNvSpPr>
            <a:spLocks noGrp="1"/>
          </p:cNvSpPr>
          <p:nvPr>
            <p:ph/>
          </p:nvPr>
        </p:nvSpPr>
        <p:spPr>
          <a:xfrm>
            <a:off x="2895120" y="685440"/>
            <a:ext cx="6248520" cy="56228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квидация культуры, как мировой, так и отечественной. Физическое уничтожение носителей культуры – интеллигенции. Подгонка тоталитарным государством творческой, одаренной личности-интеллекта к усредненно-народному интеллекту. Раскрепощенная, творчески одаренная личность оппозиционна режиму, «усредняющему» всех людей. Культура подчинена интересам правящего режим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88640"/>
            <a:ext cx="7772400" cy="5331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етоды построения советского государства</a:t>
            </a:r>
            <a:endParaRPr b="0" lang="en-US" sz="2800" spc="-1" strike="noStrike">
              <a:solidFill>
                <a:srgbClr val="000000"/>
              </a:solidFill>
              <a:latin typeface="Times New Roman"/>
            </a:endParaRPr>
          </a:p>
        </p:txBody>
      </p:sp>
      <p:sp>
        <p:nvSpPr>
          <p:cNvPr id="83" name="PlaceHolder 2"/>
          <p:cNvSpPr>
            <a:spLocks noGrp="1"/>
          </p:cNvSpPr>
          <p:nvPr>
            <p:ph/>
          </p:nvPr>
        </p:nvSpPr>
        <p:spPr>
          <a:xfrm>
            <a:off x="107640" y="1143000"/>
            <a:ext cx="259236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84" name="PlaceHolder 3"/>
          <p:cNvSpPr>
            <a:spLocks noGrp="1"/>
          </p:cNvSpPr>
          <p:nvPr>
            <p:ph/>
          </p:nvPr>
        </p:nvSpPr>
        <p:spPr>
          <a:xfrm>
            <a:off x="2484000" y="836640"/>
            <a:ext cx="6659640" cy="4952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циалистическое государство создается в результате классовой, бескомпромиссной борьбы между пролетариатом и буржуазией. </a:t>
            </a:r>
            <a:endParaRPr b="0" lang="en-US" sz="2400" spc="-1" strike="noStrike">
              <a:solidFill>
                <a:srgbClr val="000000"/>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сударство диктатуры пролетариата выполняет насильственно следующие задачи:</a:t>
            </a:r>
            <a:endParaRPr b="0" lang="en-US" sz="2400" spc="-1" strike="noStrike">
              <a:solidFill>
                <a:srgbClr val="000000"/>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Уничтожает частную собственность – основу эксплуатации одного класса других</a:t>
            </a:r>
            <a:endParaRPr b="0" lang="en-US" sz="2400" spc="-1" strike="noStrike">
              <a:solidFill>
                <a:srgbClr val="000000"/>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Подавляет попытки буржуа восстановить старые частнособственнические порядки</a:t>
            </a:r>
            <a:endParaRPr b="0" lang="en-US" sz="2400" spc="-1" strike="noStrike">
              <a:solidFill>
                <a:srgbClr val="000000"/>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Создает общенародную собственность и воспитывает человека коммунистической морали. В стране действуют пролетарские законы и суд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7640" y="533160"/>
            <a:ext cx="24066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86" name="PlaceHolder 2"/>
          <p:cNvSpPr>
            <a:spLocks noGrp="1"/>
          </p:cNvSpPr>
          <p:nvPr>
            <p:ph/>
          </p:nvPr>
        </p:nvSpPr>
        <p:spPr>
          <a:xfrm>
            <a:off x="2556000" y="533160"/>
            <a:ext cx="6408720" cy="55623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Тоталитарное государство, создавая мощную милитаризованную экономику использует бандитские приемы в ограблении и уничтожении личности. Все преобразования проводятся в интересах «худшей» части общества. Из нее же формируется и руководство страны. В стране произвол властей. Массовые репрессии инакомыслящих. Отсутствуют права и свободы личности. Вся экономика подчинена интересам подготовки к мировой революци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79280" y="456840"/>
            <a:ext cx="34560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 (Н. Верт, В.П. Островский, А.И. Уткин и др.)</a:t>
            </a:r>
            <a:endParaRPr b="0" lang="en-US" sz="2400" spc="-1" strike="noStrike">
              <a:solidFill>
                <a:srgbClr val="000000"/>
              </a:solidFill>
              <a:latin typeface="Times New Roman"/>
            </a:endParaRPr>
          </a:p>
        </p:txBody>
      </p:sp>
      <p:sp>
        <p:nvSpPr>
          <p:cNvPr id="45" name="PlaceHolder 2"/>
          <p:cNvSpPr>
            <a:spLocks noGrp="1"/>
          </p:cNvSpPr>
          <p:nvPr>
            <p:ph/>
          </p:nvPr>
        </p:nvSpPr>
        <p:spPr>
          <a:xfrm>
            <a:off x="3276360" y="456840"/>
            <a:ext cx="561636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литический строй – Думская монархия с тенденцией перехода к парламентской республике. Сложилась многопартийная система. Либеральные реформы П. А. Столыпина обеспечили выход страны на лидирующее место в мире. В экономике наблюдается подъем, особенно быстро развивается тяжелая промышленность – основа технического прогресса. Опережающими темпами идет рост банков, акционерных компаний, кредитной кооперации в деревн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89000"/>
            <a:ext cx="7772400" cy="7617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построения советского государства в 1937 г.</a:t>
            </a:r>
            <a:endParaRPr b="0" lang="en-US" sz="2800" spc="-1" strike="noStrike">
              <a:solidFill>
                <a:srgbClr val="000000"/>
              </a:solidFill>
              <a:latin typeface="Times New Roman"/>
            </a:endParaRPr>
          </a:p>
        </p:txBody>
      </p:sp>
      <p:sp>
        <p:nvSpPr>
          <p:cNvPr id="88" name="PlaceHolder 2"/>
          <p:cNvSpPr>
            <a:spLocks noGrp="1"/>
          </p:cNvSpPr>
          <p:nvPr>
            <p:ph/>
          </p:nvPr>
        </p:nvSpPr>
        <p:spPr>
          <a:xfrm>
            <a:off x="0" y="1197000"/>
            <a:ext cx="2627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89" name="PlaceHolder 3"/>
          <p:cNvSpPr>
            <a:spLocks noGrp="1"/>
          </p:cNvSpPr>
          <p:nvPr>
            <p:ph/>
          </p:nvPr>
        </p:nvSpPr>
        <p:spPr>
          <a:xfrm>
            <a:off x="2484000" y="1197000"/>
            <a:ext cx="67676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строен социализм. В результате строительства социализма уничтожена частная собственность и класс буржуазии. Возникла общенародная собственность. Все население страны получает одинаковые политические права. В обществе установлена единая идеология, объединяющая людей – марксизм-ленинизм, основанная на товариществе и взаимопомощи – человек человеку друг. СССР – база мировой революции оказывает интернациональную помощь пролетариату капиталистических стра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8000" y="533160"/>
            <a:ext cx="26352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91" name="PlaceHolder 2"/>
          <p:cNvSpPr>
            <a:spLocks noGrp="1"/>
          </p:cNvSpPr>
          <p:nvPr>
            <p:ph/>
          </p:nvPr>
        </p:nvSpPr>
        <p:spPr>
          <a:xfrm>
            <a:off x="2627280" y="533160"/>
            <a:ext cx="651672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Создано тоталитарное государство, подавляющее личность. В стране не существует прав и свобод. Собственность в стране принадлежит государству. Экономическое развитие осуществляется за счет массовых репрессий и примитивного, подневольного труда люде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9280" y="456840"/>
            <a:ext cx="26640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е направление</a:t>
            </a:r>
            <a:endParaRPr b="0" lang="en-US" sz="2400" spc="-1" strike="noStrike">
              <a:solidFill>
                <a:srgbClr val="000000"/>
              </a:solidFill>
              <a:latin typeface="Times New Roman"/>
            </a:endParaRPr>
          </a:p>
        </p:txBody>
      </p:sp>
      <p:sp>
        <p:nvSpPr>
          <p:cNvPr id="93" name="PlaceHolder 2"/>
          <p:cNvSpPr>
            <a:spLocks noGrp="1"/>
          </p:cNvSpPr>
          <p:nvPr>
            <p:ph/>
          </p:nvPr>
        </p:nvSpPr>
        <p:spPr>
          <a:xfrm>
            <a:off x="2843280" y="456840"/>
            <a:ext cx="612144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еренимание западной техники стало основным содержанием процесса индустриализации Советского Союза. В социально-политическом плане другой путь подразумевал сочетание западной техники, марксистской идеологии и общинного устройства в деревне: коллективизация означала синтез государственной централизации и традиционных общинных начал. Однако новое советское общество продолжало испытывать сильное влияние Запада, в частности влияние фашистской Германии; это влияние сыграло определенную роль в складывании тоталитарной системы и в проведении политики репресси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533160"/>
            <a:ext cx="256392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окально-историческа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еория</a:t>
            </a:r>
            <a:endParaRPr b="0" lang="en-US" sz="2400" spc="-1" strike="noStrike">
              <a:solidFill>
                <a:srgbClr val="000000"/>
              </a:solidFill>
              <a:latin typeface="Times New Roman"/>
            </a:endParaRPr>
          </a:p>
        </p:txBody>
      </p:sp>
      <p:sp>
        <p:nvSpPr>
          <p:cNvPr id="95" name="PlaceHolder 2"/>
          <p:cNvSpPr>
            <a:spLocks noGrp="1"/>
          </p:cNvSpPr>
          <p:nvPr>
            <p:ph/>
          </p:nvPr>
        </p:nvSpPr>
        <p:spPr>
          <a:xfrm>
            <a:off x="2700000" y="533160"/>
            <a:ext cx="644364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Негативно относясь к коммунистической идеологии, положительно оценивает принципы государственного устройства СССР (федерацию народов, однопартийную систему, единую идеологию). Создание самого мощного в истории Евразии государства – ССС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88640"/>
            <a:ext cx="77724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деятельности И. В. Сталина</a:t>
            </a:r>
            <a:endParaRPr b="0" lang="en-US" sz="2800" spc="-1" strike="noStrike">
              <a:solidFill>
                <a:srgbClr val="000000"/>
              </a:solidFill>
              <a:latin typeface="Times New Roman"/>
            </a:endParaRPr>
          </a:p>
        </p:txBody>
      </p:sp>
      <p:sp>
        <p:nvSpPr>
          <p:cNvPr id="97" name="PlaceHolder 2"/>
          <p:cNvSpPr>
            <a:spLocks noGrp="1"/>
          </p:cNvSpPr>
          <p:nvPr>
            <p:ph/>
          </p:nvPr>
        </p:nvSpPr>
        <p:spPr>
          <a:xfrm>
            <a:off x="108000" y="1052640"/>
            <a:ext cx="2951280" cy="496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98" name="PlaceHolder 3"/>
          <p:cNvSpPr>
            <a:spLocks noGrp="1"/>
          </p:cNvSpPr>
          <p:nvPr>
            <p:ph/>
          </p:nvPr>
        </p:nvSpPr>
        <p:spPr>
          <a:xfrm>
            <a:off x="2987280" y="1125000"/>
            <a:ext cx="6156360" cy="480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Под руководством Сталина компартия и советский народ первыми построили в мире социалистическое государство. СССР победил фашистскую Германию, социализм вышел за рамки одной страны, превратившись в мировую систему. Заслуги Сталина огромны. Во время его руководства возник культ его личности. Все заслуги партии и народа стали приписывать одному Сталину. Культ личности позволил Сталину нарушать социалистическую законность и, прежде всего, в борьбе с внутренним классовым врагом. Культ личности Сталина порожден объективными и субъективным причинами. Объективными – СССР окружена капиталистическими странами и в одиночку строит социализм. Это требовало ужесточить меры безопасности. Субъективными – негативными чертами характера самого Сталин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456840"/>
            <a:ext cx="24876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00" name="PlaceHolder 2"/>
          <p:cNvSpPr>
            <a:spLocks noGrp="1"/>
          </p:cNvSpPr>
          <p:nvPr>
            <p:ph/>
          </p:nvPr>
        </p:nvSpPr>
        <p:spPr>
          <a:xfrm>
            <a:off x="2556000" y="456840"/>
            <a:ext cx="658800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Сталин определил вектор развития России - командно-административный. Под руководством Сталина в России было создано тоталитарное государство. Методы создания и дальнейшего функционирования государства – массовые репрессии. Личность Сталина крайне отрицательная, психически нездор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15560"/>
            <a:ext cx="7772400" cy="6094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чины и ход Великой Отечественной войны</a:t>
            </a:r>
            <a:endParaRPr b="0" lang="en-US" sz="2800" spc="-1" strike="noStrike">
              <a:solidFill>
                <a:srgbClr val="000000"/>
              </a:solidFill>
              <a:latin typeface="Times New Roman"/>
            </a:endParaRPr>
          </a:p>
        </p:txBody>
      </p:sp>
      <p:sp>
        <p:nvSpPr>
          <p:cNvPr id="102" name="PlaceHolder 2"/>
          <p:cNvSpPr>
            <a:spLocks noGrp="1"/>
          </p:cNvSpPr>
          <p:nvPr>
            <p:ph/>
          </p:nvPr>
        </p:nvSpPr>
        <p:spPr>
          <a:xfrm>
            <a:off x="107640" y="836280"/>
            <a:ext cx="259236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03" name="PlaceHolder 3"/>
          <p:cNvSpPr>
            <a:spLocks noGrp="1"/>
          </p:cNvSpPr>
          <p:nvPr>
            <p:ph/>
          </p:nvPr>
        </p:nvSpPr>
        <p:spPr>
          <a:xfrm>
            <a:off x="2627280" y="836640"/>
            <a:ext cx="6408720" cy="5688000"/>
          </a:xfrm>
          <a:prstGeom prst="rect">
            <a:avLst/>
          </a:prstGeom>
          <a:noFill/>
          <a:ln w="0">
            <a:noFill/>
          </a:ln>
        </p:spPr>
        <p:txBody>
          <a:bodyPr lIns="90000" rIns="90000" tIns="46800" bIns="46800" anchor="t">
            <a:normAutofit/>
          </a:bodyPr>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Первое в мире социалистическое государство - СССР находится в окружении капиталистических стран, которые предпринимают попытки: </a:t>
            </a:r>
            <a:endParaRPr b="0" lang="en-US" sz="1600" spc="-1" strike="noStrike">
              <a:solidFill>
                <a:srgbClr val="000000"/>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Уничтожение ударными силами мирового капитализма, фашистской Германии, первого в мире социалистического государства – СССР;</a:t>
            </a:r>
            <a:endParaRPr b="0" lang="en-US" sz="1600" spc="-1" strike="noStrike">
              <a:solidFill>
                <a:srgbClr val="000000"/>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Военной силой установить на территории СССР капитализм и эксплуатацию его народов со стороны капиталистической Германии. Причина победы – советский народ защищал свою Родину, социализм, СССР как базу мировой революции. Периодизация войны:</a:t>
            </a:r>
            <a:endParaRPr b="0" lang="en-US" sz="1600" spc="-1" strike="noStrike">
              <a:solidFill>
                <a:srgbClr val="000000"/>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Срыв гитлеровского плана молниеносной войны и создание условий для ее коренного перелома (22 июня 1941 г. – 19 ноября 1942 г.)</a:t>
            </a:r>
            <a:endParaRPr b="0" lang="en-US" sz="1600" spc="-1" strike="noStrike">
              <a:solidFill>
                <a:srgbClr val="000000"/>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Начало контрнаступления под Сталинградом до форсирования Днепра и освобождения Киева – коренной перелом в ходе войны (19 ноября 1942 г. – конец 1943 г.);</a:t>
            </a:r>
            <a:endParaRPr b="0" lang="en-US" sz="1600" spc="-1" strike="noStrike">
              <a:solidFill>
                <a:srgbClr val="000000"/>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Полное изгнание фашистских захватчиков с Советской земли, освобождение стран Центральной и Юго-Восточной Европы, окончательный разгром и капитуляция гитлеровской Германии (конец 1943 г. – 9 мая 1945 г.)</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8000" y="380520"/>
            <a:ext cx="24480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05" name="PlaceHolder 2"/>
          <p:cNvSpPr>
            <a:spLocks noGrp="1"/>
          </p:cNvSpPr>
          <p:nvPr>
            <p:ph/>
          </p:nvPr>
        </p:nvSpPr>
        <p:spPr>
          <a:xfrm>
            <a:off x="2666880" y="380520"/>
            <a:ext cx="636912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Интернациональная идеология Советского государства является открытым призывом к насильственному изменению общественно-политического строя капиталистических государств. Политика СССР в отношении к государствам другой политической системы носит агрессивный характер. Тоталитарная Германия вынуждена была нести  упреждающий удар  по потенциальному агрессору. Тоталитарные государства Германии и СССР  одинаково виноваты  в начале войны. Причина победы – российский народ защищал свою Родин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560" y="456840"/>
            <a:ext cx="259236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е направление</a:t>
            </a:r>
            <a:endParaRPr b="0" lang="en-US" sz="2400" spc="-1" strike="noStrike">
              <a:solidFill>
                <a:srgbClr val="000000"/>
              </a:solidFill>
              <a:latin typeface="Times New Roman"/>
            </a:endParaRPr>
          </a:p>
        </p:txBody>
      </p:sp>
      <p:sp>
        <p:nvSpPr>
          <p:cNvPr id="107" name="PlaceHolder 2"/>
          <p:cNvSpPr>
            <a:spLocks noGrp="1"/>
          </p:cNvSpPr>
          <p:nvPr>
            <p:ph/>
          </p:nvPr>
        </p:nvSpPr>
        <p:spPr>
          <a:xfrm>
            <a:off x="2895120" y="456840"/>
            <a:ext cx="624852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о второй мировой войне главную роль играл военно-технический фактор. Появление авиации и танков породило новую тактику «блицкрига»; это новое оружие оказалось в руках Германии и обеспечило ее победы на первом этапе войны. Однако Германия не сумела одержать окончательную победу; тактика танковых клиньев заимствована Красной Армией, и «Третий рейх» был разгромле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280" y="692280"/>
            <a:ext cx="24480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окально-историческая</a:t>
            </a:r>
            <a:endParaRPr b="0" lang="en-US" sz="2400" spc="-1" strike="noStrike">
              <a:solidFill>
                <a:srgbClr val="000000"/>
              </a:solidFill>
              <a:latin typeface="Times New Roman"/>
            </a:endParaRPr>
          </a:p>
        </p:txBody>
      </p:sp>
      <p:sp>
        <p:nvSpPr>
          <p:cNvPr id="109" name="PlaceHolder 2"/>
          <p:cNvSpPr>
            <a:spLocks noGrp="1"/>
          </p:cNvSpPr>
          <p:nvPr>
            <p:ph/>
          </p:nvPr>
        </p:nvSpPr>
        <p:spPr>
          <a:xfrm>
            <a:off x="2556000" y="620280"/>
            <a:ext cx="64800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Попытка объединенных европейских государств военной силой подчинить себе народы Евразии и тем самым устранить конкурента за мировое влияние. Ранее в истории военная агрессия Европы в отношении Евразии была пресечена Александром Невским, а позднее Кутузовы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79280" y="380520"/>
            <a:ext cx="266400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en-US" sz="2000" spc="-1" strike="noStrike">
                <a:solidFill>
                  <a:srgbClr val="000000"/>
                </a:solidFill>
                <a:latin typeface="Times New Roman"/>
              </a:rPr>
              <a:t> </a:t>
            </a:r>
            <a:r>
              <a:rPr b="0" lang="ru-RU" sz="2000" spc="-1" strike="noStrike">
                <a:solidFill>
                  <a:srgbClr val="000000"/>
                </a:solidFill>
                <a:latin typeface="Times New Roman"/>
              </a:rPr>
              <a:t>Технологическое направление (В. А. Красильщиков, С. А. Нефедов и др.)</a:t>
            </a:r>
            <a:endParaRPr b="0" lang="en-US" sz="2000" spc="-1" strike="noStrike">
              <a:solidFill>
                <a:srgbClr val="000000"/>
              </a:solidFill>
              <a:latin typeface="Times New Roman"/>
            </a:endParaRPr>
          </a:p>
        </p:txBody>
      </p:sp>
      <p:sp>
        <p:nvSpPr>
          <p:cNvPr id="47" name="PlaceHolder 2"/>
          <p:cNvSpPr>
            <a:spLocks noGrp="1"/>
          </p:cNvSpPr>
          <p:nvPr>
            <p:ph/>
          </p:nvPr>
        </p:nvSpPr>
        <p:spPr>
          <a:xfrm>
            <a:off x="2842920" y="380520"/>
            <a:ext cx="561492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Масштабная модернизация России по западноевропейскому образцу. Процессы модернизации происходили на различных уровнях: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Интенсивный процесс перенимания западных научных и технических достижений (проникновение в Россию западных капиталов и создание филиалов западных компаний)</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Политическое влияние Запада привело к созданию политических партий либерального толка. В 1905-1907 гг. идеи модернизации нашли прямое выражение в копировании западных политических институтов (Государственная дума) и конституционных принципов (свободные выборы, свобода слова, печати, собраний и т.д).</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Идейное влияние Запада привело к появлению в России рабочих партий анархистского и марксистского направлений.</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8640"/>
            <a:ext cx="7772400" cy="5331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сход Великой Отечественной войны</a:t>
            </a:r>
            <a:endParaRPr b="0" lang="en-US" sz="2800" spc="-1" strike="noStrike">
              <a:solidFill>
                <a:srgbClr val="000000"/>
              </a:solidFill>
              <a:latin typeface="Times New Roman"/>
            </a:endParaRPr>
          </a:p>
        </p:txBody>
      </p:sp>
      <p:sp>
        <p:nvSpPr>
          <p:cNvPr id="111" name="PlaceHolder 2"/>
          <p:cNvSpPr>
            <a:spLocks noGrp="1"/>
          </p:cNvSpPr>
          <p:nvPr>
            <p:ph/>
          </p:nvPr>
        </p:nvSpPr>
        <p:spPr>
          <a:xfrm>
            <a:off x="108000" y="907560"/>
            <a:ext cx="251928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12" name="PlaceHolder 3"/>
          <p:cNvSpPr>
            <a:spLocks noGrp="1"/>
          </p:cNvSpPr>
          <p:nvPr>
            <p:ph/>
          </p:nvPr>
        </p:nvSpPr>
        <p:spPr>
          <a:xfrm>
            <a:off x="2484000" y="907920"/>
            <a:ext cx="6659640" cy="554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Логика интерпретации направлена в сторону показа значения победы Советского народа в Великой Отечественной войне. Победа показала всему миру преимущество соцсистемы над капиталистической, и социализм вышел за рамки одной страны. Возникла мировая система социализма, охватившая 1</a:t>
            </a:r>
            <a:r>
              <a:rPr b="0" lang="en-US" sz="2400" spc="-1" strike="noStrike">
                <a:solidFill>
                  <a:srgbClr val="000000"/>
                </a:solidFill>
                <a:latin typeface="Times New Roman"/>
              </a:rPr>
              <a:t>/3 </a:t>
            </a:r>
            <a:r>
              <a:rPr b="0" lang="ru-RU" sz="2400" spc="-1" strike="noStrike">
                <a:solidFill>
                  <a:srgbClr val="000000"/>
                </a:solidFill>
                <a:latin typeface="Times New Roman"/>
              </a:rPr>
              <a:t>мира. Начался крах колониальной системы империализма. СССР оказывает интернациональную помощь пролетариату стран капитализма, странам социалистической ориентации, строящих социализ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000" y="304920"/>
            <a:ext cx="2519280" cy="579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14" name="PlaceHolder 2"/>
          <p:cNvSpPr>
            <a:spLocks noGrp="1"/>
          </p:cNvSpPr>
          <p:nvPr>
            <p:ph/>
          </p:nvPr>
        </p:nvSpPr>
        <p:spPr>
          <a:xfrm>
            <a:off x="2666880" y="304920"/>
            <a:ext cx="647712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огика интерпретации направлена в сторону показа итога и цены победы – разрушений и человеческих жертв. В итоге победы СССР укрепился тоталитарный режим в стране и были созданы подобные режимы в соседних странах. Извлекаются уроки на будущего (не допустить возникновение идеологизированных – тоталитарных государств, типа Германии и СССР), дабы не повторить в будущем массовое уничтожение народ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развития СССР после Великой Отечественной войны</a:t>
            </a:r>
            <a:endParaRPr b="0" lang="en-US" sz="2800" spc="-1" strike="noStrike">
              <a:solidFill>
                <a:srgbClr val="000000"/>
              </a:solidFill>
              <a:latin typeface="Times New Roman"/>
            </a:endParaRPr>
          </a:p>
        </p:txBody>
      </p:sp>
      <p:sp>
        <p:nvSpPr>
          <p:cNvPr id="116" name="PlaceHolder 2"/>
          <p:cNvSpPr>
            <a:spLocks noGrp="1"/>
          </p:cNvSpPr>
          <p:nvPr>
            <p:ph/>
          </p:nvPr>
        </p:nvSpPr>
        <p:spPr>
          <a:xfrm>
            <a:off x="108000" y="1523880"/>
            <a:ext cx="30240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17" name="PlaceHolder 3"/>
          <p:cNvSpPr>
            <a:spLocks noGrp="1"/>
          </p:cNvSpPr>
          <p:nvPr>
            <p:ph/>
          </p:nvPr>
        </p:nvSpPr>
        <p:spPr>
          <a:xfrm>
            <a:off x="2987280" y="1557360"/>
            <a:ext cx="61563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Преимущества социализма позволили в короткий срок восстановить народное хозяйство и превзойти довоенный уровень. Массовый трудовой героизм людей, добровольно идущих на трудности и материальные лишения во имя счастливого будущего себя и своих дете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380520"/>
            <a:ext cx="24480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119" name="PlaceHolder 2"/>
          <p:cNvSpPr>
            <a:spLocks noGrp="1"/>
          </p:cNvSpPr>
          <p:nvPr>
            <p:ph/>
          </p:nvPr>
        </p:nvSpPr>
        <p:spPr>
          <a:xfrm>
            <a:off x="2627280" y="404280"/>
            <a:ext cx="6516720" cy="619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Тоталитарное государство, восстанавливая послевоенную экономику методами беспощадной эксплуатации населения, использовало массовые репрессии инакомыслящих. Государство готовилось к новой мировой войне и провоцировало ее начал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7640" y="609480"/>
            <a:ext cx="2879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хнологическое направление</a:t>
            </a:r>
            <a:endParaRPr b="0" lang="en-US" sz="2800" spc="-1" strike="noStrike">
              <a:solidFill>
                <a:srgbClr val="000000"/>
              </a:solidFill>
              <a:latin typeface="Times New Roman"/>
            </a:endParaRPr>
          </a:p>
        </p:txBody>
      </p:sp>
      <p:sp>
        <p:nvSpPr>
          <p:cNvPr id="121" name="PlaceHolder 2"/>
          <p:cNvSpPr>
            <a:spLocks noGrp="1"/>
          </p:cNvSpPr>
          <p:nvPr>
            <p:ph/>
          </p:nvPr>
        </p:nvSpPr>
        <p:spPr>
          <a:xfrm>
            <a:off x="3203640" y="620640"/>
            <a:ext cx="579096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В стране завершено создание индустриального общества. Однако модернизация в стране была на грани предела, начал действовать механизм самоблокировки развития, основанной на экстенсивной структуре экономик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чины «Холодной войны»</a:t>
            </a:r>
            <a:endParaRPr b="0" lang="en-US" sz="2800" spc="-1" strike="noStrike">
              <a:solidFill>
                <a:srgbClr val="000000"/>
              </a:solidFill>
              <a:latin typeface="Times New Roman"/>
            </a:endParaRPr>
          </a:p>
        </p:txBody>
      </p:sp>
      <p:sp>
        <p:nvSpPr>
          <p:cNvPr id="123" name="PlaceHolder 2"/>
          <p:cNvSpPr>
            <a:spLocks noGrp="1"/>
          </p:cNvSpPr>
          <p:nvPr>
            <p:ph/>
          </p:nvPr>
        </p:nvSpPr>
        <p:spPr>
          <a:xfrm>
            <a:off x="107640" y="1219320"/>
            <a:ext cx="309564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24" name="PlaceHolder 3"/>
          <p:cNvSpPr>
            <a:spLocks noGrp="1"/>
          </p:cNvSpPr>
          <p:nvPr>
            <p:ph/>
          </p:nvPr>
        </p:nvSpPr>
        <p:spPr>
          <a:xfrm>
            <a:off x="3059280" y="1125000"/>
            <a:ext cx="60847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Виновник развязывания «холодной войны» - империализм США, стремящийся к мировому господству и новому переделу мира. Одна из целей «холодной войны» экономически ослабить СССР путем навязывания стране гонки вооружени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533160"/>
            <a:ext cx="262728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126" name="PlaceHolder 2"/>
          <p:cNvSpPr>
            <a:spLocks noGrp="1"/>
          </p:cNvSpPr>
          <p:nvPr>
            <p:ph/>
          </p:nvPr>
        </p:nvSpPr>
        <p:spPr>
          <a:xfrm>
            <a:off x="2987640" y="549000"/>
            <a:ext cx="633744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Причиной «холодной войны» явился раскол мира на две несовместимые системы: капитализм и социализм, а в начале войны виноват сталинский режим, стремящийся к реализации идеи мировой революции, расширении сферы влияния тоталитаризм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8000" y="333000"/>
            <a:ext cx="295128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хнологическое направление</a:t>
            </a:r>
            <a:endParaRPr b="0" lang="en-US" sz="2800" spc="-1" strike="noStrike">
              <a:solidFill>
                <a:srgbClr val="000000"/>
              </a:solidFill>
              <a:latin typeface="Times New Roman"/>
            </a:endParaRPr>
          </a:p>
        </p:txBody>
      </p:sp>
      <p:sp>
        <p:nvSpPr>
          <p:cNvPr id="128" name="PlaceHolder 2"/>
          <p:cNvSpPr>
            <a:spLocks noGrp="1"/>
          </p:cNvSpPr>
          <p:nvPr>
            <p:ph/>
          </p:nvPr>
        </p:nvSpPr>
        <p:spPr>
          <a:xfrm>
            <a:off x="2843280" y="404640"/>
            <a:ext cx="6300720" cy="5639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Победа Советского Союза привела к созданию социалистического лагеря. В мире началась модернизация многих стран по советскому образцу. Теперь же не Россия заимствовала традиции Запада, наоборот – многие страны заимствовали идеи России. В развитых капиталистических странах синтез либеральных и социалистических идей привел к созданию социально-ориентированной рыночной экономи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7640" y="533160"/>
            <a:ext cx="237636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окально-историческа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еория</a:t>
            </a:r>
            <a:endParaRPr b="0" lang="en-US" sz="2400" spc="-1" strike="noStrike">
              <a:solidFill>
                <a:srgbClr val="000000"/>
              </a:solidFill>
              <a:latin typeface="Times New Roman"/>
            </a:endParaRPr>
          </a:p>
        </p:txBody>
      </p:sp>
      <p:sp>
        <p:nvSpPr>
          <p:cNvPr id="130" name="PlaceHolder 2"/>
          <p:cNvSpPr>
            <a:spLocks noGrp="1"/>
          </p:cNvSpPr>
          <p:nvPr>
            <p:ph/>
          </p:nvPr>
        </p:nvSpPr>
        <p:spPr>
          <a:xfrm>
            <a:off x="3059280" y="549000"/>
            <a:ext cx="608472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Западный мир, убедившись, что военным путем остановить опережающее развитие мира Евразии не удастся, изменил свои формы и методы борьбы. Западный мир взял курс на изоляцию Евразии «развал ее единства изнутри», навязав «холодную войну», гонку вооружени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838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сточники послевоенного восстановления экономики СССР</a:t>
            </a:r>
            <a:endParaRPr b="0" lang="en-US" sz="2800" spc="-1" strike="noStrike">
              <a:solidFill>
                <a:srgbClr val="000000"/>
              </a:solidFill>
              <a:latin typeface="Times New Roman"/>
            </a:endParaRPr>
          </a:p>
        </p:txBody>
      </p:sp>
      <p:sp>
        <p:nvSpPr>
          <p:cNvPr id="132" name="PlaceHolder 2"/>
          <p:cNvSpPr>
            <a:spLocks noGrp="1"/>
          </p:cNvSpPr>
          <p:nvPr>
            <p:ph/>
          </p:nvPr>
        </p:nvSpPr>
        <p:spPr>
          <a:xfrm>
            <a:off x="108000" y="1447560"/>
            <a:ext cx="31687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33" name="PlaceHolder 3"/>
          <p:cNvSpPr>
            <a:spLocks noGrp="1"/>
          </p:cNvSpPr>
          <p:nvPr>
            <p:ph/>
          </p:nvPr>
        </p:nvSpPr>
        <p:spPr>
          <a:xfrm>
            <a:off x="2771280" y="1412640"/>
            <a:ext cx="63723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Быстрое восстановление народного хозяйства после войны обеспечено преимуществами социализма (партийно-классовое руководство, плановое развитие экономики, социалистическая индустриализация, осуществленная накануне войны), опорой на внутренние источник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земельной реформы П.А. Столыпина</a:t>
            </a:r>
            <a:endParaRPr b="0" lang="en-US" sz="2800" spc="-1" strike="noStrike">
              <a:solidFill>
                <a:srgbClr val="000000"/>
              </a:solidFill>
              <a:latin typeface="Times New Roman"/>
            </a:endParaRPr>
          </a:p>
        </p:txBody>
      </p:sp>
      <p:sp>
        <p:nvSpPr>
          <p:cNvPr id="49" name="PlaceHolder 2"/>
          <p:cNvSpPr>
            <a:spLocks noGrp="1"/>
          </p:cNvSpPr>
          <p:nvPr>
            <p:ph/>
          </p:nvPr>
        </p:nvSpPr>
        <p:spPr>
          <a:xfrm>
            <a:off x="178920" y="1267920"/>
            <a:ext cx="2305080" cy="480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атериалистическое направление</a:t>
            </a:r>
            <a:endParaRPr b="0" lang="en-US" sz="1800" spc="-1" strike="noStrike">
              <a:solidFill>
                <a:srgbClr val="000000"/>
              </a:solidFill>
              <a:latin typeface="Times New Roman"/>
            </a:endParaRPr>
          </a:p>
        </p:txBody>
      </p:sp>
      <p:sp>
        <p:nvSpPr>
          <p:cNvPr id="50" name="PlaceHolder 3"/>
          <p:cNvSpPr>
            <a:spLocks noGrp="1"/>
          </p:cNvSpPr>
          <p:nvPr>
            <p:ph/>
          </p:nvPr>
        </p:nvSpPr>
        <p:spPr>
          <a:xfrm>
            <a:off x="2514600" y="1294920"/>
            <a:ext cx="5943600" cy="48006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нтерпретации факта в различных теориях:</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Реформа имела отрицательное значение:</a:t>
            </a:r>
            <a:endParaRPr b="0" lang="en-US" sz="20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Земельный вопрос не решен. Земля находилась во владении у помещиков. Крестьяне оставались безземельными.</a:t>
            </a:r>
            <a:endParaRPr b="0" lang="en-US" sz="18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Выход из общины разделял интересы крестьян, дифференцировал их имущество на бедных и богатых, ослаблял их общую борьбу за конфискацию помещичьих земель.</a:t>
            </a:r>
            <a:endParaRPr b="0" lang="en-US" sz="18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Реформа экономически бесперспективна, будущее страны за крупными коллективными хозяйствами – типа общины. Отсюда предложение конфисковать помещичьи земли и передать их в пользу общины.</a:t>
            </a:r>
            <a:endParaRPr b="0" lang="en-US" sz="18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Реформа проводилась насильственными мерами, а протест крестьян жестоко подавлялся правительством.</a:t>
            </a:r>
            <a:endParaRPr b="0" lang="en-US" sz="18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Земельная реформа провалилась, и Россию неминуемо ждал революционный взрыв.</a:t>
            </a:r>
            <a:endParaRPr b="0" lang="en-US" sz="1800" spc="-1" strike="noStrike">
              <a:solidFill>
                <a:srgbClr val="000000"/>
              </a:solidFill>
              <a:latin typeface="Times New Roman"/>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7640" y="456840"/>
            <a:ext cx="309564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35" name="PlaceHolder 2"/>
          <p:cNvSpPr>
            <a:spLocks noGrp="1"/>
          </p:cNvSpPr>
          <p:nvPr>
            <p:ph/>
          </p:nvPr>
        </p:nvSpPr>
        <p:spPr>
          <a:xfrm>
            <a:off x="2484000" y="404640"/>
            <a:ext cx="651996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Восстановление экономики происходило в значительной степени за счет внешних источников, а так же путем ограбления колхозной деревни. Приоритетно развивалась тяжелая промышленность, ориентированная на производство военной продукции. Отставала в развитии легкая и пищевая промышленность, обеспечивающие повышение материального благосостояния нар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чины освоения целинных земель</a:t>
            </a:r>
            <a:endParaRPr b="0" lang="en-US" sz="2800" spc="-1" strike="noStrike">
              <a:solidFill>
                <a:srgbClr val="000000"/>
              </a:solidFill>
              <a:latin typeface="Times New Roman"/>
            </a:endParaRPr>
          </a:p>
        </p:txBody>
      </p:sp>
      <p:sp>
        <p:nvSpPr>
          <p:cNvPr id="137" name="PlaceHolder 2"/>
          <p:cNvSpPr>
            <a:spLocks noGrp="1"/>
          </p:cNvSpPr>
          <p:nvPr>
            <p:ph/>
          </p:nvPr>
        </p:nvSpPr>
        <p:spPr>
          <a:xfrm>
            <a:off x="108000" y="1294920"/>
            <a:ext cx="30240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38" name="PlaceHolder 3"/>
          <p:cNvSpPr>
            <a:spLocks noGrp="1"/>
          </p:cNvSpPr>
          <p:nvPr>
            <p:ph/>
          </p:nvPr>
        </p:nvSpPr>
        <p:spPr>
          <a:xfrm>
            <a:off x="3131640" y="1267920"/>
            <a:ext cx="58676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Реализация возможностей социализма, плановой системе хозяйствования, шаг на пути решения зерновой проблемы в стран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837720"/>
            <a:ext cx="22320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40" name="PlaceHolder 2"/>
          <p:cNvSpPr>
            <a:spLocks noGrp="1"/>
          </p:cNvSpPr>
          <p:nvPr>
            <p:ph/>
          </p:nvPr>
        </p:nvSpPr>
        <p:spPr>
          <a:xfrm>
            <a:off x="2411280" y="838080"/>
            <a:ext cx="6732720" cy="547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Навязывание обществу лидером – личностью (Хрущевым) далеко не лучшего в социально-экономическом отношении варианта развития (более затратного и менее эффективног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189000"/>
            <a:ext cx="8064360" cy="8380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развития СССР в середине 1950–1960-х гг.</a:t>
            </a:r>
            <a:endParaRPr b="0" lang="en-US" sz="2800" spc="-1" strike="noStrike">
              <a:solidFill>
                <a:srgbClr val="000000"/>
              </a:solidFill>
              <a:latin typeface="Times New Roman"/>
            </a:endParaRPr>
          </a:p>
        </p:txBody>
      </p:sp>
      <p:sp>
        <p:nvSpPr>
          <p:cNvPr id="142" name="PlaceHolder 2"/>
          <p:cNvSpPr>
            <a:spLocks noGrp="1"/>
          </p:cNvSpPr>
          <p:nvPr>
            <p:ph/>
          </p:nvPr>
        </p:nvSpPr>
        <p:spPr>
          <a:xfrm>
            <a:off x="107640" y="1197000"/>
            <a:ext cx="2592360" cy="478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43" name="PlaceHolder 3"/>
          <p:cNvSpPr>
            <a:spLocks noGrp="1"/>
          </p:cNvSpPr>
          <p:nvPr>
            <p:ph/>
          </p:nvPr>
        </p:nvSpPr>
        <p:spPr>
          <a:xfrm>
            <a:off x="2484000" y="1197000"/>
            <a:ext cx="6659640" cy="4572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СССР было построено полностью и окончательно социалистическое общество. С уничтожением антогонистических классов государство диктатуры пролетариата переросло в общенародное. КПСС приняло программу строительства коммунистического общества. Согласно программе общенародное государство трансформировалось в сторону коммунистического самоуправления. Возрастала роль коллективов, общественных организаций. КПСС была разделена по производственному принципу с перспективой врастания в управленческие хозяйственные структур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08000" y="115560"/>
            <a:ext cx="2448000" cy="5979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45" name="PlaceHolder 2"/>
          <p:cNvSpPr>
            <a:spLocks noGrp="1"/>
          </p:cNvSpPr>
          <p:nvPr>
            <p:ph/>
          </p:nvPr>
        </p:nvSpPr>
        <p:spPr>
          <a:xfrm>
            <a:off x="2340000" y="0"/>
            <a:ext cx="6804000" cy="63086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середине 50-х гг. тоталитарное государство переходит от апогея к стадии стагнации. Ослабление после сталинского времени видится попыткой сохранения на плыву тоталитарного режима при смягчении его крайности. Поскольку без «крайностей», составляющих саму сущность системы, она не могла функционировать, начинается период сбоев и нарастания противоречий в ее развитии. Разоблачение «культа личности» представляется уловкой «верхов», а не результатом политической необходимости. Попытка либерализации страны впервые была сделана Н.С. Хрущевым. Однако проведенная им десталинизация серьезно дестабилизировала командно-административную систему, и поэтому был смеще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8920" y="380520"/>
            <a:ext cx="252108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е направление</a:t>
            </a:r>
            <a:endParaRPr b="0" lang="en-US" sz="2400" spc="-1" strike="noStrike">
              <a:solidFill>
                <a:srgbClr val="000000"/>
              </a:solidFill>
              <a:latin typeface="Times New Roman"/>
            </a:endParaRPr>
          </a:p>
        </p:txBody>
      </p:sp>
      <p:sp>
        <p:nvSpPr>
          <p:cNvPr id="147" name="PlaceHolder 2"/>
          <p:cNvSpPr>
            <a:spLocks noGrp="1"/>
          </p:cNvSpPr>
          <p:nvPr>
            <p:ph/>
          </p:nvPr>
        </p:nvSpPr>
        <p:spPr>
          <a:xfrm>
            <a:off x="2743200" y="380880"/>
            <a:ext cx="6292800" cy="614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Начинается конвергенция – слияние двух общественно-политических систем (капитализма и социализма). Основой конвергенции является развернувшаяся в мире научно-техническая революци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8000" y="685800"/>
            <a:ext cx="24480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окально-историческа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еория</a:t>
            </a:r>
            <a:endParaRPr b="0" lang="en-US" sz="2400" spc="-1" strike="noStrike">
              <a:solidFill>
                <a:srgbClr val="000000"/>
              </a:solidFill>
              <a:latin typeface="Times New Roman"/>
            </a:endParaRPr>
          </a:p>
        </p:txBody>
      </p:sp>
      <p:sp>
        <p:nvSpPr>
          <p:cNvPr id="149" name="PlaceHolder 2"/>
          <p:cNvSpPr>
            <a:spLocks noGrp="1"/>
          </p:cNvSpPr>
          <p:nvPr>
            <p:ph/>
          </p:nvPr>
        </p:nvSpPr>
        <p:spPr>
          <a:xfrm>
            <a:off x="2700360" y="692280"/>
            <a:ext cx="62308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Мир расколот на два блока. Блок – «Запад», возглавляемый сверхдержавой США. Блок – «Евразия», возглавляемый сверхдержавой СССР. Между блоками идет борьба за мировое господств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838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запуска в космос первого спутника (1957г.), полета Гагарина (1961г.)</a:t>
            </a:r>
            <a:endParaRPr b="0" lang="en-US" sz="2800" spc="-1" strike="noStrike">
              <a:solidFill>
                <a:srgbClr val="000000"/>
              </a:solidFill>
              <a:latin typeface="Times New Roman"/>
            </a:endParaRPr>
          </a:p>
        </p:txBody>
      </p:sp>
      <p:sp>
        <p:nvSpPr>
          <p:cNvPr id="151" name="PlaceHolder 2"/>
          <p:cNvSpPr>
            <a:spLocks noGrp="1"/>
          </p:cNvSpPr>
          <p:nvPr>
            <p:ph/>
          </p:nvPr>
        </p:nvSpPr>
        <p:spPr>
          <a:xfrm>
            <a:off x="108000" y="1557360"/>
            <a:ext cx="2951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52" name="PlaceHolder 3"/>
          <p:cNvSpPr>
            <a:spLocks noGrp="1"/>
          </p:cNvSpPr>
          <p:nvPr>
            <p:ph/>
          </p:nvPr>
        </p:nvSpPr>
        <p:spPr>
          <a:xfrm>
            <a:off x="2627280" y="1557360"/>
            <a:ext cx="651672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Яркое проявление преимущества социалистической системы, обеспечившей развитие науки, техники, образования.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456840"/>
            <a:ext cx="24480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54" name="PlaceHolder 2"/>
          <p:cNvSpPr>
            <a:spLocks noGrp="1"/>
          </p:cNvSpPr>
          <p:nvPr>
            <p:ph/>
          </p:nvPr>
        </p:nvSpPr>
        <p:spPr>
          <a:xfrm>
            <a:off x="2666880" y="456840"/>
            <a:ext cx="636912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Проявление военной агрессии СССР, поскольку освоение космоса велось, прежде всего, в военных целя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15920"/>
            <a:ext cx="77724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деятельности Н.С. Хрущева</a:t>
            </a:r>
            <a:endParaRPr b="0" lang="en-US" sz="2800" spc="-1" strike="noStrike">
              <a:solidFill>
                <a:srgbClr val="000000"/>
              </a:solidFill>
              <a:latin typeface="Times New Roman"/>
            </a:endParaRPr>
          </a:p>
        </p:txBody>
      </p:sp>
      <p:sp>
        <p:nvSpPr>
          <p:cNvPr id="156" name="PlaceHolder 2"/>
          <p:cNvSpPr>
            <a:spLocks noGrp="1"/>
          </p:cNvSpPr>
          <p:nvPr>
            <p:ph/>
          </p:nvPr>
        </p:nvSpPr>
        <p:spPr>
          <a:xfrm>
            <a:off x="-360" y="764640"/>
            <a:ext cx="248436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57" name="PlaceHolder 3"/>
          <p:cNvSpPr>
            <a:spLocks noGrp="1"/>
          </p:cNvSpPr>
          <p:nvPr>
            <p:ph/>
          </p:nvPr>
        </p:nvSpPr>
        <p:spPr>
          <a:xfrm>
            <a:off x="2556000" y="765000"/>
            <a:ext cx="6408720" cy="583272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осстановил демократический централизм в партии и осудил культ личности Сталина. Невинно-осужденные освобождены из тюрем «за предательство Советской власти» и реабилитированы. «Поднял железный занавес». В историческом времени оценки деятельности Хрущева различаются:</a:t>
            </a:r>
            <a:endParaRPr b="0" lang="en-US" sz="1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Период после отставки Хрущева 1964-1985. Приступил к форсированному строительству коммунизма. Страна к этому была не готова. Отсюда Хрущев волевыми усилиями проводил свою политику в жизнь. Возникли проблемы в сельском хозяйстве. Началось недовольство народов.</a:t>
            </a:r>
            <a:endParaRPr b="0" lang="en-US" sz="1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Современный период 90-е гг. </a:t>
            </a:r>
            <a:r>
              <a:rPr b="0" lang="en-US" sz="1800" spc="-1" strike="noStrike">
                <a:solidFill>
                  <a:srgbClr val="000000"/>
                </a:solidFill>
                <a:latin typeface="Times New Roman"/>
              </a:rPr>
              <a:t>XX</a:t>
            </a:r>
            <a:r>
              <a:rPr b="0" lang="ru-RU" sz="1800" spc="-1" strike="noStrike">
                <a:solidFill>
                  <a:srgbClr val="000000"/>
                </a:solidFill>
                <a:latin typeface="Times New Roman"/>
              </a:rPr>
              <a:t> в. В соответствии с программой строительства коммунизма страна делает резкий рывок во всех областях жизни. При реализации программы прежнее руководство автоматически теряет свое влияние. Реакционное руководство отстраняет Хрущева от власти и меняет курс страны. Происходит отказ от «ближайшего» коммунизма и провозглашается «совершенствование развитого социализма». Страна начинает топтаться на месте. Возникает безразличие, апатия в обществ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640" y="380520"/>
            <a:ext cx="248292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52" name="PlaceHolder 2"/>
          <p:cNvSpPr>
            <a:spLocks noGrp="1"/>
          </p:cNvSpPr>
          <p:nvPr>
            <p:ph/>
          </p:nvPr>
        </p:nvSpPr>
        <p:spPr>
          <a:xfrm>
            <a:off x="2340000" y="380520"/>
            <a:ext cx="6804000" cy="5715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форма имела положительное значение:</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Явилась продолжением реформ 60-х гг. </a:t>
            </a:r>
            <a:r>
              <a:rPr b="0" lang="en-US" sz="2000" spc="-1" strike="noStrike">
                <a:solidFill>
                  <a:srgbClr val="000000"/>
                </a:solidFill>
                <a:latin typeface="Times New Roman"/>
              </a:rPr>
              <a:t>XIX </a:t>
            </a:r>
            <a:r>
              <a:rPr b="0" lang="ru-RU" sz="2000" spc="-1" strike="noStrike">
                <a:solidFill>
                  <a:srgbClr val="000000"/>
                </a:solidFill>
                <a:latin typeface="Times New Roman"/>
              </a:rPr>
              <a:t>в. и ускорила продвижение страны по пути цивилизованного развития. Реформы права личности на собственность было сохранено (земли помещиков не конфисковывались) Правительство создало огромное количество личностей-предпринимателей (крестьяне которые купили земли и закрепили их в частную собственность). Массовая частная собственность на землю способствовала созданию материальных условий для самореализации личности. Ускорилось развитие сельского хозяйства, промышленности. Если бы реформа не была насильственно прервана большевиками, Россию ждало бы прекрасное будуще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78920" y="260280"/>
            <a:ext cx="2592360" cy="583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59" name="PlaceHolder 2"/>
          <p:cNvSpPr>
            <a:spLocks noGrp="1"/>
          </p:cNvSpPr>
          <p:nvPr>
            <p:ph/>
          </p:nvPr>
        </p:nvSpPr>
        <p:spPr>
          <a:xfrm>
            <a:off x="2268000" y="260280"/>
            <a:ext cx="6875640" cy="59054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Хрущев начинает проводить либеральные реформы, но они осуществляются старыми (командно-административными) методами. Личность положительная, но малограмотная, непонимающая необходимость введения рыночного механизма, частной собственности. После отстранения Хрущева от власти страна вернулась к «неосталинизму».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Деятельность  совнархозов</a:t>
            </a:r>
            <a:endParaRPr b="0" lang="en-US" sz="2800" spc="-1" strike="noStrike">
              <a:solidFill>
                <a:srgbClr val="000000"/>
              </a:solidFill>
              <a:latin typeface="Times New Roman"/>
            </a:endParaRPr>
          </a:p>
        </p:txBody>
      </p:sp>
      <p:sp>
        <p:nvSpPr>
          <p:cNvPr id="161" name="PlaceHolder 2"/>
          <p:cNvSpPr>
            <a:spLocks noGrp="1"/>
          </p:cNvSpPr>
          <p:nvPr>
            <p:ph/>
          </p:nvPr>
        </p:nvSpPr>
        <p:spPr>
          <a:xfrm>
            <a:off x="-360" y="1294920"/>
            <a:ext cx="2987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62" name="PlaceHolder 3"/>
          <p:cNvSpPr>
            <a:spLocks noGrp="1"/>
          </p:cNvSpPr>
          <p:nvPr>
            <p:ph/>
          </p:nvPr>
        </p:nvSpPr>
        <p:spPr>
          <a:xfrm>
            <a:off x="2916000" y="1267920"/>
            <a:ext cx="622764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На пути строительства коммунизма через совнархозы осуществлялась децентрализация управления экономикой страны и переход от отраслевого к территориальному принципу управления промышленностью. Однако переход осуществлялся поспешно, что породило тенденции разваливающие единый народнохозяйственный комплекс стра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25560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64" name="PlaceHolder 2"/>
          <p:cNvSpPr>
            <a:spLocks noGrp="1"/>
          </p:cNvSpPr>
          <p:nvPr>
            <p:ph/>
          </p:nvPr>
        </p:nvSpPr>
        <p:spPr>
          <a:xfrm>
            <a:off x="2916000" y="549000"/>
            <a:ext cx="609588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Ослабление власти центральной бюрократии автоматически компенсировало усиление региональной бюрократии. Эксперимент с совнархозами яркое свидетельство нереформируемости советской экономической системы. Так движение по пути совнархозов вело к усилению частных интересов отдельных личностей и хозяйств, завязывались рыночные связ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188640"/>
            <a:ext cx="77724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циально-экономическое состояние СССР </a:t>
            </a:r>
            <a:br>
              <a:rPr sz="2800"/>
            </a:br>
            <a:r>
              <a:rPr b="0" lang="en-US" sz="2800" spc="-1" strike="noStrike">
                <a:solidFill>
                  <a:srgbClr val="000000"/>
                </a:solidFill>
                <a:latin typeface="Times New Roman"/>
              </a:rPr>
              <a:t>в 70-е - начале 80-х гг.</a:t>
            </a:r>
            <a:endParaRPr b="0" lang="en-US" sz="2800" spc="-1" strike="noStrike">
              <a:solidFill>
                <a:srgbClr val="000000"/>
              </a:solidFill>
              <a:latin typeface="Times New Roman"/>
            </a:endParaRPr>
          </a:p>
        </p:txBody>
      </p:sp>
      <p:sp>
        <p:nvSpPr>
          <p:cNvPr id="166" name="PlaceHolder 2"/>
          <p:cNvSpPr>
            <a:spLocks noGrp="1"/>
          </p:cNvSpPr>
          <p:nvPr>
            <p:ph/>
          </p:nvPr>
        </p:nvSpPr>
        <p:spPr>
          <a:xfrm>
            <a:off x="108000" y="981000"/>
            <a:ext cx="2519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67" name="PlaceHolder 3"/>
          <p:cNvSpPr>
            <a:spLocks noGrp="1"/>
          </p:cNvSpPr>
          <p:nvPr>
            <p:ph/>
          </p:nvPr>
        </p:nvSpPr>
        <p:spPr>
          <a:xfrm>
            <a:off x="2627280" y="1052640"/>
            <a:ext cx="6375600" cy="5472000"/>
          </a:xfrm>
          <a:prstGeom prst="rect">
            <a:avLst/>
          </a:prstGeom>
          <a:noFill/>
          <a:ln w="0">
            <a:noFill/>
          </a:ln>
        </p:spPr>
        <p:txBody>
          <a:bodyPr lIns="90000" rIns="90000" tIns="46800" bIns="46800" anchor="t">
            <a:normAutofit fontScale="99000"/>
          </a:bodyPr>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 сравнению с предыдущим периодом снизились темпы социально-экономического развития страны. Причины:</a:t>
            </a:r>
            <a:endParaRPr b="0" lang="en-US" sz="2400" spc="-1" strike="noStrike">
              <a:solidFill>
                <a:srgbClr val="000000"/>
              </a:solidFill>
              <a:latin typeface="Times New Roman"/>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Поскольку командно-административная модель социализма, создание в 30-е годы перестала соответствовать требованиям времени и «разошлась» с программой строительства коммунизма. </a:t>
            </a:r>
            <a:endParaRPr b="0" lang="en-US" sz="2400" spc="-1" strike="noStrike">
              <a:solidFill>
                <a:srgbClr val="000000"/>
              </a:solidFill>
              <a:latin typeface="Times New Roman"/>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Руководством партии бал нарушен принцип демократического централизма, в результате чего в стране возникла потомственная партийно-государственная элита. Номенклатурный слой был заинтересован в сохранении создавшегося полож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304920"/>
            <a:ext cx="2448000" cy="579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69" name="PlaceHolder 2"/>
          <p:cNvSpPr>
            <a:spLocks noGrp="1"/>
          </p:cNvSpPr>
          <p:nvPr>
            <p:ph/>
          </p:nvPr>
        </p:nvSpPr>
        <p:spPr>
          <a:xfrm>
            <a:off x="2514240" y="304920"/>
            <a:ext cx="65214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Нарастающая неэффективность советской системы была следствием ее нежизнеспособности, недемократической политической системы, нерыночной сущности экономик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7640" y="476280"/>
            <a:ext cx="259236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е направление</a:t>
            </a:r>
            <a:endParaRPr b="0" lang="en-US" sz="2400" spc="-1" strike="noStrike">
              <a:solidFill>
                <a:srgbClr val="000000"/>
              </a:solidFill>
              <a:latin typeface="Times New Roman"/>
            </a:endParaRPr>
          </a:p>
        </p:txBody>
      </p:sp>
      <p:sp>
        <p:nvSpPr>
          <p:cNvPr id="171" name="PlaceHolder 2"/>
          <p:cNvSpPr>
            <a:spLocks noGrp="1"/>
          </p:cNvSpPr>
          <p:nvPr>
            <p:ph/>
          </p:nvPr>
        </p:nvSpPr>
        <p:spPr>
          <a:xfrm>
            <a:off x="2987640" y="549000"/>
            <a:ext cx="601992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В то время как в 1960-х гг. на Западе началась новая технологическая революция, государственная экономика СССР продолжала развиваться по экстенсивному пути развити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189000"/>
            <a:ext cx="7772400" cy="8380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азмещение производительных сил по территории или экстенсивный путь развития СССР (60-80-е гг.)</a:t>
            </a:r>
            <a:endParaRPr b="0" lang="en-US" sz="2400" spc="-1" strike="noStrike">
              <a:solidFill>
                <a:srgbClr val="000000"/>
              </a:solidFill>
              <a:latin typeface="Times New Roman"/>
            </a:endParaRPr>
          </a:p>
        </p:txBody>
      </p:sp>
      <p:sp>
        <p:nvSpPr>
          <p:cNvPr id="173" name="PlaceHolder 2"/>
          <p:cNvSpPr>
            <a:spLocks noGrp="1"/>
          </p:cNvSpPr>
          <p:nvPr>
            <p:ph/>
          </p:nvPr>
        </p:nvSpPr>
        <p:spPr>
          <a:xfrm>
            <a:off x="-360" y="1125360"/>
            <a:ext cx="298764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74" name="PlaceHolder 3"/>
          <p:cNvSpPr>
            <a:spLocks noGrp="1"/>
          </p:cNvSpPr>
          <p:nvPr>
            <p:ph/>
          </p:nvPr>
        </p:nvSpPr>
        <p:spPr>
          <a:xfrm>
            <a:off x="2971440" y="1197000"/>
            <a:ext cx="61722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лановая система народного хозяйства СССР обладающего 30% неосвоенных природных мировых ресурсов размещала производительные силы по всей огромной территории с учетом местонахождения природных богатств. Огромные вложения в 60-80-е гг. в Сибирь и Урал обеспечили поступательное развитие страны на столетие. Сегодня (90-е гг.) государство и личность ничего не вкладывая в развитие хозяйства страны пользуется трудом предыдущих поколений (нефть, газ, руда, металл). В основном за счет труда предыдущих поколений и живет сегодня стран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8000" y="456840"/>
            <a:ext cx="251928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76" name="PlaceHolder 2"/>
          <p:cNvSpPr>
            <a:spLocks noGrp="1"/>
          </p:cNvSpPr>
          <p:nvPr>
            <p:ph/>
          </p:nvPr>
        </p:nvSpPr>
        <p:spPr>
          <a:xfrm>
            <a:off x="2743200" y="456840"/>
            <a:ext cx="629280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60-80-е гг. страна двигалась по экстенсивному пути развития. Громадные капиталовложения шли на освоение новых территорий, строительство новых заводов. Такие капиталовложения предполагали медленную отдачу. Трудовое материальное положение людей было связано с неэффективным использованием государственных средств остановившим страну на экстенсивном пути развития. Во всем мире интенсивный путь развития связан с неэффективным использованием уже созданных производственных мощностей. В 60-80-е гг. на основе научно технической революции Западный мир перешел на интенсивный путь развит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овое политическое мышление</a:t>
            </a:r>
            <a:endParaRPr b="0" lang="en-US" sz="2800" spc="-1" strike="noStrike">
              <a:solidFill>
                <a:srgbClr val="000000"/>
              </a:solidFill>
              <a:latin typeface="Times New Roman"/>
            </a:endParaRPr>
          </a:p>
        </p:txBody>
      </p:sp>
      <p:sp>
        <p:nvSpPr>
          <p:cNvPr id="178" name="PlaceHolder 2"/>
          <p:cNvSpPr>
            <a:spLocks noGrp="1"/>
          </p:cNvSpPr>
          <p:nvPr>
            <p:ph/>
          </p:nvPr>
        </p:nvSpPr>
        <p:spPr>
          <a:xfrm>
            <a:off x="108000" y="1196640"/>
            <a:ext cx="32400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179" name="PlaceHolder 3"/>
          <p:cNvSpPr>
            <a:spLocks noGrp="1"/>
          </p:cNvSpPr>
          <p:nvPr>
            <p:ph/>
          </p:nvPr>
        </p:nvSpPr>
        <p:spPr>
          <a:xfrm>
            <a:off x="3003120" y="1196640"/>
            <a:ext cx="6140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Отказ М.С. Горбачева и руководства страны от идей марксизма-ленинизма, классового противостояния имущих и неимущих, разнородности систем капиталистической и социалистической, социалистической демократии и переход на идейные позиции капитализма, внеклассовой буржуазной демократии, содержащей идею сотрудничества классов. Новое политическое мышление на практике вылилось в перестройку, ликвидацию социализма и возникновению в России капиталистического обществ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08000" y="456840"/>
            <a:ext cx="251928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181" name="PlaceHolder 2"/>
          <p:cNvSpPr>
            <a:spLocks noGrp="1"/>
          </p:cNvSpPr>
          <p:nvPr>
            <p:ph/>
          </p:nvPr>
        </p:nvSpPr>
        <p:spPr>
          <a:xfrm>
            <a:off x="2743200" y="456840"/>
            <a:ext cx="6221520" cy="621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овое политическое мышление – внешнеполитический курс Советского руководства, исходящее из реальности ракетно-ядерного века и эпохи научно-технической революции, сделавших мир взаимозависимым и взаимоуязвимым. Новое политическое мышление заключалось в переосмысливании современного мира и проведение политики с позиции общечеловеческих ценностей, что выразилось в отказе от идей «мировой революции», до идеологизации внешней политики, выдвижении важных внешнеполитических инициатив в области вооруж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381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ценки событий октября 1917 г.</a:t>
            </a:r>
            <a:endParaRPr b="0" lang="en-US" sz="2400" spc="-1" strike="noStrike">
              <a:solidFill>
                <a:srgbClr val="000000"/>
              </a:solidFill>
              <a:latin typeface="Times New Roman"/>
            </a:endParaRPr>
          </a:p>
        </p:txBody>
      </p:sp>
      <p:sp>
        <p:nvSpPr>
          <p:cNvPr id="54" name="PlaceHolder 2"/>
          <p:cNvSpPr>
            <a:spLocks noGrp="1"/>
          </p:cNvSpPr>
          <p:nvPr>
            <p:ph/>
          </p:nvPr>
        </p:nvSpPr>
        <p:spPr>
          <a:xfrm>
            <a:off x="178920" y="1219320"/>
            <a:ext cx="252108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55" name="PlaceHolder 3"/>
          <p:cNvSpPr>
            <a:spLocks noGrp="1"/>
          </p:cNvSpPr>
          <p:nvPr>
            <p:ph/>
          </p:nvPr>
        </p:nvSpPr>
        <p:spPr>
          <a:xfrm>
            <a:off x="2590920" y="1219320"/>
            <a:ext cx="6302160" cy="48765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Развитие общества закономерно привело к социалистической революции. Класс рабочих и беднейших крестьян, завоевав в России политическую власть, устанавливает государство диктатуры пролетариата и начинает строить социализ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политики перестройки</a:t>
            </a:r>
            <a:endParaRPr b="0" lang="en-US" sz="2800" spc="-1" strike="noStrike">
              <a:solidFill>
                <a:srgbClr val="000000"/>
              </a:solidFill>
              <a:latin typeface="Times New Roman"/>
            </a:endParaRPr>
          </a:p>
        </p:txBody>
      </p:sp>
      <p:sp>
        <p:nvSpPr>
          <p:cNvPr id="183" name="PlaceHolder 2"/>
          <p:cNvSpPr>
            <a:spLocks noGrp="1"/>
          </p:cNvSpPr>
          <p:nvPr>
            <p:ph/>
          </p:nvPr>
        </p:nvSpPr>
        <p:spPr>
          <a:xfrm>
            <a:off x="179280" y="1219320"/>
            <a:ext cx="295272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84" name="PlaceHolder 3"/>
          <p:cNvSpPr>
            <a:spLocks noGrp="1"/>
          </p:cNvSpPr>
          <p:nvPr>
            <p:ph/>
          </p:nvPr>
        </p:nvSpPr>
        <p:spPr>
          <a:xfrm>
            <a:off x="3347640" y="1196640"/>
            <a:ext cx="60642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Заговор внешний и внутренний с целью разрушения социализм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7640" y="609480"/>
            <a:ext cx="27874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186" name="PlaceHolder 2"/>
          <p:cNvSpPr>
            <a:spLocks noGrp="1"/>
          </p:cNvSpPr>
          <p:nvPr>
            <p:ph/>
          </p:nvPr>
        </p:nvSpPr>
        <p:spPr>
          <a:xfrm>
            <a:off x="3124080" y="609480"/>
            <a:ext cx="59119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Отказ России от командно-распределительной системы и выбор либерально-рыночной. Быстрый демонтаж социалистической системы, разрушение ее несущих опор; коммунистической партии, плановой экономики, КГБ. Воссоздание многопартийной систем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08000" y="609480"/>
            <a:ext cx="27115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окально-историческа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теория</a:t>
            </a:r>
            <a:endParaRPr b="0" lang="en-US" sz="2800" spc="-1" strike="noStrike">
              <a:solidFill>
                <a:srgbClr val="000000"/>
              </a:solidFill>
              <a:latin typeface="Times New Roman"/>
            </a:endParaRPr>
          </a:p>
        </p:txBody>
      </p:sp>
      <p:sp>
        <p:nvSpPr>
          <p:cNvPr id="188" name="PlaceHolder 2"/>
          <p:cNvSpPr>
            <a:spLocks noGrp="1"/>
          </p:cNvSpPr>
          <p:nvPr>
            <p:ph/>
          </p:nvPr>
        </p:nvSpPr>
        <p:spPr>
          <a:xfrm>
            <a:off x="2971440" y="609480"/>
            <a:ext cx="59929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Страны Запада во главе со сверхдержавой США изнутри разрушают, «взрывают» другую сверхдержаву СССР с целью устранения конкурента с мировой арен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деятельности М.С. Горбачева</a:t>
            </a:r>
            <a:endParaRPr b="0" lang="en-US" sz="2800" spc="-1" strike="noStrike">
              <a:solidFill>
                <a:srgbClr val="000000"/>
              </a:solidFill>
              <a:latin typeface="Times New Roman"/>
            </a:endParaRPr>
          </a:p>
        </p:txBody>
      </p:sp>
      <p:sp>
        <p:nvSpPr>
          <p:cNvPr id="190" name="PlaceHolder 2"/>
          <p:cNvSpPr>
            <a:spLocks noGrp="1"/>
          </p:cNvSpPr>
          <p:nvPr>
            <p:ph/>
          </p:nvPr>
        </p:nvSpPr>
        <p:spPr>
          <a:xfrm>
            <a:off x="107640" y="1219320"/>
            <a:ext cx="309564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91" name="PlaceHolder 3"/>
          <p:cNvSpPr>
            <a:spLocks noGrp="1"/>
          </p:cNvSpPr>
          <p:nvPr>
            <p:ph/>
          </p:nvPr>
        </p:nvSpPr>
        <p:spPr>
          <a:xfrm>
            <a:off x="2971440" y="1219320"/>
            <a:ext cx="6064200" cy="487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Главный виновник распада СССР – руководитель, предавший 18-млн. партию и 260-млн. народа, отказавшийся от социализм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8920" y="404280"/>
            <a:ext cx="252108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193" name="PlaceHolder 2"/>
          <p:cNvSpPr>
            <a:spLocks noGrp="1"/>
          </p:cNvSpPr>
          <p:nvPr>
            <p:ph/>
          </p:nvPr>
        </p:nvSpPr>
        <p:spPr>
          <a:xfrm>
            <a:off x="3047760" y="380520"/>
            <a:ext cx="5987880" cy="571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Крупный либерал-реформатор, сумевший демонтировать тоталитарный режи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августовских событий 1991 г. (ГКЧП)</a:t>
            </a:r>
            <a:endParaRPr b="0" lang="en-US" sz="2800" spc="-1" strike="noStrike">
              <a:solidFill>
                <a:srgbClr val="000000"/>
              </a:solidFill>
              <a:latin typeface="Times New Roman"/>
            </a:endParaRPr>
          </a:p>
        </p:txBody>
      </p:sp>
      <p:sp>
        <p:nvSpPr>
          <p:cNvPr id="195" name="PlaceHolder 2"/>
          <p:cNvSpPr>
            <a:spLocks noGrp="1"/>
          </p:cNvSpPr>
          <p:nvPr>
            <p:ph/>
          </p:nvPr>
        </p:nvSpPr>
        <p:spPr>
          <a:xfrm>
            <a:off x="108000" y="1219320"/>
            <a:ext cx="295128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196" name="PlaceHolder 3"/>
          <p:cNvSpPr>
            <a:spLocks noGrp="1"/>
          </p:cNvSpPr>
          <p:nvPr>
            <p:ph/>
          </p:nvPr>
        </p:nvSpPr>
        <p:spPr>
          <a:xfrm>
            <a:off x="3203280" y="1196640"/>
            <a:ext cx="5715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Попытка остановить сползание страны в пропасть, сохранить СССР, социализ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7640" y="609480"/>
            <a:ext cx="24829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198" name="PlaceHolder 2"/>
          <p:cNvSpPr>
            <a:spLocks noGrp="1"/>
          </p:cNvSpPr>
          <p:nvPr>
            <p:ph/>
          </p:nvPr>
        </p:nvSpPr>
        <p:spPr>
          <a:xfrm>
            <a:off x="2627280" y="609480"/>
            <a:ext cx="65167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Неудавшийся реванш авторитарных, прокоммунистических сил, их последняя попытка сохранить власть и влияние в стране, не допустить либеральных рефор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762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ценки событий осени 1993 г. Открытое противостояние Президента и Верховного Совета</a:t>
            </a:r>
            <a:endParaRPr b="0" lang="en-US" sz="2400" spc="-1" strike="noStrike">
              <a:solidFill>
                <a:srgbClr val="000000"/>
              </a:solidFill>
              <a:latin typeface="Times New Roman"/>
            </a:endParaRPr>
          </a:p>
        </p:txBody>
      </p:sp>
      <p:sp>
        <p:nvSpPr>
          <p:cNvPr id="200" name="PlaceHolder 2"/>
          <p:cNvSpPr>
            <a:spLocks noGrp="1"/>
          </p:cNvSpPr>
          <p:nvPr>
            <p:ph/>
          </p:nvPr>
        </p:nvSpPr>
        <p:spPr>
          <a:xfrm>
            <a:off x="179280" y="1600200"/>
            <a:ext cx="2952720" cy="4495680"/>
          </a:xfrm>
          <a:prstGeom prst="rect">
            <a:avLst/>
          </a:prstGeom>
          <a:no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201" name="PlaceHolder 3"/>
          <p:cNvSpPr>
            <a:spLocks noGrp="1"/>
          </p:cNvSpPr>
          <p:nvPr>
            <p:ph/>
          </p:nvPr>
        </p:nvSpPr>
        <p:spPr>
          <a:xfrm>
            <a:off x="3276360" y="1600200"/>
            <a:ext cx="5616360" cy="44956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Завершение курса на демонтаж социалистической системы, ликвидация советской власт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2" name=""/>
          <p:cNvSpPr/>
          <p:nvPr/>
        </p:nvSpPr>
        <p:spPr>
          <a:xfrm>
            <a:off x="250920" y="457200"/>
            <a:ext cx="2263680" cy="5638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Либеральное направление</a:t>
            </a:r>
            <a:endParaRPr b="0" lang="en-US" sz="2000" spc="-1" strike="noStrike">
              <a:solidFill>
                <a:srgbClr val="000000"/>
              </a:solidFill>
              <a:latin typeface="Times New Roman"/>
            </a:endParaRPr>
          </a:p>
        </p:txBody>
      </p:sp>
      <p:sp>
        <p:nvSpPr>
          <p:cNvPr id="203" name=""/>
          <p:cNvSpPr/>
          <p:nvPr/>
        </p:nvSpPr>
        <p:spPr>
          <a:xfrm>
            <a:off x="2700360" y="457200"/>
            <a:ext cx="6335640" cy="571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едотвращение попытки коммунистического реванша и сохранение курса на либерально-демократические реформы. В сентябре-октябре 1993 года по всей стране существовали Советы, которые властью быть не могли, а могли только довести страну до полной дезинтеграции вплоть до объявления отдельных деревень республиками – отсюда, демократические силы во главе с Президентом Б. Ельциным, обеспечивая осуществление либерально-рыночного выбора России, пошли на решительные действия для спасения молодой российской демократии. 4 октября с применением армии были подавлены попытки Верховного Совета изменить курс страны.</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381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чины исчезновения Советского государства</a:t>
            </a:r>
            <a:endParaRPr b="0" lang="en-US" sz="2800" spc="-1" strike="noStrike">
              <a:solidFill>
                <a:srgbClr val="000000"/>
              </a:solidFill>
              <a:latin typeface="Times New Roman"/>
            </a:endParaRPr>
          </a:p>
        </p:txBody>
      </p:sp>
      <p:sp>
        <p:nvSpPr>
          <p:cNvPr id="205" name="PlaceHolder 2"/>
          <p:cNvSpPr>
            <a:spLocks noGrp="1"/>
          </p:cNvSpPr>
          <p:nvPr>
            <p:ph/>
          </p:nvPr>
        </p:nvSpPr>
        <p:spPr>
          <a:xfrm>
            <a:off x="-108000" y="1143000"/>
            <a:ext cx="3240000" cy="4952880"/>
          </a:xfrm>
          <a:prstGeom prst="rect">
            <a:avLst/>
          </a:prstGeom>
          <a:noFill/>
          <a:ln w="9360">
            <a:solidFill>
              <a:srgbClr val="0000ff"/>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Религиозно-          историческая (Христианская теория)</a:t>
            </a:r>
            <a:endParaRPr b="0" lang="en-US" sz="2000" spc="-1" strike="noStrike">
              <a:solidFill>
                <a:srgbClr val="000000"/>
              </a:solidFill>
              <a:latin typeface="Times New Roman"/>
            </a:endParaRPr>
          </a:p>
        </p:txBody>
      </p:sp>
      <p:sp>
        <p:nvSpPr>
          <p:cNvPr id="206" name=""/>
          <p:cNvSpPr/>
          <p:nvPr/>
        </p:nvSpPr>
        <p:spPr>
          <a:xfrm>
            <a:off x="3276720" y="1143000"/>
            <a:ext cx="5759280" cy="49528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адение Советской государственной модели стало результатом краха политики государственного атеизма и идеологии грубого материализма, отсутствия должного внимания к духовной жизни каждого человек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609480"/>
            <a:ext cx="252108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57" name="PlaceHolder 2"/>
          <p:cNvSpPr>
            <a:spLocks noGrp="1"/>
          </p:cNvSpPr>
          <p:nvPr>
            <p:ph/>
          </p:nvPr>
        </p:nvSpPr>
        <p:spPr>
          <a:xfrm>
            <a:off x="2700360" y="609480"/>
            <a:ext cx="57578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В стране в условиях войны произошел случайный государственный переворот, власть захватили большевики. В ходе продолжительного красного террора со стороны большевиков насильственно установилась чужая народу и природе политическая систем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8000" y="380520"/>
            <a:ext cx="3024000" cy="57150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208" name=""/>
          <p:cNvSpPr/>
          <p:nvPr/>
        </p:nvSpPr>
        <p:spPr>
          <a:xfrm>
            <a:off x="3419640" y="380880"/>
            <a:ext cx="5545080" cy="571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результате ошибок со стороны компартии и усиления частнособственнической пропаганды мирового империализма произошел раскол в советском обществе на номенклатурных работников и простых трудящихся, что привело к гибели социализма. Вчерашние номенклатурные работники, предав идеи социализма и разворовав народное имущество, трансформировались в сегодняшних «новых русских». В России произошла контрреволюция. Она вернула страну к капитализму. Это возвращение временное, так как наступление коммунистической формации закономерн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7640" y="456840"/>
            <a:ext cx="2808360" cy="56386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Либеральное направление</a:t>
            </a:r>
            <a:endParaRPr b="0" lang="en-US" sz="2800" spc="-1" strike="noStrike">
              <a:solidFill>
                <a:srgbClr val="000000"/>
              </a:solidFill>
              <a:latin typeface="Times New Roman"/>
            </a:endParaRPr>
          </a:p>
        </p:txBody>
      </p:sp>
      <p:sp>
        <p:nvSpPr>
          <p:cNvPr id="210" name=""/>
          <p:cNvSpPr/>
          <p:nvPr/>
        </p:nvSpPr>
        <p:spPr>
          <a:xfrm>
            <a:off x="2987640" y="476280"/>
            <a:ext cx="6156360" cy="5638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 ослаблением репрессий против народа политика, экономика, идеология строительства коммунизма зашла в тупик. Нарастающие демократические процессы привели к краху авторитарного советского государства. Велика в этом роль личности Ельцин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380520"/>
            <a:ext cx="2187360" cy="5715000"/>
          </a:xfrm>
          <a:prstGeom prst="rect">
            <a:avLst/>
          </a:prstGeom>
          <a:no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Технологическое направление</a:t>
            </a:r>
            <a:endParaRPr b="0" lang="en-US" sz="2000" spc="-1" strike="noStrike">
              <a:solidFill>
                <a:srgbClr val="000000"/>
              </a:solidFill>
              <a:latin typeface="Times New Roman"/>
            </a:endParaRPr>
          </a:p>
        </p:txBody>
      </p:sp>
      <p:sp>
        <p:nvSpPr>
          <p:cNvPr id="212" name=""/>
          <p:cNvSpPr/>
          <p:nvPr/>
        </p:nvSpPr>
        <p:spPr>
          <a:xfrm>
            <a:off x="2700360" y="380880"/>
            <a:ext cx="6335640" cy="571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Углубляющееся отставание от стран Запада порождает этап конвергенции двух общественно-политических систем; допускается честное и кооперативное предпринимательство, поначалу в ограниченных размерах. Расширение контактов с Западом и направленное пропагандистское воздействие приводят к лавинообразному распространению либеральной идеологии. Идея перенимания западных стандартов одерживает верх над традиционной коммунистической идеологией – в конечном счете, это приводит к падению советской власт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189000"/>
            <a:ext cx="8350200" cy="7617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ценки реформ правительства </a:t>
            </a:r>
            <a:br>
              <a:rPr sz="2800"/>
            </a:br>
            <a:r>
              <a:rPr b="0" lang="en-US" sz="2800" spc="-1" strike="noStrike">
                <a:solidFill>
                  <a:srgbClr val="000000"/>
                </a:solidFill>
                <a:latin typeface="Times New Roman"/>
              </a:rPr>
              <a:t>Б.Н. Ельцина - Е.Т. Гайдара</a:t>
            </a:r>
            <a:endParaRPr b="0" lang="en-US" sz="2800" spc="-1" strike="noStrike">
              <a:solidFill>
                <a:srgbClr val="000000"/>
              </a:solidFill>
              <a:latin typeface="Times New Roman"/>
            </a:endParaRPr>
          </a:p>
        </p:txBody>
      </p:sp>
      <p:sp>
        <p:nvSpPr>
          <p:cNvPr id="214" name="PlaceHolder 2"/>
          <p:cNvSpPr>
            <a:spLocks noGrp="1"/>
          </p:cNvSpPr>
          <p:nvPr>
            <p:ph/>
          </p:nvPr>
        </p:nvSpPr>
        <p:spPr>
          <a:xfrm>
            <a:off x="108000" y="1125360"/>
            <a:ext cx="2519280" cy="4935600"/>
          </a:xfrm>
          <a:prstGeom prst="rect">
            <a:avLst/>
          </a:prstGeom>
          <a:noFill/>
          <a:ln w="9360">
            <a:solidFill>
              <a:srgbClr val="00008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истическое направление</a:t>
            </a:r>
            <a:endParaRPr b="0" lang="en-US" sz="2000" spc="-1" strike="noStrike">
              <a:solidFill>
                <a:srgbClr val="000000"/>
              </a:solidFill>
              <a:latin typeface="Times New Roman"/>
            </a:endParaRPr>
          </a:p>
        </p:txBody>
      </p:sp>
      <p:sp>
        <p:nvSpPr>
          <p:cNvPr id="215" name=""/>
          <p:cNvSpPr/>
          <p:nvPr/>
        </p:nvSpPr>
        <p:spPr>
          <a:xfrm>
            <a:off x="2771640" y="1125360"/>
            <a:ext cx="6264360" cy="4970520"/>
          </a:xfrm>
          <a:prstGeom prst="rect">
            <a:avLst/>
          </a:prstGeom>
          <a:no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Шоковая терапия», превратившаяся в «шок без терапии» - сознательная политика правительства, направленное на резкое снижение платежеспособного спроса населения, передачи собственности в руки представителей номенклатурно-бюрократического слоя и криминалитета,социальное расслоение общества. Наполнение прилавков товарами достигнуто искусственным путем – за счет ограничения количества покупателей и вброса в страну продовольственного импорта, приведшего к потере продовольственной безопасност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920" y="533160"/>
            <a:ext cx="2665440" cy="556236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217" name=""/>
          <p:cNvSpPr/>
          <p:nvPr/>
        </p:nvSpPr>
        <p:spPr>
          <a:xfrm>
            <a:off x="3059280" y="533520"/>
            <a:ext cx="5976720" cy="556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Единственно возможный вариант выхода страны из глубокого экономического кризиса, спасение от социально-экономической катастрофы, включение рыночных механизмов развития. Высокая цена преобразований объясняется огромной сложностью и масштабом проблем, доставшихся в наследство от советской общественно-экономической систем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480"/>
            <a:ext cx="7772400" cy="457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ценки состояния России в конце </a:t>
            </a:r>
            <a:r>
              <a:rPr b="0" lang="en-US" sz="2800" spc="-1" strike="noStrike">
                <a:solidFill>
                  <a:srgbClr val="000000"/>
                </a:solidFill>
                <a:latin typeface="Times New Roman"/>
              </a:rPr>
              <a:t>XX</a:t>
            </a:r>
            <a:r>
              <a:rPr b="0" lang="ru-RU" sz="2800" spc="-1" strike="noStrike">
                <a:solidFill>
                  <a:srgbClr val="000000"/>
                </a:solidFill>
                <a:latin typeface="Times New Roman"/>
              </a:rPr>
              <a:t> века</a:t>
            </a:r>
            <a:endParaRPr b="0" lang="en-US" sz="2800" spc="-1" strike="noStrike">
              <a:solidFill>
                <a:srgbClr val="000000"/>
              </a:solidFill>
              <a:latin typeface="Times New Roman"/>
            </a:endParaRPr>
          </a:p>
        </p:txBody>
      </p:sp>
      <p:sp>
        <p:nvSpPr>
          <p:cNvPr id="219" name="PlaceHolder 2"/>
          <p:cNvSpPr>
            <a:spLocks noGrp="1"/>
          </p:cNvSpPr>
          <p:nvPr>
            <p:ph/>
          </p:nvPr>
        </p:nvSpPr>
        <p:spPr>
          <a:xfrm>
            <a:off x="0" y="1219320"/>
            <a:ext cx="2627280" cy="4876560"/>
          </a:xfrm>
          <a:prstGeom prst="rect">
            <a:avLst/>
          </a:prstGeom>
          <a:noFill/>
          <a:ln w="9360">
            <a:solidFill>
              <a:srgbClr val="0000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лигиозно-историческая (Христианская)</a:t>
            </a:r>
            <a:endParaRPr b="0" lang="en-US" sz="2400" spc="-1" strike="noStrike">
              <a:solidFill>
                <a:srgbClr val="000000"/>
              </a:solidFill>
              <a:latin typeface="Times New Roman"/>
            </a:endParaRPr>
          </a:p>
        </p:txBody>
      </p:sp>
      <p:sp>
        <p:nvSpPr>
          <p:cNvPr id="220" name="PlaceHolder 3"/>
          <p:cNvSpPr>
            <a:spLocks noGrp="1"/>
          </p:cNvSpPr>
          <p:nvPr>
            <p:ph/>
          </p:nvPr>
        </p:nvSpPr>
        <p:spPr>
          <a:xfrm>
            <a:off x="2514600" y="1219320"/>
            <a:ext cx="2201760" cy="4876560"/>
          </a:xfrm>
          <a:prstGeom prst="rect">
            <a:avLst/>
          </a:prstGeom>
          <a:noFill/>
          <a:ln w="93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Движение человека к Богу</a:t>
            </a:r>
            <a:endParaRPr b="0" lang="en-US" sz="2800" spc="-1" strike="noStrike">
              <a:solidFill>
                <a:srgbClr val="000000"/>
              </a:solidFill>
              <a:latin typeface="Times New Roman"/>
            </a:endParaRPr>
          </a:p>
        </p:txBody>
      </p:sp>
      <p:sp>
        <p:nvSpPr>
          <p:cNvPr id="221" name=""/>
          <p:cNvSpPr/>
          <p:nvPr/>
        </p:nvSpPr>
        <p:spPr>
          <a:xfrm>
            <a:off x="4788000" y="1197000"/>
            <a:ext cx="4176720" cy="487692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Борьба сил Добра и Зла в мире, в общественной жизни, в душах людей продолжается. Исход этой борьбы во многом зависит от места, роли, круга полномочий Русской Православной Церкви, ее поддержки со стороны государственных орган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79280" y="380520"/>
            <a:ext cx="2952720" cy="5715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териалистическое направление</a:t>
            </a:r>
            <a:endParaRPr b="0" lang="en-US" sz="2400" spc="-1" strike="noStrike">
              <a:solidFill>
                <a:srgbClr val="000000"/>
              </a:solidFill>
              <a:latin typeface="Times New Roman"/>
            </a:endParaRPr>
          </a:p>
        </p:txBody>
      </p:sp>
      <p:sp>
        <p:nvSpPr>
          <p:cNvPr id="223" name=""/>
          <p:cNvSpPr/>
          <p:nvPr/>
        </p:nvSpPr>
        <p:spPr>
          <a:xfrm>
            <a:off x="3276720" y="380880"/>
            <a:ext cx="5975280" cy="571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дение страны в экономическую пропасть, обнищание народа, глубокое социальное расслоение, потеря всех завоеваний советской власти в </a:t>
            </a:r>
            <a:r>
              <a:rPr b="0" lang="en-US" sz="2400" spc="-1" strike="noStrike">
                <a:solidFill>
                  <a:srgbClr val="000000"/>
                </a:solidFill>
                <a:latin typeface="Times New Roman"/>
              </a:rPr>
              <a:t>XX</a:t>
            </a:r>
            <a:r>
              <a:rPr b="0" lang="ru-RU" sz="2400" spc="-1" strike="noStrike">
                <a:solidFill>
                  <a:srgbClr val="000000"/>
                </a:solidFill>
                <a:latin typeface="Times New Roman"/>
              </a:rPr>
              <a:t> в. Причина падения страны в экономическую пропасть в контрреволюции, в возврате страны к капиталистической системе. Выход – сменить социально-политическую систему, основанную на частной собственности и в возврате к социалистической формаци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404280"/>
            <a:ext cx="2286000" cy="5715000"/>
          </a:xfrm>
          <a:prstGeom prst="rect">
            <a:avLst/>
          </a:prstGeom>
          <a:noFill/>
          <a:ln w="9360">
            <a:solidFill>
              <a:srgbClr val="0000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иберальное направление</a:t>
            </a:r>
            <a:endParaRPr b="0" lang="en-US" sz="2400" spc="-1" strike="noStrike">
              <a:solidFill>
                <a:srgbClr val="000000"/>
              </a:solidFill>
              <a:latin typeface="Times New Roman"/>
            </a:endParaRPr>
          </a:p>
        </p:txBody>
      </p:sp>
      <p:sp>
        <p:nvSpPr>
          <p:cNvPr id="225" name=""/>
          <p:cNvSpPr/>
          <p:nvPr/>
        </p:nvSpPr>
        <p:spPr>
          <a:xfrm>
            <a:off x="2484360" y="380880"/>
            <a:ext cx="6659640" cy="5715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ереходный период от тоталитарной к демократической, рыночной системе, идущий трудно в силу тяжелого наследия советского прошлого. Причина экономических трудностей в выборе неудачных лидеров. Выход – выбрать достойную личность, умного руководител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7640" y="380520"/>
            <a:ext cx="2330280" cy="5715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Локально-историческа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еория</a:t>
            </a:r>
            <a:endParaRPr b="0" lang="en-US" sz="2400" spc="-1" strike="noStrike">
              <a:solidFill>
                <a:srgbClr val="000000"/>
              </a:solidFill>
              <a:latin typeface="Times New Roman"/>
            </a:endParaRPr>
          </a:p>
        </p:txBody>
      </p:sp>
      <p:sp>
        <p:nvSpPr>
          <p:cNvPr id="227" name=""/>
          <p:cNvSpPr/>
          <p:nvPr/>
        </p:nvSpPr>
        <p:spPr>
          <a:xfrm>
            <a:off x="2627280" y="380880"/>
            <a:ext cx="6408720" cy="571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ир из биполярного превратился в однополярный. США безбоязненно диктует странам свою волю, а зоной их жизненных интересов стал весь мир. Россия превращается в сырьевой придаток Запада, а ее народы деградируют и вымирают. Причина – экономическое разрушение странами Запада стран Еврази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08000" y="685800"/>
            <a:ext cx="302400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хнологическое направление</a:t>
            </a:r>
            <a:endParaRPr b="0" lang="en-US" sz="2800" spc="-1" strike="noStrike">
              <a:solidFill>
                <a:srgbClr val="000000"/>
              </a:solidFill>
              <a:latin typeface="Times New Roman"/>
            </a:endParaRPr>
          </a:p>
        </p:txBody>
      </p:sp>
      <p:sp>
        <p:nvSpPr>
          <p:cNvPr id="59" name="PlaceHolder 2"/>
          <p:cNvSpPr>
            <a:spLocks noGrp="1"/>
          </p:cNvSpPr>
          <p:nvPr>
            <p:ph/>
          </p:nvPr>
        </p:nvSpPr>
        <p:spPr>
          <a:xfrm>
            <a:off x="3124080" y="685800"/>
            <a:ext cx="584064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События февраля 1917 г. носили прозападный модернизационный характер и сопровождались перениманием западных политических институтов. Однако крестьянская реформа так и не была проведена. Большевики, олицетворявшие радикальный западный марксизм, повели за собой массы общинного крестьянства и в результате получили власт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60280"/>
            <a:ext cx="7772400" cy="9144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лассы и классовая борьба, диктатура пролетариата</a:t>
            </a:r>
            <a:endParaRPr b="0" lang="en-US" sz="2800" spc="-1" strike="noStrike">
              <a:solidFill>
                <a:srgbClr val="000000"/>
              </a:solidFill>
              <a:latin typeface="Times New Roman"/>
            </a:endParaRPr>
          </a:p>
        </p:txBody>
      </p:sp>
      <p:sp>
        <p:nvSpPr>
          <p:cNvPr id="61" name="PlaceHolder 2"/>
          <p:cNvSpPr>
            <a:spLocks noGrp="1"/>
          </p:cNvSpPr>
          <p:nvPr>
            <p:ph/>
          </p:nvPr>
        </p:nvSpPr>
        <p:spPr>
          <a:xfrm>
            <a:off x="179280" y="1600200"/>
            <a:ext cx="237672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атериалистическое направление</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3"/>
          <p:cNvSpPr>
            <a:spLocks noGrp="1"/>
          </p:cNvSpPr>
          <p:nvPr>
            <p:ph/>
          </p:nvPr>
        </p:nvSpPr>
        <p:spPr>
          <a:xfrm>
            <a:off x="2484000" y="1341360"/>
            <a:ext cx="6659640" cy="51832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Неизбежны и закономерны в развитии общества смены общественно-экономических формаций, классовая борьба, революции, диктатура пролетариата, возникновение коммунизма. Возникновение частной собственности вызвало появление классов. С этого периода начинается классовая борьба и проходит через все общественно-экономические формации: рабовладельческую, феодальную, капиталистическую. Неимущий класс завоевывает политическую власть, устанавливает государство диктатуры пролетариата и уничтожает частную собственность – основу деления общества на классы. Государство диктатуры пролетариата перерастает в общенародное государство. Возникает коммунистическая общественно-экономическая формация, первая фаза которого – социализм. Государство диктатуры пролетариата существовало с 1917 г. по 1937 г. В СССР в 1937 г. была принята конституция победившего социализма и все население страны уравнено в политических права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4:26:23Z</dcterms:created>
  <dc:creator>Sten</dc:creator>
  <dc:description/>
  <dc:language>en-US</dc:language>
  <cp:lastModifiedBy>Admin</cp:lastModifiedBy>
  <dcterms:modified xsi:type="dcterms:W3CDTF">2009-05-14T22:16:17Z</dcterms:modified>
  <cp:revision>277</cp:revision>
  <dc:subject/>
  <dc:title>Оценки развития России в начале XX века</dc:title>
</cp:coreProperties>
</file>