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238-E691-4DC7-B3F4-D1F2E3E2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D58-DDED-4EA9-899D-27966B3D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2DE-45BA-41AF-AEB3-7D1D4137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CB5-1B2E-44B0-AE21-1AB89AA9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45D-914C-48E3-8EC8-11461141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519-A691-4AEE-B2C0-E80F787B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83B-1628-40ED-B2BD-FD9E8E00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9E7-5AE0-4B50-9531-2FAB4506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6C9-841F-4844-9396-411A6127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84E-8869-4070-85CA-93308FD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983-E0BE-4372-9109-379C224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775-2254-48F8-8A4E-13D51E47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A592-418F-42F2-8961-3B716703B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Tutanchamun_Mask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Zambezi_River_near_Zambezi_Town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Satellite_view_of_Victoria_Fall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vid_Livingstone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d/Queen_Victoria_Golden_Jubilee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Lake_Victoria_composite_satellite_photo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climb.com.ua/about_person.php?person_id=15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e/LakeChadCameroonTown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4/ShrinkingLakeChad-1973-1997-EO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92720" y="4365360"/>
            <a:ext cx="348768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египетская парусная лодка"/>
          <p:cNvPicPr/>
          <p:nvPr/>
        </p:nvPicPr>
        <p:blipFill>
          <a:blip r:embed="rId1"/>
          <a:stretch/>
        </p:blipFill>
        <p:spPr>
          <a:xfrm>
            <a:off x="1547640" y="1197000"/>
            <a:ext cx="4118040" cy="540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43" name="WordArt 7"/>
          <p:cNvSpPr txBox="1"/>
          <p:nvPr/>
        </p:nvSpPr>
        <p:spPr>
          <a:xfrm>
            <a:off x="2050920" y="765000"/>
            <a:ext cx="66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утренние в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р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63280" y="3141360"/>
            <a:ext cx="6923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сих пор продолжаются споры в отношении того, какая из рек длиннее — Нил или Амазонка, так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лина реки может меняться с течением времени (особенно на равнине, где реки часто меняют ру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тороны не всегда приходят к единому мнению относительно местоположения ист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5940360" y="549360"/>
            <a:ext cx="2500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4392720" cy="28558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780000" y="1628280"/>
            <a:ext cx="512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л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iteru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 древнеегипетском языке) представлял собой источник жизни для древнеегипетской цивилизации уже с каменного века. Именно в его долине расположены все города Египта и до сих пор проживает практически всё его население (97%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5940360" y="549360"/>
            <a:ext cx="2500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Picture 6" descr="Посмертная маска Тутанхамона, символ Древнего Египта в западной популярной культуре. Каир, Египетский музе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3574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Нигер"/>
          <p:cNvPicPr/>
          <p:nvPr/>
        </p:nvPicPr>
        <p:blipFill>
          <a:blip r:embed="rId1"/>
          <a:stretch/>
        </p:blipFill>
        <p:spPr>
          <a:xfrm>
            <a:off x="3203640" y="260280"/>
            <a:ext cx="5761080" cy="362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2" name="WordArt 6"/>
          <p:cNvSpPr txBox="1"/>
          <p:nvPr/>
        </p:nvSpPr>
        <p:spPr>
          <a:xfrm>
            <a:off x="539640" y="260280"/>
            <a:ext cx="36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г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826920" y="3645000"/>
            <a:ext cx="763272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жнейшая река в Западной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ина 416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бассейна 2092 тыс. к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ья по этим параметрам 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ле Нила и Кон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одной из гипотез название реки произошло в свою очередь от слов “егерев н'егерев”, что на тамашек (один из языков туарегов) означает “великая река” или “река рек”. Так называли Нигер и другие народы, жившие на его берег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3348000" y="549360"/>
            <a:ext cx="36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г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619280" y="4365360"/>
            <a:ext cx="70675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ток реки Нигер находится в Гвинее, затем река течёт по Мали, Нигеру, по границе Бенина, затем протекает через Нигерию и впадает в Гвинейский за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6045480" cy="377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WordArt 5"/>
          <p:cNvSpPr txBox="1"/>
          <p:nvPr/>
        </p:nvSpPr>
        <p:spPr>
          <a:xfrm>
            <a:off x="468360" y="260280"/>
            <a:ext cx="360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г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ёртая по протяжённости река 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бассейна — 1 570 000 к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тяжённость — 2 57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мбез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было дано реке её первооткрывателем среди европейцев Давидом Ливингстоном и происходит от искажённо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самбо Уэйз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— названия на одном из местных диале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3564000" y="549360"/>
            <a:ext cx="4046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без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979280" y="5084280"/>
            <a:ext cx="663588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ток реки находится в Замб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падает в Индийск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3348000" y="333360"/>
            <a:ext cx="404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без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Река Замбези в Северной Западной Замб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268280"/>
            <a:ext cx="56390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692360" y="5157720"/>
            <a:ext cx="7200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жнейшая достопримечательность Замбези — Водопад Виктория, один из величайших водопадов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Спутниковое изображение, показывающее Водопад Виктория и последующий ряд ущел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620640"/>
            <a:ext cx="6645600" cy="4405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>
            <a:off x="395280" y="1628640"/>
            <a:ext cx="4103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без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8920" y="1483920"/>
            <a:ext cx="403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отландский миссионер, выдающийся исследователь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м европейцем, кто посетил верхнюю Замбези и обнаружил Водопад Вик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Давид Ливингсто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60280"/>
            <a:ext cx="292896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468360" y="404640"/>
            <a:ext cx="4751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эвид Ливингст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580000" y="4724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(19 марта 1813 - 1 мая 18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24360" y="1484280"/>
            <a:ext cx="493056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пад Виктория является одной из главных достопримечательностей Южной Африки, относится к Всемирному наследию ЮНЕС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ходится на границе двух национальных парков — «Гремящий Дым» («Mosi-oa-Tunya») в Замбии и «Водопад Виктория» в Зимбабве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3635280" y="476280"/>
            <a:ext cx="52945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опад Виктор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8" descr="Арт - постер Водопад &quot;Виктория&quot;"/>
          <p:cNvPicPr/>
          <p:nvPr/>
        </p:nvPicPr>
        <p:blipFill>
          <a:blip r:embed="rId1"/>
          <a:stretch/>
        </p:blipFill>
        <p:spPr>
          <a:xfrm>
            <a:off x="250920" y="1916280"/>
            <a:ext cx="3744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47640" y="126828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Рек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г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мбе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анж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мпо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2.     Оз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к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ьяса (Мала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нгань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771640" y="333360"/>
            <a:ext cx="422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6" descr="570px-Africa_satellite_plane"/>
          <p:cNvPicPr/>
          <p:nvPr/>
        </p:nvPicPr>
        <p:blipFill>
          <a:blip r:embed="rId1"/>
          <a:stretch/>
        </p:blipFill>
        <p:spPr>
          <a:xfrm>
            <a:off x="5060880" y="1413000"/>
            <a:ext cx="38307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Изображение:Queen Victoria Golden Jubile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20640"/>
            <a:ext cx="3808440" cy="5400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4572000" y="1557360"/>
            <a:ext cx="4248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отландский исследовательДэвид Ливингстон в 1855 году назвал водопад в честь королевы Виктории. Ранее водопад был известен среди местного населения как «Гремящий Дым»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ктория — единственный водопад в мире более чем 100 метров в высоту и более километра в д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3564000" y="476280"/>
            <a:ext cx="536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опад Виктор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19280" y="1196640"/>
            <a:ext cx="70675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рёт начало в Драконовых горах на границе ЮАР и Лесото (Южная Афр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адает в Атлантический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ина 2200 км,  площадь бассейна 973 000 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пнейший приток — река Ва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реке располагается известный 146-метровый водопад Ауграбис (ЮА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 происходит от Оранской динас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547640" y="189000"/>
            <a:ext cx="48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а Оранжев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8123400" cy="2249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63280" y="4076280"/>
            <a:ext cx="6923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импоп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Limpop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Ur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emb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Juhampur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иначе называемая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рокодилов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— река в Южной Аф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текает к югу от Претории из гор Витватерсранд (1800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адает в Индийский океан к северу от залива Делаго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276720" y="333360"/>
            <a:ext cx="5545080" cy="3645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611280" y="620640"/>
            <a:ext cx="3970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мпоп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00360" y="1484280"/>
            <a:ext cx="4392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ие образовались в зоне Великого Африканского разл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азовите 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 чем особенности их котлови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азовите самое большое озеро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987640" y="333360"/>
            <a:ext cx="39816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а Афр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57560" cy="53164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64000" y="1341000"/>
            <a:ext cx="360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ожено в тектоническом прогибе Восточно-Африканской платформы, на высоте 1134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-е по величине пресное озеро мира после Верхнего оз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е большое озеро в Афр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рыл озеро Джон Хеннинг Спик в 1858 год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763640" y="404640"/>
            <a:ext cx="535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Виктор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5" descr="Озеро Виктория, вид из космос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13000"/>
            <a:ext cx="4892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148000" y="1267920"/>
            <a:ext cx="353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827-18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ий исследователь Аф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854-55 и 1856-59 вместе с   Р.Ф.Бертоном исследовал Сомали и открыл оз. Тангань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858 открыл оз. Виктория и установил (в 1860-63 вместе с Дж. О. Грантом), что р. Виктория-Нил вытекает из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pik_dzhon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530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1" name="Rectangle 7"/>
          <p:cNvSpPr/>
          <p:nvPr/>
        </p:nvSpPr>
        <p:spPr>
          <a:xfrm>
            <a:off x="4500720" y="64904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mb.com.u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2268360" y="333360"/>
            <a:ext cx="5326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ик Джон Хеннин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050560" y="4076280"/>
            <a:ext cx="66358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ерхность озера не постоянна: занимая обыкновенно около 27 тыс. кв. км, озеро в дождливое время года разливается до 50 тыс., а в сухое — сокращается до 11 тыс. кв. к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5796000" y="404640"/>
            <a:ext cx="2901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Ча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6" descr="Изображение:LakeChadCameroonTow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3360"/>
            <a:ext cx="4824360" cy="3473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932360" y="1483920"/>
            <a:ext cx="388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2006 году озеро площадью 23 тысячи км² уменьшилось в 26 раз и продолжает высыхать, что стало известно благодаря мониторингу Земли, осуществляемой международной систем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Disaster Monitoring Constellation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Изображение:ShrinkingLakeChad-1973-1997-E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4533840" cy="47516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5796000" y="404640"/>
            <a:ext cx="2901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Ча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95280" y="1599840"/>
            <a:ext cx="4691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ложено в Центрально-Восточной Аф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легает с севера на юг, протяженность 560 км, глубина 706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матически выражены два сезона: дождливый (ноябрь — май) и засушливый (май — ноябр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3276720" y="476280"/>
            <a:ext cx="3897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Нья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6" descr="300px-Lake_Malawi_seen_from_orbit"/>
          <p:cNvPicPr/>
          <p:nvPr/>
        </p:nvPicPr>
        <p:blipFill>
          <a:blip r:embed="rId1"/>
          <a:stretch/>
        </p:blipFill>
        <p:spPr>
          <a:xfrm>
            <a:off x="468360" y="1413000"/>
            <a:ext cx="3481200" cy="4537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ЕРО НЬЯСА - водоем, омывающий берега Малави, Танзании и Мозамбика (Африка), главная загадка которого - беспричинное изменение уровня воды - до сих пор не объясн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экзотических гипотез есть и такая, которая обвиняет в наводнениях ...стада бегемотов, которые в больших количествах скапливаются у южной оконечности Нья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050920" y="476280"/>
            <a:ext cx="657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адка озера Нья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ют преимущественно дождев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дный режим часто не соответствует климатическим условиям территории (транзитные ре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Приведите пример такой р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Назовите крупнейшие реки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3276720" y="476280"/>
            <a:ext cx="412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и Афр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9280" y="1413000"/>
            <a:ext cx="382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объёму и глубине озеро занимает второе место после Байк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рега озера принадлежат четырём стра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Назовите эти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Изображение:Lake Tanganyika-map.png"/>
          <p:cNvPicPr/>
          <p:nvPr/>
        </p:nvPicPr>
        <p:blipFill>
          <a:blip r:embed="rId1"/>
          <a:stretch/>
        </p:blipFill>
        <p:spPr>
          <a:xfrm>
            <a:off x="468360" y="1052640"/>
            <a:ext cx="4032360" cy="53719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4716360" y="404640"/>
            <a:ext cx="387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гань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92360" y="1341000"/>
            <a:ext cx="72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ина озера около 65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ирина 40—80 км. Площадь 34 тыс. км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жит на высоте 773 метров над уровнем моря в тектонической впадине Восточно-Африканской зоны разло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о открыто в 1858 году английским путешественниками Р.Бёртоном и Дж. Спи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4716360" y="404640"/>
            <a:ext cx="387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гань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835280" y="5300640"/>
            <a:ext cx="6851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работы Фредерика Лейтона, Национальная портретная галерея, Лондон. На щеке виден шрам от сомалийского дро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Изображение:RichardFrancisBurton.jpeg"/>
          <p:cNvPicPr/>
          <p:nvPr/>
        </p:nvPicPr>
        <p:blipFill>
          <a:blip r:embed="rId1"/>
          <a:stretch/>
        </p:blipFill>
        <p:spPr>
          <a:xfrm>
            <a:off x="5232240" y="620640"/>
            <a:ext cx="3478320" cy="4176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1547640" y="2421000"/>
            <a:ext cx="32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некоторым оценкам, владел двадцатью девятью языками, относящимися к различным языковым семь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1042920" y="404640"/>
            <a:ext cx="4905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тон, Ричард Фрэнси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92000" y="1412640"/>
            <a:ext cx="6994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кое озеро глубже – Виктория или Ч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ил протекает через оезро Танганьика или Виктор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амое глубокое озеро Африки Ньяса или Тангань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Голубой Нил – левый или правый приток Ни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Река Оранжевая впадает в Атлантический или в Индийский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кое озеро нахоидтся восточнее – Виктория или Тангань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763640" y="549360"/>
            <a:ext cx="683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графические зада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нести перечисленные в презентации водные объекты на контурную ка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ить сообщения о природных зонах Африки, о пустынях Аф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105-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411280" y="620640"/>
            <a:ext cx="560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3planet.ru/geo/article/index.php?id_article=1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ttp://agat.net.ru/other/chud9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ылова О.В. Материки и океаны: Учеб.для 7 кл.общеобразоват.учреждений. – М.: Просвещение, 20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1908000" y="549360"/>
            <a:ext cx="6456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ые источн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692360" y="4005000"/>
            <a:ext cx="71388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ложена в Центральной Афр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ая полноводная и вторая по длине река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текает под именем Чамбези между озёрами Ньяса и Танганьика на высоте 1590 метров над уровнем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падает в Атлантический оке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508720" y="907920"/>
            <a:ext cx="3076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6" descr="Река Заир (Конго)"/>
          <p:cNvPicPr/>
          <p:nvPr/>
        </p:nvPicPr>
        <p:blipFill>
          <a:blip r:embed="rId1"/>
          <a:stretch/>
        </p:blipFill>
        <p:spPr>
          <a:xfrm>
            <a:off x="468360" y="260280"/>
            <a:ext cx="42004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64000" y="404280"/>
            <a:ext cx="332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ина Конго 47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доходна на 16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бассейна 3680 тысяч км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верхнем и в нижнем течении образует много порогов и водопадов (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одопады Стэн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целый ряд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одопадов Ливингсто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ongo_map_old"/>
          <p:cNvPicPr/>
          <p:nvPr/>
        </p:nvPicPr>
        <p:blipFill>
          <a:blip r:embed="rId1"/>
          <a:stretch/>
        </p:blipFill>
        <p:spPr>
          <a:xfrm>
            <a:off x="395280" y="1052640"/>
            <a:ext cx="482904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>
            <a:off x="1908000" y="333360"/>
            <a:ext cx="3076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000" y="1484280"/>
            <a:ext cx="4546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роги и водопады (около 32) в нижнем течении реки Конго (Заир), между гг. Киншаса и Матади. Длина 360 км; падение 220 м. Крупные ГЭС Инга. В обход водопадов Ливингстона построена железная дорога. Названы по имени Д. Ливингстон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2050920" y="549360"/>
            <a:ext cx="6519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опады Ливингсто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7" descr="Водопад Виктория - ущелье"/>
          <p:cNvPicPr/>
          <p:nvPr/>
        </p:nvPicPr>
        <p:blipFill>
          <a:blip r:embed="rId1"/>
          <a:stretch/>
        </p:blipFill>
        <p:spPr>
          <a:xfrm>
            <a:off x="324000" y="2492280"/>
            <a:ext cx="36716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76000" y="1773360"/>
            <a:ext cx="7210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а в 1482 португальским мореплавателем Диего К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следовалась в 1871—1872 Давидом Ливингст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энли исследовал в 1876—1877 Конго от Ниангве вниз по те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ссаи исследовал Виссман в 188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195640" y="549360"/>
            <a:ext cx="6513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тели Кон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692360" y="1413000"/>
            <a:ext cx="5400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араб.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ني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‎‎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an-nī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в Египте носит наз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ль-Бах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 лат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Nilu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 — одна из двух величайших по протяжённости рек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«Нил» происходит от греческого названия реки «Нилос» (Νειλος). Греки также называли эту реку «Эгиптос» (Αιγυπτος), отсюда название «Егип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3059280" y="333360"/>
            <a:ext cx="2500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65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5040360" cy="36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а берёт начало на Восточно-Африканском плоског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падает в Средиземное море, образуя дель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бассейна, по разным данным, — 2,8—3,4 млн км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2268360" y="1341360"/>
            <a:ext cx="2500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6:57:00Z</dcterms:created>
  <dc:creator>Долгорукова</dc:creator>
  <dc:description/>
  <dc:language>en-US</dc:language>
  <cp:lastModifiedBy>Admin</cp:lastModifiedBy>
  <dcterms:modified xsi:type="dcterms:W3CDTF">2012-12-06T15:44:39Z</dcterms:modified>
  <cp:revision>32</cp:revision>
  <dc:subject/>
  <dc:title>Слайд 1</dc:title>
</cp:coreProperties>
</file>