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40487-281E-4830-80AE-C1836E641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80B10-09B4-41B2-8AC3-A89E8D5C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73147-E609-4B87-BCB6-E5ADB2FC5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115BE-920A-4CF3-B4CA-717E0BF38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F7232-3CAD-46C4-B164-C61D5AFC8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00456-70E8-4DD2-8548-F7AEEA29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F4A69-5AAD-419A-995C-144FA3FD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6B06E-1C19-4C08-85E2-1F1555FB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CDCFF-C1D4-4128-9031-6D617CDD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2A9BB-C21F-40CA-8991-ACA6A547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B6E96-EB26-4F7B-8320-56486B56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76C11-B0AA-459D-B1F6-35014F8F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0FF61-6F76-4CAE-82A6-A70941CB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CB774-E576-4759-83A0-D9FA28BC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B1C5B-92A7-4334-BC59-21E0C90B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CDD8C-443E-415C-955B-0BEF97DA8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838A5-6332-4CA6-B0E9-B75B6072B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D653E-D308-44B3-BB2A-B1EDED10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BF9AE-407B-4FE0-B8EF-3B8B0699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B5070-F39F-400C-BCD3-AAC928C3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E9DAD-B2DE-4C52-BDB1-58EA3E10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48F2B-CD61-421B-B0B3-323C5A83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145F5-3F62-45DA-9A5A-40909A84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60CF4-A01F-49EF-AB92-8C1BE164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971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6ED4-98E8-4CC0-8D89-32B315800A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7213-EC7C-4860-B62D-685F6E9891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PlaceHolder 3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076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Глава 4. Экономика государст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62120" y="25146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6. Деньг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95880" y="2819520"/>
            <a:ext cx="23878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енежный рыно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Спрос на деньги 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money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emand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количество денег во всех формах, которое требуется экономике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для выполнения их функц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Предложение денег (money supply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количество денег в экономике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 соответствии с наиболее широким определением денежной массы, принятым в данной стра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6. Деньги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7353F-D516-4E00-ABBB-2911C5C622F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4. Экономика государ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Количественная теория денег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V=Py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— спрос на деньг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 — уровень це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V — скорость обращения денег —количество раз, которое каждая денежная единица используется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течение го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— реальный ВВП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ответственно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y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— номинальный ВВП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6. Деньги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300EE-AD58-4724-9759-B6CF0B37A9A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4. Экономика государ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ичард Кантильон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1219320"/>
            <a:ext cx="4267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80—1734)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глийский экономист, автор перв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истории экономического трактата “Очерк о природе торговли” (1755), предложил количественную теорию дене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казал, что увеличение количества денег может изменять относительные цены и что ценность денег изменяется обратно пропорциональ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х количеству в обращен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105520" y="1371600"/>
            <a:ext cx="3592440" cy="5048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33520" y="4952880"/>
            <a:ext cx="4190760" cy="1465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Деньги, будь то бумажные или металлические, не являются подлинной мерой богатства нации, подлинный источник богатства – земля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6. Деньг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48610-184F-4FFF-AC4D-48497EB6583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4. Экономика государ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Милтон Фридмен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93560" y="1143000"/>
            <a:ext cx="3368880" cy="5334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962520" y="1066680"/>
            <a:ext cx="518148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2—2006), американский экономис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1956 г. в изданной под его редакцией книге “Исследования количественной теории денег” (1956) сформулировал принципы современной количественной теории денег. Эта книга также стала началом нового течения в экономической теории — монетаризм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38480" y="4114800"/>
            <a:ext cx="5105520" cy="228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еальное количество денег оказывает сильнейшее влияние на эффективность экономического механизма. Тем не менее лишь недавно было осознано, что должно существовать некоторое оптимальное количество денег и что общество может поддерживать это количество на данном уровне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6. Деньг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1DA71-6B5E-4A2C-80F1-CDCFC16E472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4. Экономика государ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 (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еньги — всеобщий эквивалент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уществуют товарные и декретные деньг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екретные деньги могут быть наличными и безналичным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еньги выполняют функции средства платежа, обмена, измерения стоимости и накопления сбережени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6. Деньги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CD02F-3EAA-4980-AD96-87A3680CDFD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4. Экономика государ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 (2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ся денежная масса, циркулирующая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экономике, называется широкими деньгам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Широкие деньги состоят из наличных денег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обращении за пределами банков и всех депозитов в банка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Экономические агенты предъявляют спрос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 деньги, поскольку они выполняют важные для них функ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Центральный банк, имеющий исключительное право создавать деньги, осуществляет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х предложени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6. Деньги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D99A4-A5A5-495D-81E9-60745AA38C1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4. Экономика государ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еньг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money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всеобщий эквивалент, используемый как средство платежа, обмена, измерения стоимости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и накопления сбережени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иды денег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Товарные деньги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ommodity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oney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любой товар, который принимается в оплату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Декретные деньги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iat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oney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удостоверение стоимости, которо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 решению властей считается деньгам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6. Деньги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08C45-9138-459B-B589-D715324A7C5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4. Экономика государ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иды денег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43000" y="1324080"/>
          <a:ext cx="6781680" cy="51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324080"/>
                    <a:ext cx="6781680" cy="51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6. Деньг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C22E2-4F55-478D-8335-B90CAD567C2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4. Экономика государ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иды декретных денег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Наличные деньги (currency)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бумажные  билеты и металлические монеты, которые лежат в кошельке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Безналичные деньги, депозиты (deposit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— записи на счетах в банках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6. Деньги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F6D44-0C18-43F1-8AE3-CC2069A045B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4. Экономика государ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Функции денег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Средство обмена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edium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of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exchange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— деньги выступают посредником при обмене товар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Средство платежа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edium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of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ayment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— любая операция в рыночной экономике предполагает платеж: переход денег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т одного экономического агента к другом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Накопление сбережений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tore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of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value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— деньги сохраняют свою покупательную способность с течением времен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Измерение стоимости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unit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of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value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— деньги выступают общепринятой единицей измерения цены товаров и услу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6. Деньги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25CEC-CF84-4F6F-B4E5-97CFFC91098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4. Экономика государ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Цена и ликвидност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Цена 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price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пропорция обмена товаров и услуг на деньг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Ликвидность 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liquidity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способность актива превращаться в деньги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6. Деньги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44FF4-AE50-46C3-98AA-AF8D55108C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4. Экономика государ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Измерение денег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Широкие деньги (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oad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ney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 —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ся денежная масса, циркулирующая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экономик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Широкие деньги состоят из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енег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oney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— наличных денег и депозитов до востребования — вкладов в бан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х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, которые можно забрать немедленно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вазиденег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quasi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oney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— почти что денег, средств накопления сбережений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экономик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6. Деньги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1011A-88E2-46C7-8EBB-263BAA5E80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4. Экономика государ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остав широких денег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066680"/>
          <a:ext cx="8229600" cy="5292720"/>
        </p:xfrm>
        <a:graphic>
          <a:graphicData uri="http://schemas.openxmlformats.org/drawingml/2006/table">
            <a:tbl>
              <a:tblPr/>
              <a:tblGrid>
                <a:gridCol w="6705720"/>
                <a:gridCol w="152388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нежная мас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лрд.р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Широкие деньг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ньг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личные вне банк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позиты до востребова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вазиденьг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рочные депози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берегательные депози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позиты в иностранной валют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6. Деньг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4D3DA-09C8-4DC0-85C6-4E0C320D375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4. Экономика государ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иды депозито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переводные депозиты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transferable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deposits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депозиты до востребования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другие депозиты, используемы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ля платежей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прочие депозиты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other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deposits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любые депозиты, которые блокируются банками на определенный срок, а досрочное снятие денег ограничивается или ведет к штрафным санкциям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6. Деньги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21DBF-149A-4A32-9BBB-9D205C8C199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4. Экономика государ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1:46:14Z</dcterms:created>
  <dc:creator/>
  <dc:description/>
  <dc:language>en-US</dc:language>
  <cp:lastModifiedBy>Дина</cp:lastModifiedBy>
  <dcterms:modified xsi:type="dcterms:W3CDTF">2007-07-02T10:33:56Z</dcterms:modified>
  <cp:revision>96</cp:revision>
  <dc:subject/>
  <dc:title>Глава 4. Экономика государства</dc:title>
</cp:coreProperties>
</file>