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98F-55A6-4FDA-98D2-23A4BD51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FE7-F3EE-4111-B734-8014B7CD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C63-D2E0-4EB3-B0F9-909570FB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64E-352E-4775-AF09-20274AA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93A-2391-4418-ABAB-92814A62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60F6-2E83-4B60-A464-A1082ABC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79E5-C7CD-44F9-8327-159F2439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B2CF-E17A-478E-82D9-538C2D6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0D98-B669-4DAF-80BE-66FE905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3C8-7FB3-449C-8961-9EAC2BBF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754-0F81-4771-9600-DD2ECA9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853-B295-46D7-9806-8E529512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755E-2BE2-4984-A0B8-6A3083AD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B062-9EE6-4197-9CEA-9C3A7475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D30B-FE46-4D77-8CD4-5AF8B920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69FB-3995-4A51-AB37-6B21260B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6570-970B-41D3-B5E2-DB7EEFE9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A64-368D-433C-9282-62BA350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1E5-0832-4760-98CD-0164023D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2B6-6B5D-4C01-B330-4002E8F2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0FF-403B-44A1-9651-C9CB342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6E2-A0B2-4B85-A6EE-7DAA9D6B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491-CE2C-4C85-8E12-3C9E757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114-EC60-4671-8D6A-75EA189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8BC5-DF39-4FEA-ABF8-B96221AC3BB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35B0-3633-43F8-929B-EDAC73130A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ADBE-CFF4-42F5-B4BF-FA172FF9BB8D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D4BD-50BD-494F-8775-87FE4052C0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9810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МЕТОДИЧЕСКАЯ РАЗРАБОТКА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«АДАПТИВНАЯ ФИЗИЧЕСКАЯ КУЛЬТУР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440" y="4191120"/>
            <a:ext cx="6437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Составитель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Лаптева Светлана Витальев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209680" y="228600"/>
            <a:ext cx="5715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Муниципальное образовательное учреждение дополнительного образования детей «Дом детского творчества»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пгт. Усогор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733920" y="579132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ahoma"/>
              </a:rPr>
              <a:t>Усогорск 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Tahoma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imes New Roman"/>
              </a:rPr>
              <a:t>Функции АФ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304920" y="1828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30492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30492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23"/>
          <p:cNvSpPr/>
          <p:nvPr/>
        </p:nvSpPr>
        <p:spPr>
          <a:xfrm>
            <a:off x="304920" y="2590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304920" y="3733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25"/>
          <p:cNvSpPr/>
          <p:nvPr/>
        </p:nvSpPr>
        <p:spPr>
          <a:xfrm>
            <a:off x="30492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04920" y="4114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304920" y="4495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28"/>
          <p:cNvSpPr/>
          <p:nvPr/>
        </p:nvSpPr>
        <p:spPr>
          <a:xfrm>
            <a:off x="304920" y="4876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29"/>
          <p:cNvSpPr/>
          <p:nvPr/>
        </p:nvSpPr>
        <p:spPr>
          <a:xfrm>
            <a:off x="304920" y="5257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30"/>
          <p:cNvSpPr/>
          <p:nvPr/>
        </p:nvSpPr>
        <p:spPr>
          <a:xfrm>
            <a:off x="30492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31"/>
          <p:cNvSpPr/>
          <p:nvPr/>
        </p:nvSpPr>
        <p:spPr>
          <a:xfrm>
            <a:off x="5257800" y="1828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utoShape 32"/>
          <p:cNvSpPr/>
          <p:nvPr/>
        </p:nvSpPr>
        <p:spPr>
          <a:xfrm>
            <a:off x="304920" y="6019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685800" y="1714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рекционно-компенсатор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68580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филактическ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685800" y="2514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685800" y="2895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спит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685800" y="3276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вающ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6858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нностно-ориентацион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685800" y="4038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чебно-восстанови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685800" y="44197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фессионально-подготови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685800" y="4800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ворческ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68580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креативно-оздорови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68580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едонистическ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685800" y="5943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ртивная и соревнов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46"/>
          <p:cNvSpPr/>
          <p:nvPr/>
        </p:nvSpPr>
        <p:spPr>
          <a:xfrm>
            <a:off x="52578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47"/>
          <p:cNvSpPr/>
          <p:nvPr/>
        </p:nvSpPr>
        <p:spPr>
          <a:xfrm>
            <a:off x="525780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48"/>
          <p:cNvSpPr/>
          <p:nvPr/>
        </p:nvSpPr>
        <p:spPr>
          <a:xfrm>
            <a:off x="5257800" y="2590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49"/>
          <p:cNvSpPr/>
          <p:nvPr/>
        </p:nvSpPr>
        <p:spPr>
          <a:xfrm>
            <a:off x="52578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52"/>
          <p:cNvSpPr/>
          <p:nvPr/>
        </p:nvSpPr>
        <p:spPr>
          <a:xfrm>
            <a:off x="5638680" y="7621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53"/>
          <p:cNvSpPr/>
          <p:nvPr/>
        </p:nvSpPr>
        <p:spPr>
          <a:xfrm>
            <a:off x="3048120" y="7621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5638680" y="3276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етическ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релищ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5638680" y="2895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муникати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638680" y="2514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ти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5638680" y="2133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циализирующ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5638680" y="1752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манистическ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4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омпоненты (виды) АФК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9" name="Diagram 5"/>
          <p:cNvGrpSpPr/>
          <p:nvPr/>
        </p:nvGrpSpPr>
        <p:grpSpPr>
          <a:xfrm>
            <a:off x="1753200" y="1136520"/>
            <a:ext cx="5484600" cy="5109840"/>
            <a:chOff x="1753200" y="1136520"/>
            <a:chExt cx="5484600" cy="5109840"/>
          </a:xfrm>
        </p:grpSpPr>
        <p:sp>
          <p:nvSpPr>
            <p:cNvPr id="160" name="_s1028"/>
            <p:cNvSpPr/>
            <p:nvPr/>
          </p:nvSpPr>
          <p:spPr>
            <a:xfrm flipV="1">
              <a:off x="4495680" y="2414520"/>
              <a:ext cx="0" cy="63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_s1029"/>
            <p:cNvSpPr/>
            <p:nvPr/>
          </p:nvSpPr>
          <p:spPr>
            <a:xfrm>
              <a:off x="3732840" y="1136520"/>
              <a:ext cx="1524960" cy="127800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Адаптивно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физическо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воспитание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_s1030"/>
            <p:cNvSpPr/>
            <p:nvPr/>
          </p:nvSpPr>
          <p:spPr>
            <a:xfrm flipV="1">
              <a:off x="5154840" y="3053520"/>
              <a:ext cx="658440" cy="31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1031"/>
            <p:cNvSpPr/>
            <p:nvPr/>
          </p:nvSpPr>
          <p:spPr>
            <a:xfrm>
              <a:off x="5713560" y="2094120"/>
              <a:ext cx="1524240" cy="1277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Адаптивная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двигательная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рекреаци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32"/>
            <p:cNvSpPr/>
            <p:nvPr/>
          </p:nvSpPr>
          <p:spPr>
            <a:xfrm>
              <a:off x="5154840" y="4008960"/>
              <a:ext cx="658440" cy="32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1033"/>
            <p:cNvSpPr/>
            <p:nvPr/>
          </p:nvSpPr>
          <p:spPr>
            <a:xfrm>
              <a:off x="5713560" y="4011120"/>
              <a:ext cx="1524240" cy="127800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Экстремальны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виды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двигательной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активност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_s1034"/>
            <p:cNvSpPr/>
            <p:nvPr/>
          </p:nvSpPr>
          <p:spPr>
            <a:xfrm>
              <a:off x="4495680" y="4327200"/>
              <a:ext cx="2520" cy="63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_s1035"/>
            <p:cNvSpPr/>
            <p:nvPr/>
          </p:nvSpPr>
          <p:spPr>
            <a:xfrm>
              <a:off x="3732840" y="4968720"/>
              <a:ext cx="1524960" cy="1277640"/>
            </a:xfrm>
            <a:prstGeom prst="ellipse">
              <a:avLst/>
            </a:prstGeom>
            <a:solidFill>
              <a:srgbClr val="00e4a8">
                <a:alpha val="50000"/>
              </a:srgbClr>
            </a:solidFill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Адаптивная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физическая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реабилитаци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 flipH="1">
              <a:off x="3177720" y="4011120"/>
              <a:ext cx="661680" cy="31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_s1037"/>
            <p:cNvSpPr/>
            <p:nvPr/>
          </p:nvSpPr>
          <p:spPr>
            <a:xfrm>
              <a:off x="1753200" y="4011120"/>
              <a:ext cx="1524240" cy="1278000"/>
            </a:xfrm>
            <a:prstGeom prst="ellipse">
              <a:avLst/>
            </a:prstGeom>
            <a:solidFill>
              <a:srgbClr val="f8f870">
                <a:alpha val="50000"/>
              </a:srgbClr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Креативны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телесно-ориентированны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практики АФК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_s1038"/>
            <p:cNvSpPr/>
            <p:nvPr/>
          </p:nvSpPr>
          <p:spPr>
            <a:xfrm flipH="1" flipV="1">
              <a:off x="3177360" y="3053880"/>
              <a:ext cx="658440" cy="32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_s1039"/>
            <p:cNvSpPr/>
            <p:nvPr/>
          </p:nvSpPr>
          <p:spPr>
            <a:xfrm>
              <a:off x="1753200" y="2094120"/>
              <a:ext cx="1524240" cy="1277640"/>
            </a:xfrm>
            <a:prstGeom prst="ellipse">
              <a:avLst/>
            </a:prstGeom>
            <a:solidFill>
              <a:srgbClr val="f96f7c">
                <a:alpha val="50000"/>
              </a:srgbClr>
            </a:solidFill>
            <a:ln w="57240">
              <a:solidFill>
                <a:srgbClr val="f96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Адаптивный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спорт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_s1040"/>
            <p:cNvSpPr/>
            <p:nvPr/>
          </p:nvSpPr>
          <p:spPr>
            <a:xfrm>
              <a:off x="3732840" y="3053880"/>
              <a:ext cx="1524960" cy="1277640"/>
            </a:xfrm>
            <a:prstGeom prst="ellipse">
              <a:avLst/>
            </a:prstGeom>
            <a:solidFill>
              <a:srgbClr val="ffffff">
                <a:alpha val="59000"/>
              </a:srgbClr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Адаптивная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физическая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культура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141800"/>
                <a:gridCol w="50022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АФК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ности индивида с отклонениями в состоянии здоровья, которые удовлетворяет  в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аптивное физическое восп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ность в подготовке к жизни, в формировании положительного и активного отношения к 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аптивный спо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ность в самоактуализации, самореализации, коммуникативной деятельности и соци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аптивная двигательная рекре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ность в отдыхе, развлечении, смене вида деятельности, общ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аптивная физическая реабили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ность в лечении, восстановлении временно утраченных фун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вные телесно-ориентированные прак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ность в самоактуализации, творческом саморазвитии, самовыражении духовной сущ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тремальные виды двигательной актив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ность в риске, повышенном напря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AutoShape 110"/>
          <p:cNvSpPr/>
          <p:nvPr/>
        </p:nvSpPr>
        <p:spPr>
          <a:xfrm>
            <a:off x="3657600" y="137160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11"/>
          <p:cNvSpPr/>
          <p:nvPr/>
        </p:nvSpPr>
        <p:spPr>
          <a:xfrm>
            <a:off x="3657600" y="23623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12"/>
          <p:cNvSpPr/>
          <p:nvPr/>
        </p:nvSpPr>
        <p:spPr>
          <a:xfrm>
            <a:off x="3657600" y="335268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13"/>
          <p:cNvSpPr/>
          <p:nvPr/>
        </p:nvSpPr>
        <p:spPr>
          <a:xfrm>
            <a:off x="3657600" y="41911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114"/>
          <p:cNvSpPr/>
          <p:nvPr/>
        </p:nvSpPr>
        <p:spPr>
          <a:xfrm>
            <a:off x="3657600" y="518148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115"/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d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228600" y="152280"/>
            <a:ext cx="86868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нципы АФ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152280" y="1295280"/>
            <a:ext cx="24386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2666880" y="1295280"/>
            <a:ext cx="2819520" cy="533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ЩЕМЕТОДИЧЕС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5562720" y="1295280"/>
            <a:ext cx="3429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ПЕЦИАЛЬНОМЕТОДИЧЕС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716292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152280" y="2286000"/>
            <a:ext cx="243864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52280" y="3352680"/>
            <a:ext cx="2438640" cy="7621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прерывност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изкультурног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152280" y="4495680"/>
            <a:ext cx="24386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циализ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152280" y="6172200"/>
            <a:ext cx="243864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оритетной рол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кросоциу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152280" y="5334120"/>
            <a:ext cx="24386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гр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31"/>
          <p:cNvSpPr/>
          <p:nvPr/>
        </p:nvSpPr>
        <p:spPr>
          <a:xfrm>
            <a:off x="13716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7"/>
          <p:cNvSpPr/>
          <p:nvPr/>
        </p:nvSpPr>
        <p:spPr>
          <a:xfrm>
            <a:off x="152280" y="2286000"/>
            <a:ext cx="236232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манистическ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1371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45"/>
          <p:cNvSpPr/>
          <p:nvPr/>
        </p:nvSpPr>
        <p:spPr>
          <a:xfrm>
            <a:off x="13716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46"/>
          <p:cNvSpPr/>
          <p:nvPr/>
        </p:nvSpPr>
        <p:spPr>
          <a:xfrm>
            <a:off x="1371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47"/>
          <p:cNvSpPr/>
          <p:nvPr/>
        </p:nvSpPr>
        <p:spPr>
          <a:xfrm>
            <a:off x="13716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49"/>
          <p:cNvSpPr/>
          <p:nvPr/>
        </p:nvSpPr>
        <p:spPr>
          <a:xfrm>
            <a:off x="2743200" y="2286000"/>
            <a:ext cx="2666880" cy="533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уч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50"/>
          <p:cNvSpPr/>
          <p:nvPr/>
        </p:nvSpPr>
        <p:spPr>
          <a:xfrm>
            <a:off x="2743200" y="3048120"/>
            <a:ext cx="26668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знательност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актив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2743200" y="3886200"/>
            <a:ext cx="2666880" cy="533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гляд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52"/>
          <p:cNvSpPr/>
          <p:nvPr/>
        </p:nvSpPr>
        <p:spPr>
          <a:xfrm>
            <a:off x="2743200" y="4724280"/>
            <a:ext cx="2666880" cy="533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ступ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53"/>
          <p:cNvSpPr/>
          <p:nvPr/>
        </p:nvSpPr>
        <p:spPr>
          <a:xfrm>
            <a:off x="2743200" y="5562720"/>
            <a:ext cx="2666880" cy="5331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атич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2743200" y="6324480"/>
            <a:ext cx="2666880" cy="533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ч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61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62"/>
          <p:cNvSpPr/>
          <p:nvPr/>
        </p:nvSpPr>
        <p:spPr>
          <a:xfrm>
            <a:off x="41148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64"/>
          <p:cNvSpPr/>
          <p:nvPr/>
        </p:nvSpPr>
        <p:spPr>
          <a:xfrm>
            <a:off x="4114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65"/>
          <p:cNvSpPr/>
          <p:nvPr/>
        </p:nvSpPr>
        <p:spPr>
          <a:xfrm>
            <a:off x="41148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66"/>
          <p:cNvSpPr/>
          <p:nvPr/>
        </p:nvSpPr>
        <p:spPr>
          <a:xfrm>
            <a:off x="41148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41148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69"/>
          <p:cNvSpPr/>
          <p:nvPr/>
        </p:nvSpPr>
        <p:spPr>
          <a:xfrm>
            <a:off x="5562720" y="2286000"/>
            <a:ext cx="3429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агност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70"/>
          <p:cNvSpPr/>
          <p:nvPr/>
        </p:nvSpPr>
        <p:spPr>
          <a:xfrm>
            <a:off x="5562720" y="3124080"/>
            <a:ext cx="3429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фференциаци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индивидуализ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71"/>
          <p:cNvSpPr/>
          <p:nvPr/>
        </p:nvSpPr>
        <p:spPr>
          <a:xfrm>
            <a:off x="5562720" y="3886200"/>
            <a:ext cx="3429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рекционно-развивающ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72"/>
          <p:cNvSpPr/>
          <p:nvPr/>
        </p:nvSpPr>
        <p:spPr>
          <a:xfrm>
            <a:off x="5562720" y="4724280"/>
            <a:ext cx="3429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мпенсатор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3"/>
          <p:cNvSpPr/>
          <p:nvPr/>
        </p:nvSpPr>
        <p:spPr>
          <a:xfrm>
            <a:off x="5562720" y="5562720"/>
            <a:ext cx="34290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ета возрастных особен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74"/>
          <p:cNvSpPr/>
          <p:nvPr/>
        </p:nvSpPr>
        <p:spPr>
          <a:xfrm>
            <a:off x="5562720" y="6324480"/>
            <a:ext cx="3429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декватности, оптимальности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ариатив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81"/>
          <p:cNvSpPr/>
          <p:nvPr/>
        </p:nvSpPr>
        <p:spPr>
          <a:xfrm>
            <a:off x="41148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82"/>
          <p:cNvSpPr/>
          <p:nvPr/>
        </p:nvSpPr>
        <p:spPr>
          <a:xfrm>
            <a:off x="13716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83"/>
          <p:cNvSpPr/>
          <p:nvPr/>
        </p:nvSpPr>
        <p:spPr>
          <a:xfrm>
            <a:off x="71629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84"/>
          <p:cNvSpPr/>
          <p:nvPr/>
        </p:nvSpPr>
        <p:spPr>
          <a:xfrm>
            <a:off x="71629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85"/>
          <p:cNvSpPr/>
          <p:nvPr/>
        </p:nvSpPr>
        <p:spPr>
          <a:xfrm>
            <a:off x="71629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86"/>
          <p:cNvSpPr/>
          <p:nvPr/>
        </p:nvSpPr>
        <p:spPr>
          <a:xfrm>
            <a:off x="71629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87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8"/>
          <p:cNvSpPr/>
          <p:nvPr/>
        </p:nvSpPr>
        <p:spPr>
          <a:xfrm>
            <a:off x="716292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08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арактеристика Объект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Рисунок SmartArt 3" descr=""/>
          <p:cNvPicPr/>
          <p:nvPr/>
        </p:nvPicPr>
        <p:blipFill>
          <a:blip r:embed="rId1"/>
          <a:stretch/>
        </p:blipFill>
        <p:spPr>
          <a:xfrm>
            <a:off x="-6480" y="1182600"/>
            <a:ext cx="892512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арактеристика объек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Рисунок SmartArt 3" descr=""/>
          <p:cNvPicPr/>
          <p:nvPr/>
        </p:nvPicPr>
        <p:blipFill>
          <a:blip r:embed="rId1"/>
          <a:stretch/>
        </p:blipFill>
        <p:spPr>
          <a:xfrm>
            <a:off x="1182600" y="2011320"/>
            <a:ext cx="77724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арактеристика объек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Рисунок SmartArt 3" descr=""/>
          <p:cNvPicPr/>
          <p:nvPr/>
        </p:nvPicPr>
        <p:blipFill>
          <a:blip r:embed="rId1"/>
          <a:stretch/>
        </p:blipFill>
        <p:spPr>
          <a:xfrm>
            <a:off x="396720" y="1596960"/>
            <a:ext cx="8313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арактеристика объек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Рисунок SmartArt 3" descr=""/>
          <p:cNvPicPr/>
          <p:nvPr/>
        </p:nvPicPr>
        <p:blipFill>
          <a:blip r:embed="rId1"/>
          <a:stretch/>
        </p:blipFill>
        <p:spPr>
          <a:xfrm>
            <a:off x="426960" y="1566720"/>
            <a:ext cx="82663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Двигательные расстройств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Рисунок SmartArt 3" descr=""/>
          <p:cNvPicPr/>
          <p:nvPr/>
        </p:nvPicPr>
        <p:blipFill>
          <a:blip r:embed="rId1"/>
          <a:stretch/>
        </p:blipFill>
        <p:spPr>
          <a:xfrm>
            <a:off x="438120" y="907920"/>
            <a:ext cx="82677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сновные средства воздейств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3" name="Рисунок SmartArt 3" descr=""/>
          <p:cNvPicPr/>
          <p:nvPr/>
        </p:nvPicPr>
        <p:blipFill>
          <a:blip r:embed="rId1"/>
          <a:stretch/>
        </p:blipFill>
        <p:spPr>
          <a:xfrm>
            <a:off x="225360" y="1646280"/>
            <a:ext cx="870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Методические рекомендации по адаптивной физической культур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Аннотация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ические рекомендации призваны оказать помощь педагогам дополнительного образования получить сведения об особенностях методики адаптивной физической культуры в работе с детьми, имеющими нарушения зрения, интеллекта, последствия детского церебрального паралича, поражения спинного мозга, ампутации конечност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Здоровье – это вершина, на котору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ловек должен подняться сам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И. Брехман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Составител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.В. Лаптева – педагог дополнительного образования МОУДОД «Дом детского творчества» пгт. Усогор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6"/>
          <p:cNvSpPr txBox="1"/>
          <p:nvPr/>
        </p:nvSpPr>
        <p:spPr>
          <a:xfrm rot="5400000">
            <a:off x="-2201400" y="2828160"/>
            <a:ext cx="6172200" cy="1125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Методы АФК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2057400" y="304920"/>
            <a:ext cx="304812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ир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н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057400" y="1447920"/>
            <a:ext cx="3048120" cy="99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обуч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игательны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йстви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057400" y="2743200"/>
            <a:ext cx="304812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развит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х качест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способнос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2057400" y="4191120"/>
            <a:ext cx="30481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1752480" y="533520"/>
            <a:ext cx="457200" cy="304560"/>
          </a:xfrm>
          <a:custGeom>
            <a:avLst/>
            <a:gdLst>
              <a:gd name="textAreaLeft" fmla="*/ 568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30"/>
          <p:cNvSpPr/>
          <p:nvPr/>
        </p:nvSpPr>
        <p:spPr>
          <a:xfrm>
            <a:off x="1752480" y="1828800"/>
            <a:ext cx="457200" cy="304920"/>
          </a:xfrm>
          <a:custGeom>
            <a:avLst/>
            <a:gdLst>
              <a:gd name="textAreaLeft" fmla="*/ 568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31"/>
          <p:cNvSpPr/>
          <p:nvPr/>
        </p:nvSpPr>
        <p:spPr>
          <a:xfrm>
            <a:off x="1752480" y="3124080"/>
            <a:ext cx="457200" cy="304920"/>
          </a:xfrm>
          <a:custGeom>
            <a:avLst/>
            <a:gdLst>
              <a:gd name="textAreaLeft" fmla="*/ 568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AutoShape 32"/>
          <p:cNvSpPr/>
          <p:nvPr/>
        </p:nvSpPr>
        <p:spPr>
          <a:xfrm>
            <a:off x="1752480" y="4495680"/>
            <a:ext cx="457200" cy="304920"/>
          </a:xfrm>
          <a:custGeom>
            <a:avLst/>
            <a:gdLst>
              <a:gd name="textAreaLeft" fmla="*/ 568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33"/>
          <p:cNvSpPr/>
          <p:nvPr/>
        </p:nvSpPr>
        <p:spPr>
          <a:xfrm>
            <a:off x="4876920" y="3049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utoShape 34"/>
          <p:cNvSpPr/>
          <p:nvPr/>
        </p:nvSpPr>
        <p:spPr>
          <a:xfrm>
            <a:off x="4876920" y="83808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utoShape 35"/>
          <p:cNvSpPr/>
          <p:nvPr/>
        </p:nvSpPr>
        <p:spPr>
          <a:xfrm>
            <a:off x="4876920" y="14479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utoShape 37"/>
          <p:cNvSpPr/>
          <p:nvPr/>
        </p:nvSpPr>
        <p:spPr>
          <a:xfrm>
            <a:off x="4952880" y="426708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4876920" y="20574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utoShape 39"/>
          <p:cNvSpPr/>
          <p:nvPr/>
        </p:nvSpPr>
        <p:spPr>
          <a:xfrm>
            <a:off x="4572000" y="54864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5257800" y="152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сл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3"/>
          <p:cNvSpPr/>
          <p:nvPr/>
        </p:nvSpPr>
        <p:spPr>
          <a:xfrm>
            <a:off x="5257800" y="6858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нагляд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4"/>
          <p:cNvSpPr/>
          <p:nvPr/>
        </p:nvSpPr>
        <p:spPr>
          <a:xfrm>
            <a:off x="5257800" y="12952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 дробления и последовательного изуч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45"/>
          <p:cNvSpPr/>
          <p:nvPr/>
        </p:nvSpPr>
        <p:spPr>
          <a:xfrm>
            <a:off x="5181480" y="1523880"/>
            <a:ext cx="3749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46"/>
          <p:cNvSpPr/>
          <p:nvPr/>
        </p:nvSpPr>
        <p:spPr>
          <a:xfrm>
            <a:off x="5257800" y="1981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 целостного изуч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47"/>
          <p:cNvSpPr/>
          <p:nvPr/>
        </p:nvSpPr>
        <p:spPr>
          <a:xfrm>
            <a:off x="5334120" y="41911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атегические мето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8"/>
          <p:cNvSpPr/>
          <p:nvPr/>
        </p:nvSpPr>
        <p:spPr>
          <a:xfrm>
            <a:off x="5334120" y="45720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педагогического воздейств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49"/>
          <p:cNvSpPr/>
          <p:nvPr/>
        </p:nvSpPr>
        <p:spPr>
          <a:xfrm>
            <a:off x="2057400" y="5410080"/>
            <a:ext cx="304812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организац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заимодейств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дагога и занимаю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50"/>
          <p:cNvSpPr/>
          <p:nvPr/>
        </p:nvSpPr>
        <p:spPr>
          <a:xfrm>
            <a:off x="1752480" y="5867280"/>
            <a:ext cx="457200" cy="304920"/>
          </a:xfrm>
          <a:custGeom>
            <a:avLst/>
            <a:gdLst>
              <a:gd name="textAreaLeft" fmla="*/ 568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AutoShape 51"/>
          <p:cNvSpPr/>
          <p:nvPr/>
        </p:nvSpPr>
        <p:spPr>
          <a:xfrm>
            <a:off x="4952880" y="64008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AutoShape 52"/>
          <p:cNvSpPr/>
          <p:nvPr/>
        </p:nvSpPr>
        <p:spPr>
          <a:xfrm>
            <a:off x="4952880" y="48006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3"/>
          <p:cNvSpPr/>
          <p:nvPr/>
        </p:nvSpPr>
        <p:spPr>
          <a:xfrm>
            <a:off x="4952880" y="541008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54"/>
          <p:cNvSpPr/>
          <p:nvPr/>
        </p:nvSpPr>
        <p:spPr>
          <a:xfrm>
            <a:off x="4952880" y="586728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55"/>
          <p:cNvSpPr/>
          <p:nvPr/>
        </p:nvSpPr>
        <p:spPr>
          <a:xfrm>
            <a:off x="5486400" y="5257800"/>
            <a:ext cx="3429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56"/>
          <p:cNvSpPr/>
          <p:nvPr/>
        </p:nvSpPr>
        <p:spPr>
          <a:xfrm>
            <a:off x="5334120" y="533412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дивидуальные занят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7"/>
          <p:cNvSpPr/>
          <p:nvPr/>
        </p:nvSpPr>
        <p:spPr>
          <a:xfrm>
            <a:off x="5334120" y="57150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дивидуально-групповые занят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5334120" y="6262560"/>
            <a:ext cx="32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огрупповые занят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59"/>
          <p:cNvSpPr/>
          <p:nvPr/>
        </p:nvSpPr>
        <p:spPr>
          <a:xfrm rot="20878800">
            <a:off x="4952520" y="2666880"/>
            <a:ext cx="533520" cy="15264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AutoShape 60"/>
          <p:cNvSpPr/>
          <p:nvPr/>
        </p:nvSpPr>
        <p:spPr>
          <a:xfrm>
            <a:off x="4952880" y="2895480"/>
            <a:ext cx="533520" cy="15264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AutoShape 61"/>
          <p:cNvSpPr/>
          <p:nvPr/>
        </p:nvSpPr>
        <p:spPr>
          <a:xfrm>
            <a:off x="4952880" y="3124080"/>
            <a:ext cx="533520" cy="15264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62"/>
          <p:cNvSpPr/>
          <p:nvPr/>
        </p:nvSpPr>
        <p:spPr>
          <a:xfrm>
            <a:off x="4952880" y="3352680"/>
            <a:ext cx="533520" cy="15264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63"/>
          <p:cNvSpPr/>
          <p:nvPr/>
        </p:nvSpPr>
        <p:spPr>
          <a:xfrm rot="214200">
            <a:off x="4952880" y="3580920"/>
            <a:ext cx="533520" cy="15264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AutoShape 64"/>
          <p:cNvSpPr/>
          <p:nvPr/>
        </p:nvSpPr>
        <p:spPr>
          <a:xfrm rot="1186200">
            <a:off x="4952520" y="3809880"/>
            <a:ext cx="533520" cy="15264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66"/>
          <p:cNvSpPr/>
          <p:nvPr/>
        </p:nvSpPr>
        <p:spPr>
          <a:xfrm>
            <a:off x="5546880" y="2604960"/>
            <a:ext cx="3597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546880" y="2362320"/>
            <a:ext cx="3597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тор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вномер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мен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рваль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ов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ревнователь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f01"/>
                </a:solidFill>
                <a:latin typeface="Times New Roman"/>
              </a:rPr>
              <a:t>Методы формирования знан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сл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imes New Roman"/>
              </a:rPr>
              <a:t>Метод вербальной передачи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бъяснение, указание, анализ, просьба, беседа и т.п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imes New Roman"/>
              </a:rPr>
              <a:t>Метод невербальной передачи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мимика, жесты, артикуляция, дактильная речь и т.п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imes New Roman"/>
              </a:rPr>
              <a:t>Метод сопряженной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imes New Roman"/>
              </a:rPr>
              <a:t>Метод идеомоторной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43400" y="10666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нагляд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imes New Roman"/>
              </a:rPr>
              <a:t>Для лиц с нарушениями зрения</a:t>
            </a:r>
            <a:r>
              <a:rPr b="0" lang="ru-RU" sz="2000" spc="-1" strike="noStrike">
                <a:solidFill>
                  <a:srgbClr val="ffcf01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ные макеты тела, специальный инвентарь, звуковые сигналы, тренажеры, оптические сред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imes New Roman"/>
              </a:rPr>
              <a:t>Для лиц с нарушениями слух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каты, карточки с рисунками и схемами движений, световые, знаковые, звуковые сигнал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imes New Roman"/>
              </a:rPr>
              <a:t>Для лиц с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четание показа, объяснения и выполнения физического упраж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imes New Roman"/>
              </a:rPr>
              <a:t>Для лиц с поражением ОД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ьютерные игровые тренажеры, метод тандотерапии, видеофиль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2133720" y="838080"/>
            <a:ext cx="4856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5715000" y="838080"/>
            <a:ext cx="4856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Методы развития физических качеств и способност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1143000"/>
          <a:ext cx="9144000" cy="5835600"/>
        </p:xfrm>
        <a:graphic>
          <a:graphicData uri="http://schemas.openxmlformats.org/drawingml/2006/table">
            <a:tbl>
              <a:tblPr/>
              <a:tblGrid>
                <a:gridCol w="2806560"/>
                <a:gridCol w="63374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ое ка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 методические приемы, применяемые для развития кач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ых усилий, повторных усилий, динамических, изометрических, изокинетических усилий, «ударный», метод электростимуля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ные кач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ный, соревновательный, игровой, вариативный, сенсорны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носл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вномерный, переменный, повторный, интервальный, соревновательный, игров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ие активные и пассивные, статические и комбинированны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ординационные 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ы новизны в изучаемом упражнении, асимметричные движения, релаксационные, упражнения на реагирующую способность, на раздражение вестибулярного аппарата и 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Методы воспитания лич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ратег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 воспитывающей сре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 воспитывающе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 осмысления человеком себя в реальной жиз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едагогического воздейст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 убеж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 упраж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 педагогической оцен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133720" y="11430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6172200" y="11430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ягай Л.П.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Детская лечебная физическая культура: учебно-методическое пособие ТГПИ им. Д.И. Менделеева. – Тобольск,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оманова И. Д.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Физическая культура для школьников, отнесенных по состоянию здоровья к специальной медицинской группе «Просвещение». – М., 197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Шапкова Л.В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астные методики адаптивной физической культуры: учебное пособие, М., Советский спорт. 2003. – 464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ведение……………………………………………………………………………………………………………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 Адаптивная физическая культура………………………………………………………………….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. Основные понятия………………………………………………………………………………………….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. Реабилитация…………………………………………………………………………………………………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. Задачи АФК традиционные……………………………………………………………………………..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. Задачи АФК специальные……………………………………………………………………………….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. Функции АФК………………………………………………………………………………………………….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. Компоненты (виды) АФК……………………………………………………………………………….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. Потребности индивида………………………………………………………………………………….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. Принципы АФК……………………………………………………………………………………………..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 Характеристика Объекта с нарушением зрения………………………………………….. 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. Характеристика Объекта с нарушением слуха………………………………………………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. Характеристика Объекта с нарушением интеллекта…………………………………….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. Характеристика Объекта с нарушением ОДА……………………………………………….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. Двигательные расстройства………………………………………………………………………..1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. Методы АФК……………………………………………………………………………………………….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. Методы формирования знаний……………………………………………………………………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7. Методы воспитания личности……………………………………………………………………..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8. Литература…………………………………………………………………………………………………2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Адаптивная физическая культура рассматривается как часть общей культуры, подсистема физической культуры, одна из сфер социальной деятельности, направленная на удовлетворение потребности лиц с ограниченными возможностями в двигательной активности, восстановлении, укреплении и поддержании здоровья, личностного развития, самореализации и интеграции в общество.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ля детей-инвалидов и лиц с ограниченными возможностями здоровья характерны снижение тонуса коры головного мозга, что приводит к неравномерному напряжению мышц; скованности в движениях, встречаются «стертые» двигательные нарушения. Занятия по адаптивной физкультуре  способствует улучшению их физического состояния, коррекции нарушений двигательной сферы и в целом социализации личности детей-инвалидов и лиц с ограниченными возможностями здоровь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Методика АФК имеет существенные отличия, обусловленные аномальным развитием физической и психической сферы ребенк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Закон Российской Федерации «Об образовании» (1996) выдвинул на первый план проблему внедрения в практику работы образовательных учреждений комплекса мер, направленных на своевременное обеспечение каждому ребенку адекватных возрасту условий для развития и формирования полноценной личности, включая физкультурное воспитание. Решение этой проблемы приобретает особую социальную и педагогическую значимость в работе с детьми имеющими нарушения в развит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e26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Адаптивная физическая культур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вид физической культуры человека с отклонениями в состоянии здоровь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аксимально возможное развитие жизнеспособности человека за счет оптимального режима функционирования его телесно-двигательных характерист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сновные по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изация (вовлечение в общественную жизнь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грация (оптим. связи м/у соц. институтам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рекция (исправле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пенсация (замеще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филактика (избега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билитация (восстановле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19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Реабилита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Рисунок SmartArt 4" descr=""/>
          <p:cNvPicPr/>
          <p:nvPr/>
        </p:nvPicPr>
        <p:blipFill>
          <a:blip r:embed="rId1"/>
          <a:stretch/>
        </p:blipFill>
        <p:spPr>
          <a:xfrm>
            <a:off x="225360" y="853920"/>
            <a:ext cx="8699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АФ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Рисунок SmartArt 4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АФ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Рисунок SmartArt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Rochev</cp:lastModifiedBy>
  <dcterms:modified xsi:type="dcterms:W3CDTF">2013-08-10T16:45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