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2.jpeg" ContentType="image/jpeg"/>
  <Override PartName="/ppt/media/image14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13BF-A8A4-48FF-AF08-4BEBF3E6A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1473-9DEE-4879-A66A-0C8B130B97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C4D1C-45CA-4A62-9360-88E0BC48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BC9BF-3640-4EF3-9A0D-DC753DDD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132CE-4A86-41FA-9175-F0904BAC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06C7B1-1B99-44AB-A11E-FF830C82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9B5D0-392E-4874-93AA-0471BE3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C7EC64-D2F0-458E-9034-2A6B9F81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EC00C-A263-4A8D-B9A2-4844C7E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85ADD-AACD-4EE3-BBFA-997B919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68315-B429-41DB-8BA3-3E9B9468A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33A3-8CC9-48DD-B993-342033B1B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3CE3-2B01-4177-987D-E7351D527F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B2B7-22F9-45AA-9E50-45357A5A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ED6F-3407-4D6F-93D6-5B311DF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E776-3440-4CCC-A1C6-069D41A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49FC7-0164-4002-9A3C-9CCAF5FD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B6C3-F23D-4C40-90CE-6FCDE79C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5E95-A053-488B-8236-2B6D0E2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FE42-83E9-4411-8346-A5D5470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BFF6-BBDF-45C2-87C2-5DAEEBA9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E75B-30E3-4669-8B61-98A3A5A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A0AC-D5C5-482C-AFDE-B3A221D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FDD8-90A0-4F08-B45B-31BC4F01E0B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1D0B-3E99-4A64-855D-CF160B4F1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E1872-EEED-4618-96CA-2402F30FE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FF802-3A19-4624-B8E8-9203083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F8916-7E0D-4F92-9BD0-961E5EF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B6D3B-4A50-4376-A029-ECD68BC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2135A-EC82-46D9-9903-03BB117D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B2C9A-3F84-4C33-A312-47B0F677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2319F-8610-43B4-A64F-157F761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BB84F-1228-4E12-ABF7-0CBAAC54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D751F-C4B9-4E0F-97DE-046F908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F761-3AF7-405D-A1DC-CC1FB5B20D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2274C-7587-41A3-A8D2-8A164C8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141DC-6647-4D0B-A529-AE85A67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F1768-53F1-4945-ADE8-6FC972009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E2E559-295D-414D-928F-3FF261D24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2547B-159E-4C95-A937-8E90CB3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76CEA-BCB5-43DB-9F62-816430A3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69DF1B-1049-43F9-AC17-31645D1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C5C6E-0C4C-4E57-A45E-D134151A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871C5-C0ED-4EFF-B171-2ED7EFEE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BE499D-323C-493F-82D7-20A949FF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E92C-CF08-47C4-9DF8-0BA8B4DC32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18EF1-62BB-4CF3-B5D0-33EF031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CCEC2-E162-47C4-92DB-6604184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26470-FFF8-4B58-954E-2B7855A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9CACE-5F9B-4F3F-811A-9626766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0E73C9-6A0F-48D5-809A-AC874FBAE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6652-97BB-4E9D-B6B7-25418FE22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63C9-8C61-4262-A30D-2AE9E3A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69100-F215-403B-8BA5-E563601D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0383D-31C1-41DB-B156-308022F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6524-3EFB-4611-99FF-38D50A3E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3832-457A-4F44-8494-2F76490824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46BFF-01E7-4F6F-88E5-A68E4E9F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DB0F-ED40-496B-BEBB-3C021C24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CC11-1A39-485C-A381-EFDC2B5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79277-F03A-4508-B878-C071983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6326-2557-4B7D-B8FA-419FA9BD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C858-106B-4081-A363-976BB3B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EE9F-DD75-4B92-B109-65D759EF9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674F-82AC-4160-BF08-CCC3849220E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D616-97AF-46C2-8888-FC5C0172DB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B468-4A98-4C31-903F-EF157DB7FC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D2F8-A25C-40FC-B35E-06AEE599A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8B97-D288-46A2-841D-EEC80C9AC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2767-9FF1-4727-A8C0-5A6D25363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21F8-403E-4D21-A9D9-70ED4F8B9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0455-3BBC-4EC1-8E40-1CBF66F79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A084-62F7-4985-B2AC-B2BEBB912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275B-CCF0-4F89-9ABC-C7C3B37C15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21122-7AC6-491F-A911-C35C6B962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803E-91DD-42B0-9878-39E48D6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6E16A-935F-4C18-AAF6-E32E991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FDBCF-40B4-48B0-9408-B76277C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D027-9CBF-4690-89AF-8C9A5C59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B3E3-8FF8-41C4-903D-97CD634E88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8C5A-9482-4AA6-96BA-47476DDE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38BA-E7BE-4EFD-B517-CB93733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3AAC3-9176-4DCF-96D3-020CB27A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D8415-3880-4D5C-968D-EBE936E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1ABD-58BF-407B-96FE-47D36CA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BA935-5116-49C5-AEA8-0CE06890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F6918-6EC6-4603-BBCA-279F91934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A087-AD0D-4E59-8C89-7E90BC285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8D7-041A-435C-89F1-8F398BFD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BAE-5163-445E-998C-245C180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1DF8-01A4-4D5F-A535-7937288587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607-4C80-4BA3-870B-835DEE6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501-B048-4AB2-BA0E-6E4A6EDF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976-02AC-44E4-837B-F8EA6D40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2131-11E9-413C-AF5F-A0423F8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876F-4712-4AA8-9A3E-14C0B4B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3278-AE4C-43A3-A422-616A5C6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B4C8-A9EF-4492-B4DC-AF6EB28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AEC4-6245-41F3-AF7E-E14CC5A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64F-290B-4E1D-A135-6FB9A3166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5F14B-D07C-4C93-A6EA-997FC1614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8343-0DD0-41CC-90F0-2C533B2F30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AA01E-5655-41F5-9819-8A271CB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7FBE7-F3F7-404E-84B6-6087521F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19463-5B99-43E6-A2C1-2BB331F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8285F-D74D-4F58-8EE9-A09E50BB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98707-CD72-48F7-94E1-AE0694E2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4A1B9-8843-478A-A5EA-C731927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54B2F-E662-4676-BA95-00C42A22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B44D3-C226-4BC9-926A-420D1C6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EDE73-D5D4-48D7-8364-FD4CB5E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4BAAE-C4F6-4E90-8723-B30D0AE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17BE-213D-4EF4-8CCD-91A6E059B3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66F5E-1E0D-4C45-9092-70F5EB399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80B0A-1300-48BA-BBB7-A3A72B0F2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D44EF-995E-493E-8248-6622AB96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95141-9F50-4C27-8A5A-6B1B34D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5D386-FD85-4AB4-A0D8-7ACC0DD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9A12D-D269-40F7-8A3D-8EED31C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13C23-EC70-4249-B103-CB1AF38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91FFE-C322-47DB-8F93-11D9AE1D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F0A7C-35B0-46F5-B473-59E0B3EE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2250E-4DBC-4BDE-BF13-88181768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77C2-02D7-4E8E-BD8E-B092AA7F78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DA78B-B38A-422E-85CB-AA433C60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F05AB-69AE-4A68-98FE-D5AF17A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47CE5-1FB4-45B2-8F53-5090BC5DD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CD8F-4A19-447C-8EB6-FAC82061B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814E-C4B1-4191-AB03-C3A6984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2E01-9F31-4A4B-A5F6-607E83F4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E077-D2C9-4457-890C-64A15D8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670F-C043-4E3D-9FAF-19894199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53BB-781A-4CF4-89AD-03CD6C20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6627-1554-4B86-B20E-6689281B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97CF-9A5C-4C3A-9F46-1429866987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ACD8-4A29-44BB-8146-CF637E9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05B0-962E-4C06-8A2E-4756E72C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CD74-90C6-4C66-B2EE-7F291671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AF1F-E4AA-46F2-8909-AE49331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CABF-035F-4A47-BAAD-57F6A64C8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06052-D4BF-4D45-B3A1-9D8FEED6DA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1557D-5779-42A5-A157-204D9F1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AF21D-71E7-49A1-93D3-BC96779A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9DC7E-B3AC-4EC8-B462-534B1C97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DD08D-C739-403E-A59E-0F979612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BA22-0B90-48C4-A240-797B77F2C3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1DE84-FC92-48E0-9AF9-7A750414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6FB20-1A8C-4E36-9E72-262BB49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8A665-5383-475D-8470-7E3B602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FDE6D-51DC-4A07-B95A-29F16D6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4317840"/>
            <a:ext cx="8685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8F6C2-2FD1-4151-BFC1-71EB509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4880" y="4317840"/>
            <a:ext cx="423792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057D0-E338-41EF-BFDC-04549B6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108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7960" y="4317840"/>
            <a:ext cx="27964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5E3F1-44A5-4989-9279-C10202E9C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7DD1A-037E-453B-8C62-F97575C71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271D80-15C6-4860-A21C-CBCAA1E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F9B04-8196-4E33-948E-C995A62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4BA90-C8CE-4E76-896D-581B1FBE028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415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67A989-38C5-48E6-98F2-2F4364DC7C9C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754F3AA-5BA3-42CB-A544-93379C7A9645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506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B9551F-25D6-481E-B340-4AD2BDEAF744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903E9D6-0BDA-4885-BC00-48CC7F11CD3D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59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C0BEA52-34ED-4B86-BFE7-B6898B2BE2D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783B02E-10FE-49EC-A600-11C46A93C59F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0AAEBBC-7792-42C2-9B3C-5306BB9D7318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596315F-1CA0-49F5-8B7F-DF90AF0111D9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C91C1C2-6732-430F-8C49-B0EA42072A37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2D9A01-0318-4A75-B469-2BFD16507B22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52A07ED-1936-4DC5-9535-DCEB2F07BDA5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37B31E-FDAB-49BB-858A-7DE965A2E62A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652320" y="2036880"/>
            <a:ext cx="7947000" cy="2027160"/>
            <a:chOff x="652320" y="2036880"/>
            <a:chExt cx="7947000" cy="2027160"/>
          </a:xfrm>
        </p:grpSpPr>
        <p:pic>
          <p:nvPicPr>
            <p:cNvPr id="638" name="" descr=""/>
            <p:cNvPicPr/>
            <p:nvPr/>
          </p:nvPicPr>
          <p:blipFill>
            <a:blip r:embed="rId2"/>
            <a:stretch/>
          </p:blipFill>
          <p:spPr>
            <a:xfrm>
              <a:off x="652320" y="2036880"/>
              <a:ext cx="794700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52320" y="2036880"/>
              <a:ext cx="794700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65240" y="268200"/>
            <a:ext cx="8526240" cy="1546200"/>
            <a:chOff x="165240" y="268200"/>
            <a:chExt cx="8526240" cy="1546200"/>
          </a:xfrm>
        </p:grpSpPr>
        <p:pic>
          <p:nvPicPr>
            <p:cNvPr id="641" name="" descr=""/>
            <p:cNvPicPr/>
            <p:nvPr/>
          </p:nvPicPr>
          <p:blipFill>
            <a:blip r:embed="rId2"/>
            <a:stretch/>
          </p:blipFill>
          <p:spPr>
            <a:xfrm>
              <a:off x="165240" y="268200"/>
              <a:ext cx="852624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165240" y="268200"/>
              <a:ext cx="852624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3527280" cy="3384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4500720" y="1197000"/>
            <a:ext cx="3813120" cy="33829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835280" y="4941720"/>
            <a:ext cx="618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Башҡорт балы донъяла иң шифал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иң файҙалы бал иҫәплән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285840" y="268200"/>
            <a:ext cx="8405640" cy="1303560"/>
            <a:chOff x="285840" y="268200"/>
            <a:chExt cx="8405640" cy="1303560"/>
          </a:xfrm>
        </p:grpSpPr>
        <p:pic>
          <p:nvPicPr>
            <p:cNvPr id="647" name="" descr=""/>
            <p:cNvPicPr/>
            <p:nvPr/>
          </p:nvPicPr>
          <p:blipFill>
            <a:blip r:embed="rId2"/>
            <a:stretch/>
          </p:blipFill>
          <p:spPr>
            <a:xfrm>
              <a:off x="285840" y="268200"/>
              <a:ext cx="840564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285840" y="268200"/>
              <a:ext cx="840564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4896000" cy="42181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5975280" y="1209600"/>
            <a:ext cx="2952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Был башҡорт халыҡ музыка ҡоралында йәше лә, ҡарты ла уйнай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e-BY" sz="2600" spc="-1" strike="noStrike">
                <a:solidFill>
                  <a:srgbClr val="000000"/>
                </a:solidFill>
                <a:latin typeface="a_Helver Bashkir"/>
              </a:rPr>
              <a:t>Данлыҡлы ҡурайсылар</a:t>
            </a:r>
            <a:r>
              <a:rPr b="1" i="1" lang="be-BY" sz="2800" spc="-1" strike="noStrike">
                <a:solidFill>
                  <a:srgbClr val="000000"/>
                </a:solidFill>
                <a:latin typeface="a_Helver Bashkir"/>
              </a:rPr>
              <a:t>: </a:t>
            </a: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И.Дилмөхәмәтов, Й.Иҫәнбаев, А.Айытҡол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165240" y="268200"/>
            <a:ext cx="8526240" cy="1546200"/>
            <a:chOff x="165240" y="268200"/>
            <a:chExt cx="8526240" cy="1546200"/>
          </a:xfrm>
        </p:grpSpPr>
        <p:pic>
          <p:nvPicPr>
            <p:cNvPr id="652" name="" descr=""/>
            <p:cNvPicPr/>
            <p:nvPr/>
          </p:nvPicPr>
          <p:blipFill>
            <a:blip r:embed="rId2"/>
            <a:stretch/>
          </p:blipFill>
          <p:spPr>
            <a:xfrm>
              <a:off x="165240" y="268200"/>
              <a:ext cx="852624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165240" y="268200"/>
              <a:ext cx="852624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1800360" y="1224000"/>
            <a:ext cx="2576520" cy="38163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5111640" y="1152360"/>
            <a:ext cx="2737080" cy="3830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368360" y="5138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Ул башҡорт халҡының борон-борондан, телдән-телгә күсеп, һаҡланып килгән ҡомартҡы. Эпос 4576 шиғри юлдан 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"/>
          <p:cNvGrpSpPr/>
          <p:nvPr/>
        </p:nvGrpSpPr>
        <p:grpSpPr>
          <a:xfrm>
            <a:off x="255600" y="268200"/>
            <a:ext cx="8435880" cy="1303560"/>
            <a:chOff x="255600" y="268200"/>
            <a:chExt cx="8435880" cy="130356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255600" y="268200"/>
              <a:ext cx="843588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255600" y="268200"/>
              <a:ext cx="843588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509760" y="1440000"/>
            <a:ext cx="3954240" cy="2952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4"/>
          <a:stretch/>
        </p:blipFill>
        <p:spPr>
          <a:xfrm>
            <a:off x="4967280" y="1440000"/>
            <a:ext cx="3598920" cy="2952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192320" y="4680000"/>
            <a:ext cx="689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Башҡортостандың Бөрйән районын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Урынлашҡан, палеолит эпохаһын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йәшәгән тәүтормош кешеләр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тураһында һөйлә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255600" y="268200"/>
            <a:ext cx="8435880" cy="1303560"/>
            <a:chOff x="255600" y="268200"/>
            <a:chExt cx="8435880" cy="130356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255600" y="268200"/>
              <a:ext cx="843588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255600" y="268200"/>
              <a:ext cx="843588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2968560" y="1006560"/>
            <a:ext cx="4951440" cy="37447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1187280" y="4896000"/>
            <a:ext cx="7410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_Helver Bashkir"/>
              </a:rPr>
              <a:t>Шифахана Салауат районында урынлашҡан. Тауҙан бер туҡтауһыҙэҫе пар сыға. Пар быуын ауырыуҙарын дауалауҙа файҙаланы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255600" y="-6480"/>
            <a:ext cx="8373960" cy="1320840"/>
            <a:chOff x="255600" y="-6480"/>
            <a:chExt cx="8373960" cy="1320840"/>
          </a:xfrm>
        </p:grpSpPr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255600" y="-6480"/>
              <a:ext cx="83739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255600" y="-6480"/>
              <a:ext cx="837396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979640" y="907920"/>
            <a:ext cx="5618160" cy="42037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020600" y="5300640"/>
            <a:ext cx="73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Красноусол минераль сығанаҡтары Ғафу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Районында урынлашҡан. Шифахан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ашҡаҙан-эсәк ауырыуҙарын дауалайҙ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480960" y="219240"/>
            <a:ext cx="8435880" cy="1137960"/>
            <a:chOff x="480960" y="219240"/>
            <a:chExt cx="8435880" cy="1137960"/>
          </a:xfrm>
        </p:grpSpPr>
        <p:pic>
          <p:nvPicPr>
            <p:cNvPr id="674" name="" descr=""/>
            <p:cNvPicPr/>
            <p:nvPr/>
          </p:nvPicPr>
          <p:blipFill>
            <a:blip r:embed="rId2"/>
            <a:stretch/>
          </p:blipFill>
          <p:spPr>
            <a:xfrm>
              <a:off x="480960" y="219240"/>
              <a:ext cx="84358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480960" y="219240"/>
              <a:ext cx="843588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216000" y="1413000"/>
            <a:ext cx="5111640" cy="43560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5398920" y="1511280"/>
            <a:ext cx="36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Рәсәйҙә ат һынындағы иң ҙур һәйкәл, бейеклеге – 9,8 мет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ауырлығы – 40 тонна. Һөйкәлдең  авторы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Сосланбек Таваси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Һәйкәл 1967 йылда асы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8:40:24Z</dcterms:created>
  <dc:creator>user2</dc:creator>
  <dc:description/>
  <dc:language>en-US</dc:language>
  <cp:lastModifiedBy>User</cp:lastModifiedBy>
  <dcterms:modified xsi:type="dcterms:W3CDTF">2012-01-16T17:35:29Z</dcterms:modified>
  <cp:revision>7</cp:revision>
  <dc:subject/>
  <dc:title>БашќортостандыҐ ете мњћжизљўе</dc:title>
</cp:coreProperties>
</file>