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97D9-F5B2-4D50-A9AE-C821A18FAA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AC8E-AD92-4C57-9A1B-47DB05E2B231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8627-29CB-48B6-BD9B-50A91D0AE8CE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94CA-1FB9-41DB-A282-8B44389BDF4A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75B9-7664-43B5-96C0-F3B5E40D337E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DFE8-EDF2-41D7-B431-B9ACC926D77A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9E48-4480-44CF-9EB4-B3A92FA634F9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0405-8C0F-42E0-A6AE-7B74641482C2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92B9-9F7A-475C-A3AF-127AB5731960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D73B-81AC-4DCD-9157-CC88EAF52E0F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6797-290A-4BF3-AE60-A878516F319C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AE31-6D9A-43D0-A86E-1CE01CFAB598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49BC-046A-4444-A538-AE4709EAAB25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9845-E75F-4DC7-9591-E87D4F158739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ем слайде – карта. Обозначить только наступление войск 15 ра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8B9C-0B30-4CD6-BEC7-2FD904185AFF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0234-8039-47D5-959A-F416DA401EA9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F839-322A-47F9-9C83-DD6DBABAB718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9B87-47C8-4818-9663-DD1A84B1C999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1FBF-2A26-46AD-B9B0-8352D5AC4F2B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D96A-58D9-42F0-BB39-F333A64862A5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следующем слайде карта убрать вид с экрана и прощёлкать 15 ра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8E1D-F77D-43EA-9E17-1EE3C90C6887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E035-AEF1-4553-B4F7-FD98D87AC637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A279-BFF5-42A3-8D49-D678551AB67B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0EF5-A80D-4E4D-A0D8-5C27B90FC283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940B-7E46-4336-954A-F4C689A55992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1082-1993-4768-BB94-D8DE69EFDFAC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12B5-6D89-4008-9C3D-830258ACA2E0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64E6-3D55-467E-B58C-02964C2DC580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C9B4-D612-4EE9-80E5-4A69C61E3641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8B28-5B89-430D-80AD-BF14085D0E21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BEE-F510-43F1-B654-FC02EFC1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76E-172B-4837-89D5-1B500A1B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82B-4406-4FF0-8138-1964C368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F13-38C3-4320-B353-A45E4FBD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8A94-7677-45FB-91BF-FB255FEF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B03C-CA49-4847-952B-92142186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4924-C712-4F3B-B67A-C1EC66A3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E8F3-6F43-404A-A843-AB1F54A4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CB7F-553B-4C90-982C-0C8CE0D3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BADE-09E1-4DF7-B355-24AD9A0D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A855-B15B-4691-8259-C46A6285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914-C5B1-4076-B4E0-881E11B0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7510-E08E-4D0E-AB86-5553EC0C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8CD6-09F1-4474-9A1E-C090CF08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96FC-4C66-40F4-8DF4-7300BD56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781A-58FF-464F-A085-745CE771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5676-6F74-44A2-9DE3-041B7ABB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D3E1-7A87-41B1-A2D3-50335F9C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8C9-A374-45B0-B2B6-6B96A654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8AE-DF60-412C-BFAC-60F7651C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B800-9E5F-4B9A-9169-3E3F8FDF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21D-6A57-4EE0-BF7B-8925A5FC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063-C2B5-41AD-9668-ED8F8D93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914-2982-4671-AB14-94E8B23C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9c004e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694480"/>
              <a:gd name="textAreaBottom" fmla="*/ 5694840 h 5694480"/>
            </a:gdLst>
            <a:ahLst/>
            <a:rect l="textAreaLeft" t="textAreaTop" r="textAreaRight" b="textAreaBottom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069920"/>
              <a:gd name="textAreaBottom" fmla="*/ 1070280 h 1069920"/>
            </a:gdLst>
            <a:ahLst/>
            <a:rect l="textAreaLeft" t="textAreaTop" r="textAreaRight" b="textAreaBottom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56002b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5335560"/>
              <a:gd name="textAreaBottom" fmla="*/ 5335920 h 5335560"/>
            </a:gdLst>
            <a:ahLst/>
            <a:rect l="textAreaLeft" t="textAreaTop" r="textAreaRight" b="textAreaBottom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220011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055680"/>
              <a:gd name="textAreaBottom" fmla="*/ 3056040 h 3055680"/>
            </a:gdLst>
            <a:ahLst/>
            <a:rect l="textAreaLeft" t="textAreaTop" r="textAreaRight" b="textAreaBottom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56002b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>
              <a:gd name="textAreaLeft" fmla="*/ 0 w 6237360"/>
              <a:gd name="textAreaRight" fmla="*/ 6237720 w 623736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220011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DF40-49EB-4927-9449-E49E22A90A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9c004e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694480"/>
              <a:gd name="textAreaBottom" fmla="*/ 5694840 h 5694480"/>
            </a:gdLst>
            <a:ahLst/>
            <a:rect l="textAreaLeft" t="textAreaTop" r="textAreaRight" b="textAreaBottom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069920"/>
              <a:gd name="textAreaBottom" fmla="*/ 1070280 h 1069920"/>
            </a:gdLst>
            <a:ahLst/>
            <a:rect l="textAreaLeft" t="textAreaTop" r="textAreaRight" b="textAreaBottom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56002b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5335560"/>
              <a:gd name="textAreaBottom" fmla="*/ 5335920 h 5335560"/>
            </a:gdLst>
            <a:ahLst/>
            <a:rect l="textAreaLeft" t="textAreaTop" r="textAreaRight" b="textAreaBottom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220011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055680"/>
              <a:gd name="textAreaBottom" fmla="*/ 3056040 h 3055680"/>
            </a:gdLst>
            <a:ahLst/>
            <a:rect l="textAreaLeft" t="textAreaTop" r="textAreaRight" b="textAreaBottom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56002b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>
              <a:gd name="textAreaLeft" fmla="*/ 0 w 6237360"/>
              <a:gd name="textAreaRight" fmla="*/ 6237720 w 623736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220011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A717-52BD-4518-BDDB-DC28126217C2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00"/>
                </a:solidFill>
                <a:latin typeface="Times New Roman"/>
              </a:rPr>
              <a:t>Битва за Москву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Женщины на охране город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женщины на охране родного города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Танки, построенные на средства московских колхозников.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Picture 5" descr="танки построенный на средства московских колхозников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Отцы на фронт – дети на заводы!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4" descr="отцы на фронт - дети на заводы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4240" y="-53496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Изготовление снарядо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4" descr="ВОВ6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ошив одежды для солда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4" descr="пошив одежды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Ремонт обув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571680"/>
            <a:ext cx="75294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icture 4" descr="ремонт обуви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Метрополитен стал бомбоубежищем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Picture 4" descr="метро ВОВ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Химическая тревога на завод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4" descr="Химическая тревога на заводе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Охрана московского неб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4" descr="охрана неба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Запись добровольцев на фрон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4" descr="запись добровольцев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66ff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арад на Красной площад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Picture 4" descr="парад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Times New Roman"/>
              </a:rPr>
              <a:t>Велика Россия, а отступать некуда.</a:t>
            </a:r>
            <a:br>
              <a:rPr sz="6000"/>
            </a:br>
            <a:r>
              <a:rPr b="0" lang="ru-RU" sz="6000" spc="-1" strike="noStrike">
                <a:solidFill>
                  <a:srgbClr val="ffcc00"/>
                </a:solidFill>
                <a:latin typeface="Times New Roman"/>
              </a:rPr>
              <a:t>Позади Москва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Бой за подмосковную деревню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4" descr="бой за деревню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Так выглядело подмосковье после боёв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Picture 7" descr="подмосковье"/>
          <p:cNvPicPr/>
          <p:nvPr/>
        </p:nvPicPr>
        <p:blipFill>
          <a:blip r:embed="rId1"/>
          <a:stretch/>
        </p:blipFill>
        <p:spPr>
          <a:xfrm>
            <a:off x="4786200" y="1785960"/>
            <a:ext cx="4357800" cy="2357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подмосковье4"/>
          <p:cNvPicPr/>
          <p:nvPr/>
        </p:nvPicPr>
        <p:blipFill>
          <a:blip r:embed="rId2"/>
          <a:stretch/>
        </p:blipFill>
        <p:spPr>
          <a:xfrm>
            <a:off x="208080" y="1731960"/>
            <a:ext cx="3935160" cy="2489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подмосковье2"/>
          <p:cNvPicPr/>
          <p:nvPr/>
        </p:nvPicPr>
        <p:blipFill>
          <a:blip r:embed="rId3"/>
          <a:stretch/>
        </p:blipFill>
        <p:spPr>
          <a:xfrm>
            <a:off x="250920" y="4437000"/>
            <a:ext cx="3892320" cy="2421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д"/>
          <p:cNvPicPr/>
          <p:nvPr/>
        </p:nvPicPr>
        <p:blipFill>
          <a:blip r:embed="rId4"/>
          <a:stretch/>
        </p:blipFill>
        <p:spPr>
          <a:xfrm>
            <a:off x="4643280" y="4286160"/>
            <a:ext cx="454032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Picture 4" descr="сражение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4" descr="3в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4" descr="жестокая была битв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667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анков – 77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Автомашин – 53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Орудий – 1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Миномётов – 11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улемётов – 22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отери противника убитыми – 55170 челове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143640" y="1981080"/>
            <a:ext cx="18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84" name="AutoShape 4"/>
          <p:cNvSpPr/>
          <p:nvPr/>
        </p:nvSpPr>
        <p:spPr>
          <a:xfrm rot="3264000">
            <a:off x="2581920" y="1281600"/>
            <a:ext cx="1405080" cy="216000"/>
          </a:xfrm>
          <a:custGeom>
            <a:avLst/>
            <a:gdLst>
              <a:gd name="textAreaLeft" fmla="*/ 175320 w 1405080"/>
              <a:gd name="textAreaRight" fmla="*/ 1229760 w 1405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 rot="2776200">
            <a:off x="1492560" y="963000"/>
            <a:ext cx="1548000" cy="142920"/>
          </a:xfrm>
          <a:custGeom>
            <a:avLst/>
            <a:gdLst>
              <a:gd name="textAreaLeft" fmla="*/ 193320 w 1548000"/>
              <a:gd name="textAreaRight" fmla="*/ 1354680 w 154800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AutoShape 6"/>
          <p:cNvSpPr/>
          <p:nvPr/>
        </p:nvSpPr>
        <p:spPr>
          <a:xfrm rot="2668800">
            <a:off x="1331640" y="1413000"/>
            <a:ext cx="1547640" cy="142920"/>
          </a:xfrm>
          <a:custGeom>
            <a:avLst/>
            <a:gdLst>
              <a:gd name="textAreaLeft" fmla="*/ 193320 w 1547640"/>
              <a:gd name="textAreaRight" fmla="*/ 1354320 w 154764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AutoShape 7"/>
          <p:cNvSpPr/>
          <p:nvPr/>
        </p:nvSpPr>
        <p:spPr>
          <a:xfrm rot="1377000">
            <a:off x="1547280" y="1915920"/>
            <a:ext cx="1548000" cy="142560"/>
          </a:xfrm>
          <a:custGeom>
            <a:avLst/>
            <a:gdLst>
              <a:gd name="textAreaLeft" fmla="*/ 193320 w 1548000"/>
              <a:gd name="textAreaRight" fmla="*/ 1354680 w 1548000"/>
              <a:gd name="textAreaTop" fmla="*/ 35640 h 142560"/>
              <a:gd name="textAreaBottom" fmla="*/ 106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AutoShape 8"/>
          <p:cNvSpPr/>
          <p:nvPr/>
        </p:nvSpPr>
        <p:spPr>
          <a:xfrm rot="6617400">
            <a:off x="3292560" y="1538640"/>
            <a:ext cx="1547640" cy="142920"/>
          </a:xfrm>
          <a:custGeom>
            <a:avLst/>
            <a:gdLst>
              <a:gd name="textAreaLeft" fmla="*/ 193320 w 1547640"/>
              <a:gd name="textAreaRight" fmla="*/ 1354320 w 154764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 flipV="1" rot="1783200">
            <a:off x="1476360" y="2348280"/>
            <a:ext cx="2087640" cy="135000"/>
          </a:xfrm>
          <a:custGeom>
            <a:avLst/>
            <a:gdLst>
              <a:gd name="textAreaLeft" fmla="*/ 261000 w 2087640"/>
              <a:gd name="textAreaRight" fmla="*/ 1827000 w 2087640"/>
              <a:gd name="textAreaTop" fmla="*/ 33480 h 135000"/>
              <a:gd name="textAreaBottom" fmla="*/ 101160 h 135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AutoShape 10"/>
          <p:cNvSpPr/>
          <p:nvPr/>
        </p:nvSpPr>
        <p:spPr>
          <a:xfrm rot="19675800">
            <a:off x="1908000" y="3716280"/>
            <a:ext cx="1548000" cy="142920"/>
          </a:xfrm>
          <a:custGeom>
            <a:avLst/>
            <a:gdLst>
              <a:gd name="textAreaLeft" fmla="*/ 193320 w 1548000"/>
              <a:gd name="textAreaRight" fmla="*/ 1354680 w 154800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AutoShape 11"/>
          <p:cNvSpPr/>
          <p:nvPr/>
        </p:nvSpPr>
        <p:spPr>
          <a:xfrm rot="20730000">
            <a:off x="1403280" y="3429000"/>
            <a:ext cx="1548000" cy="142920"/>
          </a:xfrm>
          <a:custGeom>
            <a:avLst/>
            <a:gdLst>
              <a:gd name="textAreaLeft" fmla="*/ 193320 w 1548000"/>
              <a:gd name="textAreaRight" fmla="*/ 1354680 w 154800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AutoShape 12"/>
          <p:cNvSpPr/>
          <p:nvPr/>
        </p:nvSpPr>
        <p:spPr>
          <a:xfrm rot="15429600">
            <a:off x="3869280" y="5139360"/>
            <a:ext cx="1548000" cy="142920"/>
          </a:xfrm>
          <a:custGeom>
            <a:avLst/>
            <a:gdLst>
              <a:gd name="textAreaLeft" fmla="*/ 193320 w 1548000"/>
              <a:gd name="textAreaRight" fmla="*/ 1354680 w 154800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AutoShape 13"/>
          <p:cNvSpPr/>
          <p:nvPr/>
        </p:nvSpPr>
        <p:spPr>
          <a:xfrm rot="17884800">
            <a:off x="1924560" y="4276080"/>
            <a:ext cx="1548000" cy="142920"/>
          </a:xfrm>
          <a:custGeom>
            <a:avLst/>
            <a:gdLst>
              <a:gd name="textAreaLeft" fmla="*/ 193320 w 1548000"/>
              <a:gd name="textAreaRight" fmla="*/ 1354680 w 154800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AutoShape 14"/>
          <p:cNvSpPr/>
          <p:nvPr/>
        </p:nvSpPr>
        <p:spPr>
          <a:xfrm rot="16653600">
            <a:off x="3437640" y="5067720"/>
            <a:ext cx="1547640" cy="142560"/>
          </a:xfrm>
          <a:custGeom>
            <a:avLst/>
            <a:gdLst>
              <a:gd name="textAreaLeft" fmla="*/ 193320 w 1547640"/>
              <a:gd name="textAreaRight" fmla="*/ 1354320 w 1547640"/>
              <a:gd name="textAreaTop" fmla="*/ 35640 h 142560"/>
              <a:gd name="textAreaBottom" fmla="*/ 106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AutoShape 15"/>
          <p:cNvSpPr/>
          <p:nvPr/>
        </p:nvSpPr>
        <p:spPr>
          <a:xfrm rot="17358000">
            <a:off x="2789640" y="4418640"/>
            <a:ext cx="1548000" cy="142920"/>
          </a:xfrm>
          <a:custGeom>
            <a:avLst/>
            <a:gdLst>
              <a:gd name="textAreaLeft" fmla="*/ 193320 w 1548000"/>
              <a:gd name="textAreaRight" fmla="*/ 1354680 w 154800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AutoShape 16"/>
          <p:cNvSpPr/>
          <p:nvPr/>
        </p:nvSpPr>
        <p:spPr>
          <a:xfrm rot="12982200">
            <a:off x="2411280" y="2349000"/>
            <a:ext cx="1548000" cy="142920"/>
          </a:xfrm>
          <a:custGeom>
            <a:avLst/>
            <a:gdLst>
              <a:gd name="textAreaLeft" fmla="*/ 193320 w 1548000"/>
              <a:gd name="textAreaRight" fmla="*/ 1354680 w 154800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AutoShape 17"/>
          <p:cNvSpPr/>
          <p:nvPr/>
        </p:nvSpPr>
        <p:spPr>
          <a:xfrm rot="12747000">
            <a:off x="2050920" y="2565000"/>
            <a:ext cx="1548000" cy="142920"/>
          </a:xfrm>
          <a:custGeom>
            <a:avLst/>
            <a:gdLst>
              <a:gd name="textAreaLeft" fmla="*/ 193320 w 1548000"/>
              <a:gd name="textAreaRight" fmla="*/ 1354680 w 154800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18"/>
          <p:cNvSpPr/>
          <p:nvPr/>
        </p:nvSpPr>
        <p:spPr>
          <a:xfrm rot="12708600">
            <a:off x="2195280" y="1844280"/>
            <a:ext cx="1547640" cy="142920"/>
          </a:xfrm>
          <a:custGeom>
            <a:avLst/>
            <a:gdLst>
              <a:gd name="textAreaLeft" fmla="*/ 193320 w 1547640"/>
              <a:gd name="textAreaRight" fmla="*/ 1354320 w 154764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19"/>
          <p:cNvSpPr/>
          <p:nvPr/>
        </p:nvSpPr>
        <p:spPr>
          <a:xfrm rot="12127200">
            <a:off x="1547280" y="2781000"/>
            <a:ext cx="1548000" cy="142920"/>
          </a:xfrm>
          <a:custGeom>
            <a:avLst/>
            <a:gdLst>
              <a:gd name="textAreaLeft" fmla="*/ 193320 w 1548000"/>
              <a:gd name="textAreaRight" fmla="*/ 1354680 w 154800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20"/>
          <p:cNvSpPr/>
          <p:nvPr/>
        </p:nvSpPr>
        <p:spPr>
          <a:xfrm rot="8508000">
            <a:off x="2410920" y="3428640"/>
            <a:ext cx="1548000" cy="142920"/>
          </a:xfrm>
          <a:custGeom>
            <a:avLst/>
            <a:gdLst>
              <a:gd name="textAreaLeft" fmla="*/ 193320 w 1548000"/>
              <a:gd name="textAreaRight" fmla="*/ 1354680 w 154800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AutoShape 21"/>
          <p:cNvSpPr/>
          <p:nvPr/>
        </p:nvSpPr>
        <p:spPr>
          <a:xfrm rot="7940400">
            <a:off x="2412000" y="4148640"/>
            <a:ext cx="1547640" cy="142920"/>
          </a:xfrm>
          <a:custGeom>
            <a:avLst/>
            <a:gdLst>
              <a:gd name="textAreaLeft" fmla="*/ 193320 w 1547640"/>
              <a:gd name="textAreaRight" fmla="*/ 1354320 w 154764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22"/>
          <p:cNvSpPr/>
          <p:nvPr/>
        </p:nvSpPr>
        <p:spPr>
          <a:xfrm rot="6171600">
            <a:off x="3005280" y="4418640"/>
            <a:ext cx="1548000" cy="142920"/>
          </a:xfrm>
          <a:custGeom>
            <a:avLst/>
            <a:gdLst>
              <a:gd name="textAreaLeft" fmla="*/ 193320 w 1548000"/>
              <a:gd name="textAreaRight" fmla="*/ 1354680 w 154800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AutoShape 23"/>
          <p:cNvSpPr/>
          <p:nvPr/>
        </p:nvSpPr>
        <p:spPr>
          <a:xfrm rot="4995000">
            <a:off x="3437640" y="4491720"/>
            <a:ext cx="1547640" cy="142560"/>
          </a:xfrm>
          <a:custGeom>
            <a:avLst/>
            <a:gdLst>
              <a:gd name="textAreaLeft" fmla="*/ 193320 w 1547640"/>
              <a:gd name="textAreaRight" fmla="*/ 1354320 w 1547640"/>
              <a:gd name="textAreaTop" fmla="*/ 35640 h 142560"/>
              <a:gd name="textAreaBottom" fmla="*/ 106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24"/>
          <p:cNvSpPr/>
          <p:nvPr/>
        </p:nvSpPr>
        <p:spPr>
          <a:xfrm rot="9124200">
            <a:off x="1186920" y="3715920"/>
            <a:ext cx="1548000" cy="142920"/>
          </a:xfrm>
          <a:custGeom>
            <a:avLst/>
            <a:gdLst>
              <a:gd name="textAreaLeft" fmla="*/ 193320 w 1548000"/>
              <a:gd name="textAreaRight" fmla="*/ 1354680 w 154800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25"/>
          <p:cNvSpPr/>
          <p:nvPr/>
        </p:nvSpPr>
        <p:spPr>
          <a:xfrm rot="16954800">
            <a:off x="3005640" y="2043720"/>
            <a:ext cx="1548000" cy="142920"/>
          </a:xfrm>
          <a:custGeom>
            <a:avLst/>
            <a:gdLst>
              <a:gd name="textAreaLeft" fmla="*/ 193320 w 1548000"/>
              <a:gd name="textAreaRight" fmla="*/ 1354680 w 154800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26"/>
          <p:cNvSpPr/>
          <p:nvPr/>
        </p:nvSpPr>
        <p:spPr>
          <a:xfrm rot="16497600">
            <a:off x="3509280" y="2115000"/>
            <a:ext cx="1547640" cy="142920"/>
          </a:xfrm>
          <a:custGeom>
            <a:avLst/>
            <a:gdLst>
              <a:gd name="textAreaLeft" fmla="*/ 193320 w 1547640"/>
              <a:gd name="textAreaRight" fmla="*/ 1354320 w 154764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Братская могил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Picture 4" descr="братская могила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Москвичи роют противотанковые окопы на окраинах города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Picture 4" descr="ВОВ8"/>
          <p:cNvPicPr/>
          <p:nvPr/>
        </p:nvPicPr>
        <p:blipFill>
          <a:blip r:embed="rId1"/>
          <a:stretch/>
        </p:blipFill>
        <p:spPr>
          <a:xfrm>
            <a:off x="0" y="1357200"/>
            <a:ext cx="912024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2" name="Picture 4" descr="вечный огон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Противотанковые ежи на улицах Москвы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Picture 4" descr="У Дорогомиловской заставы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Москвичи на строительстве баррикад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4" descr="ВОВ4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Улица Горького (Тверская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4" descr="улица Горького ВОВ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Патруль перед Большим театром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4" descr="патруль перед большим театром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анки на улицах Москв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14320" y="1981080"/>
            <a:ext cx="607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4" descr="ВОВ7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Противовоздушная оборона города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4" descr="воздушная оборона ВОВ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21:39:24Z</dcterms:created>
  <dc:creator>HOME</dc:creator>
  <dc:description/>
  <cp:keywords/>
  <dc:language>en-US</dc:language>
  <cp:lastModifiedBy>Sony</cp:lastModifiedBy>
  <dcterms:modified xsi:type="dcterms:W3CDTF">2013-09-27T16:49:15Z</dcterms:modified>
  <cp:revision>20</cp:revision>
  <dc:subject/>
  <dc:title>65 летие  битвы под Москв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11049</vt:lpwstr>
  </property>
</Properties>
</file>