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26.png" ContentType="image/png"/>
  <Override PartName="/ppt/media/image3.gif" ContentType="image/gif"/>
  <Override PartName="/ppt/media/image28.png" ContentType="image/png"/>
  <Override PartName="/ppt/media/image5.gif" ContentType="image/gif"/>
  <Override PartName="/ppt/media/image38.jpeg" ContentType="image/jpeg"/>
  <Override PartName="/ppt/media/image25.gif" ContentType="image/gif"/>
  <Override PartName="/ppt/media/image18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22.png" ContentType="image/png"/>
  <Override PartName="/ppt/media/image17.gif" ContentType="image/gif"/>
  <Override PartName="/ppt/media/image14.png" ContentType="image/png"/>
  <Override PartName="/ppt/media/image11.gif" ContentType="image/gif"/>
  <Override PartName="/ppt/media/image33.png" ContentType="image/png"/>
  <Override PartName="/ppt/media/image34.png" ContentType="image/png"/>
  <Override PartName="/ppt/media/image9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37.jpeg" ContentType="image/jpeg"/>
  <Override PartName="/ppt/media/image13.png" ContentType="image/png"/>
  <Override PartName="/ppt/media/image42.png" ContentType="image/png"/>
  <Override PartName="/ppt/media/image43.png" ContentType="image/png"/>
  <Override PartName="/ppt/media/image44.gif" ContentType="image/gif"/>
  <Override PartName="/ppt/media/image35.png" ContentType="image/png"/>
  <Override PartName="/ppt/media/image7.gif" ContentType="image/gif"/>
  <Override PartName="/ppt/media/image45.jpeg" ContentType="image/jpeg"/>
  <Override PartName="/ppt/media/image8.png" ContentType="image/png"/>
  <Override PartName="/ppt/media/image39.jpeg" ContentType="image/jpeg"/>
  <Override PartName="/ppt/media/image10.png" ContentType="image/png"/>
  <Override PartName="/ppt/media/image12.gif" ContentType="image/gif"/>
  <Override PartName="/ppt/media/image15.png" ContentType="image/png"/>
  <Override PartName="/ppt/media/image6.png" ContentType="image/png"/>
  <Override PartName="/ppt/media/image29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E4AC-C20A-49E6-8DBF-1FAF10FD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DB95-BDE5-42E4-A03E-DC10FDF0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BBB7-E226-44B9-8A48-581BA2926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1D04-CDED-4B96-9768-2A45366E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ADA3-41D0-4DB2-8FF3-5883C100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9CAF-36ED-4701-A4C0-0601D819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04A4-43D5-4A3A-B151-FAFBB60B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75D5-ACD2-452E-8382-88BC634C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EDD0-B12D-41CB-A565-236B2E0A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D6C3-5887-4ED8-A489-A7C031AF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7DAC-65AF-482A-824D-6318961B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4B3B-65C5-4DFF-BCF9-98C04289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8EBD71-3A92-46DF-AA22-3952011F4A1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gi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gif"/><Relationship Id="rId7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Э</a:t>
            </a:r>
            <a:r>
              <a:rPr b="0" lang="ru-RU" sz="7200" spc="-1" strike="noStrike">
                <a:solidFill>
                  <a:srgbClr val="6600cc"/>
                </a:solidFill>
                <a:latin typeface="Arial"/>
              </a:rPr>
              <a:t>М</a:t>
            </a:r>
            <a:r>
              <a:rPr b="0" lang="ru-RU" sz="7200" spc="-1" strike="noStrike">
                <a:solidFill>
                  <a:srgbClr val="008000"/>
                </a:solidFill>
                <a:latin typeface="Arial"/>
              </a:rPr>
              <a:t>О</a:t>
            </a:r>
            <a:r>
              <a:rPr b="0" lang="ru-RU" sz="7200" spc="-1" strike="noStrike">
                <a:solidFill>
                  <a:srgbClr val="cc0099"/>
                </a:solidFill>
                <a:latin typeface="Arial"/>
              </a:rPr>
              <a:t>Ц</a:t>
            </a:r>
            <a:r>
              <a:rPr b="0" lang="ru-RU" sz="7200" spc="-1" strike="noStrike">
                <a:solidFill>
                  <a:srgbClr val="ff0066"/>
                </a:solidFill>
                <a:latin typeface="Arial"/>
              </a:rPr>
              <a:t>И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полни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ник 4-Б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О №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РДЯКОВ ИЛЬЯ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ы эмоциональных состоя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моциональные переживания личности различаются не только по предмету, которым они вызваны, но по своей силе, устойчивост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Здесь широкий спек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«Желаю вам хорош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настро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 Unicode MS"/>
              </a:rPr>
              <a:t>«Какое у вас настроение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«Испортилось настрое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6699"/>
                </a:solidFill>
                <a:latin typeface="Arial"/>
                <a:ea typeface="Arial Unicode MS"/>
              </a:rPr>
              <a:t>«Подня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6699"/>
                </a:solidFill>
                <a:latin typeface="Arial"/>
                <a:ea typeface="Arial Unicode MS"/>
              </a:rPr>
              <a:t>настрое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0" y="5589720"/>
            <a:ext cx="4038480" cy="460080"/>
            <a:chOff x="0" y="5589720"/>
            <a:chExt cx="4038480" cy="46008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0" y="5589720"/>
              <a:ext cx="4038480" cy="1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0" y="5589720"/>
              <a:ext cx="403848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0" y="6165720"/>
            <a:ext cx="4038480" cy="460440"/>
            <a:chOff x="0" y="6165720"/>
            <a:chExt cx="4038480" cy="460440"/>
          </a:xfrm>
        </p:grpSpPr>
        <p:pic>
          <p:nvPicPr>
            <p:cNvPr id="123" name="" descr=""/>
            <p:cNvPicPr/>
            <p:nvPr/>
          </p:nvPicPr>
          <p:blipFill>
            <a:blip r:embed="rId3"/>
            <a:stretch/>
          </p:blipFill>
          <p:spPr>
            <a:xfrm>
              <a:off x="0" y="6165720"/>
              <a:ext cx="4038480" cy="1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6165720"/>
              <a:ext cx="40384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395280" y="1628640"/>
            <a:ext cx="216000" cy="3641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4427640" y="1700280"/>
            <a:ext cx="261720" cy="44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dur="indefinite" fill="hold">
                      <p:stCondLst>
                        <p:cond delay="indefinite"/>
                      </p:stCondLst>
                      <p:childTnLst>
                        <p:par>
                          <p:cTn id="2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dur="indefinite" fill="hold">
                      <p:stCondLst>
                        <p:cond delay="indefinite"/>
                      </p:stCondLst>
                      <p:childTnLst>
                        <p:par>
                          <p:cTn id="2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dur="indefinite" fill="hold">
                      <p:stCondLst>
                        <p:cond delay="indefinite"/>
                      </p:stCondLst>
                      <p:childTnLst>
                        <p:par>
                          <p:cTn id="2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настроени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Настроение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 это эмоциональное состояние, которое в течение определенного времени  окрашивает всю психическую жизнь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0" y="3645000"/>
            <a:ext cx="1846440" cy="2501640"/>
            <a:chOff x="0" y="3645000"/>
            <a:chExt cx="1846440" cy="2501640"/>
          </a:xfrm>
        </p:grpSpPr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0" y="3645000"/>
              <a:ext cx="1846440" cy="25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3645000"/>
              <a:ext cx="1846440" cy="25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877080" y="4005360"/>
            <a:ext cx="1743120" cy="1974600"/>
            <a:chOff x="6877080" y="4005360"/>
            <a:chExt cx="1743120" cy="1974600"/>
          </a:xfrm>
        </p:grpSpPr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6877080" y="4005360"/>
              <a:ext cx="1743120" cy="19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6877080" y="4005360"/>
              <a:ext cx="1743120" cy="19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348000" y="3573360"/>
            <a:ext cx="2102040" cy="2919600"/>
            <a:chOff x="3348000" y="3573360"/>
            <a:chExt cx="2102040" cy="2919600"/>
          </a:xfrm>
        </p:grpSpPr>
        <p:pic>
          <p:nvPicPr>
            <p:cNvPr id="136" name="" descr=""/>
            <p:cNvPicPr/>
            <p:nvPr/>
          </p:nvPicPr>
          <p:blipFill>
            <a:blip r:embed="rId4"/>
            <a:stretch/>
          </p:blipFill>
          <p:spPr>
            <a:xfrm>
              <a:off x="3348000" y="3573360"/>
              <a:ext cx="2102040" cy="291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348000" y="3573360"/>
              <a:ext cx="2102040" cy="29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68360" y="357120"/>
            <a:ext cx="1008000" cy="1008000"/>
            <a:chOff x="468360" y="357120"/>
            <a:chExt cx="1008000" cy="1008000"/>
          </a:xfrm>
        </p:grpSpPr>
        <p:pic>
          <p:nvPicPr>
            <p:cNvPr id="139" name="" descr=""/>
            <p:cNvPicPr/>
            <p:nvPr/>
          </p:nvPicPr>
          <p:blipFill>
            <a:blip r:embed="rId5"/>
            <a:stretch/>
          </p:blipFill>
          <p:spPr>
            <a:xfrm>
              <a:off x="468360" y="357120"/>
              <a:ext cx="1008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468360" y="357120"/>
              <a:ext cx="1008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dur="indefinite" fill="hold">
                      <p:stCondLst>
                        <p:cond delay="indefinite"/>
                      </p:stCondLst>
                      <p:childTnLst>
                        <p:par>
                          <p:cTn id="2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8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dur="indefinite" fill="hold">
                      <p:stCondLst>
                        <p:cond delay="indefinite"/>
                      </p:stCondLst>
                      <p:childTnLst>
                        <p:par>
                          <p:cTn id="2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д презентацией на тему:«Эмоц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от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дяков Илья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749920" y="1628640"/>
            <a:ext cx="3394080" cy="4525920"/>
            <a:chOff x="5749920" y="1628640"/>
            <a:chExt cx="3394080" cy="452592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5749920" y="1628640"/>
              <a:ext cx="33940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749920" y="1628640"/>
              <a:ext cx="339408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dur="indefinite" fill="hold">
                      <p:stCondLst>
                        <p:cond delay="indefinite"/>
                      </p:stCondLst>
                      <p:childTnLst>
                        <p:par>
                          <p:cTn id="3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то такое эмоци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4400" spc="-1" strike="noStrike">
                <a:solidFill>
                  <a:srgbClr val="6600cc"/>
                </a:solidFill>
                <a:latin typeface="Arial"/>
              </a:rPr>
              <a:t>Эмоции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– это проявление наших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ереживаний по отношению к люд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 их поступкам, событиям и явле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роды окружающего мир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68360" y="4941720"/>
            <a:ext cx="1247760" cy="1524240"/>
            <a:chOff x="468360" y="4941720"/>
            <a:chExt cx="1247760" cy="152424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468360" y="4941720"/>
              <a:ext cx="124776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468360" y="4941720"/>
              <a:ext cx="124776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6156360" y="4915080"/>
            <a:ext cx="2114640" cy="1942920"/>
            <a:chOff x="6156360" y="4915080"/>
            <a:chExt cx="2114640" cy="1942920"/>
          </a:xfrm>
        </p:grpSpPr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6156360" y="4915080"/>
              <a:ext cx="211464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6156360" y="4915080"/>
              <a:ext cx="2114640" cy="19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419640" y="5129280"/>
            <a:ext cx="2089080" cy="1728720"/>
            <a:chOff x="3419640" y="5129280"/>
            <a:chExt cx="2089080" cy="1728720"/>
          </a:xfrm>
        </p:grpSpPr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3419640" y="5129280"/>
              <a:ext cx="20890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3419640" y="5129280"/>
              <a:ext cx="2089080" cy="17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Эмоци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-              свого р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раски, котор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сцвечивают 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человеческих   отношений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 цветовая палитра      отражает раз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цвета красок ми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так и эмоцион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палитра даёт н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едставление          о наших отно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к этому миру,        событиям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258920" y="4508640"/>
            <a:ext cx="1228680" cy="1609560"/>
            <a:chOff x="1258920" y="4508640"/>
            <a:chExt cx="1228680" cy="160956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1258920" y="4508640"/>
              <a:ext cx="122868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258920" y="4508640"/>
              <a:ext cx="1228680" cy="16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1727280" y="549360"/>
            <a:ext cx="647640" cy="6490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67640" y="549360"/>
            <a:ext cx="647640" cy="64908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549360"/>
            <a:ext cx="647640" cy="64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14560" y="549360"/>
            <a:ext cx="647640" cy="649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03640" y="549360"/>
            <a:ext cx="647640" cy="649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91280" y="549360"/>
            <a:ext cx="647640" cy="6490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78560" y="549360"/>
            <a:ext cx="647640" cy="64908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то испытывает эмоции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Эмоции испытывают не только лю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Животные, птицы и даже, говоря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растения тоже могут серд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                         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радовать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042920" y="3860640"/>
            <a:ext cx="1739880" cy="2421000"/>
            <a:chOff x="1042920" y="3860640"/>
            <a:chExt cx="1739880" cy="2421000"/>
          </a:xfrm>
        </p:grpSpPr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1042920" y="3860640"/>
              <a:ext cx="1739880" cy="24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042920" y="3860640"/>
              <a:ext cx="1739880" cy="24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300720" y="4149720"/>
            <a:ext cx="1305000" cy="1905120"/>
            <a:chOff x="6300720" y="4149720"/>
            <a:chExt cx="1305000" cy="1905120"/>
          </a:xfrm>
        </p:grpSpPr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6300720" y="4149720"/>
              <a:ext cx="130500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6300720" y="4149720"/>
              <a:ext cx="130500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0" y="404640"/>
            <a:ext cx="1225440" cy="946440"/>
            <a:chOff x="0" y="404640"/>
            <a:chExt cx="1225440" cy="946440"/>
          </a:xfrm>
        </p:grpSpPr>
        <p:pic>
          <p:nvPicPr>
            <p:cNvPr id="76" name="" descr=""/>
            <p:cNvPicPr/>
            <p:nvPr/>
          </p:nvPicPr>
          <p:blipFill>
            <a:blip r:embed="rId4"/>
            <a:stretch/>
          </p:blipFill>
          <p:spPr>
            <a:xfrm>
              <a:off x="0" y="404640"/>
              <a:ext cx="1225440" cy="9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0" y="404640"/>
              <a:ext cx="12254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7451640" y="461880"/>
            <a:ext cx="1692360" cy="1170000"/>
            <a:chOff x="7451640" y="461880"/>
            <a:chExt cx="1692360" cy="1170000"/>
          </a:xfrm>
        </p:grpSpPr>
        <p:pic>
          <p:nvPicPr>
            <p:cNvPr id="79" name="" descr=""/>
            <p:cNvPicPr/>
            <p:nvPr/>
          </p:nvPicPr>
          <p:blipFill>
            <a:blip r:embed="rId5"/>
            <a:stretch/>
          </p:blipFill>
          <p:spPr>
            <a:xfrm>
              <a:off x="7451640" y="461880"/>
              <a:ext cx="169236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7451640" y="461880"/>
              <a:ext cx="169236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авила проявления эмоций относя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 правилам поведения в общ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спитанный человек их знает                          и выполняет так же, как и любые друг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авила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415280" y="404640"/>
            <a:ext cx="1728720" cy="951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320760"/>
            <a:ext cx="2016000" cy="1030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715000" y="2514600"/>
            <a:ext cx="1905120" cy="26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Эмоции помогают нам не только луч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понимать других людей, но и позволяют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глубже познавать самих себя и    окружающий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276720" y="4076640"/>
            <a:ext cx="2057400" cy="2171880"/>
            <a:chOff x="3276720" y="4076640"/>
            <a:chExt cx="2057400" cy="217188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3276720" y="4076640"/>
              <a:ext cx="2057400" cy="21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276720" y="4076640"/>
              <a:ext cx="2057400" cy="21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755640" y="3716280"/>
            <a:ext cx="1523880" cy="2190960"/>
            <a:chOff x="755640" y="3716280"/>
            <a:chExt cx="1523880" cy="2190960"/>
          </a:xfrm>
        </p:grpSpPr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755640" y="3716280"/>
              <a:ext cx="1523880" cy="21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755640" y="3716280"/>
              <a:ext cx="1523880" cy="21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7020000" y="4076640"/>
            <a:ext cx="838080" cy="2190960"/>
            <a:chOff x="7020000" y="4076640"/>
            <a:chExt cx="838080" cy="2190960"/>
          </a:xfrm>
        </p:grpSpPr>
        <p:pic>
          <p:nvPicPr>
            <p:cNvPr id="95" name="" descr=""/>
            <p:cNvPicPr/>
            <p:nvPr/>
          </p:nvPicPr>
          <p:blipFill>
            <a:blip r:embed="rId4"/>
            <a:stretch/>
          </p:blipFill>
          <p:spPr>
            <a:xfrm>
              <a:off x="7020000" y="4076640"/>
              <a:ext cx="838080" cy="21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7020000" y="4076640"/>
              <a:ext cx="838080" cy="21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о силе и характеру эмоций мы можем                                                                узнать, что нам дорого, а к кому 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равнодуш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 Unicode MS"/>
              </a:rPr>
              <a:t>Чем сильнее мы желаем чего-то 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 Unicode MS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 Unicode MS"/>
              </a:rPr>
              <a:t>нуждаемся в чём-т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 Unicode MS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 Unicode MS"/>
              </a:rPr>
              <a:t>тем сильнее мы радуемся или огорчаемся, добиваясь или не добиваясь желаем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2950920" cy="1700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516720" y="0"/>
            <a:ext cx="2232000" cy="1689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095720" y="2843280"/>
            <a:ext cx="952560" cy="1171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3635280" y="404640"/>
            <a:ext cx="1714680" cy="952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539640" y="3524400"/>
            <a:ext cx="249552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65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Гораздо легче оценить и понять поступки, характер, личность человека, если мы знаем, какие эмоции он испытывает в различных ситуациях.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380360" y="1268280"/>
            <a:ext cx="1093680" cy="2186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659640" y="4076640"/>
            <a:ext cx="1225440" cy="2187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932360" y="981000"/>
            <a:ext cx="1671480" cy="2508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4284720" y="4292640"/>
            <a:ext cx="1582560" cy="22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dur="indefinite" fill="hold">
                      <p:stCondLst>
                        <p:cond delay="indefinite"/>
                      </p:stCondLst>
                      <p:childTnLst>
                        <p:par>
                          <p:cTn id="1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Читаем по выражению л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ctr"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О том, что переживает человек, можно понять по выражению его л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Глаза, губы и брови помогают н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выразить наши эмо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Именно на форму губ, бровей и на гл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мы смотрим, «читая» лицо другого человек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048360" y="1725480"/>
            <a:ext cx="1238400" cy="1933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236000" y="3933720"/>
            <a:ext cx="1609560" cy="1847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219640" y="4005360"/>
            <a:ext cx="1495440" cy="190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dur="indefinite" fill="hold">
                      <p:stCondLst>
                        <p:cond delay="indefinite"/>
                      </p:stCondLst>
                      <p:childTnLst>
                        <p:par>
                          <p:cTn id="1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dur="indefinite" fill="hold">
                      <p:stCondLst>
                        <p:cond delay="indefinite"/>
                      </p:stCondLst>
                      <p:childTnLst>
                        <p:par>
                          <p:cTn id="2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14:51:11Z</dcterms:created>
  <dc:creator>Ильяс</dc:creator>
  <dc:description/>
  <dc:language>en-US</dc:language>
  <cp:lastModifiedBy>Ильяс</cp:lastModifiedBy>
  <dcterms:modified xsi:type="dcterms:W3CDTF">2006-04-24T16:33:57Z</dcterms:modified>
  <cp:revision>7</cp:revision>
  <dc:subject/>
  <dc:title>ЭМОЦИИ</dc:title>
</cp:coreProperties>
</file>