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D73-5B3D-4FF1-BB7D-B04B356A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B2C-FCC3-40D2-A6B3-0F969C5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407-83B5-4441-B436-ECD1FA5D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5D7-A151-4CE4-984F-E6FCAAB1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F40-A26A-4BEE-AF4B-5E38005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942-AFE4-4561-898F-8A50B32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F6A-840A-45B5-8D19-506C7F4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7A4-D2DA-4505-9761-F1A6366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A99-F26C-4E1B-9053-7D928FC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266-D980-4596-994B-3117EEE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334-B49B-424C-BCA0-611785B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A89-8E86-47FA-9F9F-D8A4A36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B1F-9F6F-4B72-81C5-DAF166E6F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Формирование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ревнерусского госуда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Проект по окружающему миру в 4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Выполнила Маркова Ю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Рабочий стол\проект Марковой Юлии\Изображение 212.jpg"/>
          <p:cNvPicPr/>
          <p:nvPr/>
        </p:nvPicPr>
        <p:blipFill>
          <a:blip r:embed="rId1"/>
          <a:stretch/>
        </p:blipFill>
        <p:spPr>
          <a:xfrm>
            <a:off x="-771480" y="-457200"/>
            <a:ext cx="106869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dministrator\Рабочий стол\проект Марковой Юлии\Изображение 213.jpg"/>
          <p:cNvPicPr/>
          <p:nvPr/>
        </p:nvPicPr>
        <p:blipFill>
          <a:blip r:embed="rId1"/>
          <a:stretch/>
        </p:blipFill>
        <p:spPr>
          <a:xfrm>
            <a:off x="-771480" y="-457200"/>
            <a:ext cx="106869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Administrator\Рабочий стол\проект Марковой Юлии\Изображение 214.jpg"/>
          <p:cNvPicPr/>
          <p:nvPr/>
        </p:nvPicPr>
        <p:blipFill>
          <a:blip r:embed="rId1"/>
          <a:stretch/>
        </p:blipFill>
        <p:spPr>
          <a:xfrm>
            <a:off x="-771480" y="-457200"/>
            <a:ext cx="106869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istrator\Рабочий стол\проект Марковой Юлии\Изображение 215.jpg"/>
          <p:cNvPicPr/>
          <p:nvPr/>
        </p:nvPicPr>
        <p:blipFill>
          <a:blip r:embed="rId1"/>
          <a:stretch/>
        </p:blipFill>
        <p:spPr>
          <a:xfrm>
            <a:off x="-714240" y="-500040"/>
            <a:ext cx="106869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Administrator\Рабочий стол\проект Марковой Юлии\Изображение 217.jpg"/>
          <p:cNvPicPr/>
          <p:nvPr/>
        </p:nvPicPr>
        <p:blipFill>
          <a:blip r:embed="rId1"/>
          <a:stretch/>
        </p:blipFill>
        <p:spPr>
          <a:xfrm>
            <a:off x="-714240" y="-571680"/>
            <a:ext cx="10686960" cy="77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Рабочий стол\проект Марковой Юлии\Изображение 218.jpg"/>
          <p:cNvPicPr/>
          <p:nvPr/>
        </p:nvPicPr>
        <p:blipFill>
          <a:blip r:embed="rId1"/>
          <a:stretch/>
        </p:blipFill>
        <p:spPr>
          <a:xfrm>
            <a:off x="-771480" y="-457200"/>
            <a:ext cx="106869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Рабочий стол\проект Марковой Юлии\Изображение 219_cr.jpg"/>
          <p:cNvPicPr/>
          <p:nvPr/>
        </p:nvPicPr>
        <p:blipFill>
          <a:blip r:embed="rId1"/>
          <a:stretch/>
        </p:blipFill>
        <p:spPr>
          <a:xfrm>
            <a:off x="1643040" y="1571760"/>
            <a:ext cx="582300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7:11:45Z</dcterms:created>
  <dc:creator>Admin</dc:creator>
  <dc:description/>
  <dc:language>en-US</dc:language>
  <cp:lastModifiedBy>Admin</cp:lastModifiedBy>
  <dcterms:modified xsi:type="dcterms:W3CDTF">2013-09-27T18:13:32Z</dcterms:modified>
  <cp:revision>5</cp:revision>
  <dc:subject/>
  <dc:title>Формирование Древнерусского государства</dc:title>
</cp:coreProperties>
</file>