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7AC9F-DE4B-43C0-B62E-D748642CA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1461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81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81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ED2FE-9780-412D-9263-D44C8445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1461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0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295280"/>
            <a:ext cx="40150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50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3961080"/>
            <a:ext cx="40150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9B78F-AA48-4191-B318-384B1B52C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1461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24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295280"/>
            <a:ext cx="264924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295280"/>
            <a:ext cx="264924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924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3961080"/>
            <a:ext cx="264924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3961080"/>
            <a:ext cx="264924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97A75-FBC9-41D3-B0CC-A1D0B48B7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C0671-5700-4728-82BC-894F2E0EC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1461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8160" cy="51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F765D-CE8E-44AC-A2CA-9D1924E1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1461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816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408FB-DBF4-472E-A75F-AC7B20CE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1461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08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295280"/>
            <a:ext cx="401508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2C61A-3BF2-43A8-A240-A6EBFDBF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1461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C387D-C535-4B79-A5B3-F1103069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-1461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5EFEE-B219-4E12-8F39-94118B9E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1461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0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295280"/>
            <a:ext cx="401508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50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F2593-E5AE-44B3-A777-2BF6281A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1461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8160" cy="51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49C86-F613-46A9-ACC5-A1C9872F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1461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08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295280"/>
            <a:ext cx="40150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3520" y="3961080"/>
            <a:ext cx="40150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FA1EB-B606-40E4-81D1-03CC41C7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1461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0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295280"/>
            <a:ext cx="40150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81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46204-90C5-4B37-A278-6576DA6F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1461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81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81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795D7-43AC-458A-9AC1-D2C28E14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61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0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295280"/>
            <a:ext cx="40150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50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3961080"/>
            <a:ext cx="40150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76CD5-3D76-4257-B3B4-E1C60DCB0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1461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24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280" y="1295280"/>
            <a:ext cx="264924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295280"/>
            <a:ext cx="264924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924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280" y="3961080"/>
            <a:ext cx="264924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961080"/>
            <a:ext cx="264924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3B43D-030E-423D-B04F-366A359F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1461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816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402A5-2360-42BD-A2FA-9AF8A4EF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1461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08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295280"/>
            <a:ext cx="401508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B90A2-82C0-4CAB-B365-2FD919EE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1461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5DAB1-34B0-4F22-B843-8EEA7A7F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1461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92AB3-42BE-4F06-B18A-C0003235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1461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0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295280"/>
            <a:ext cx="401508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50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3D1E3-DF74-43DF-89FC-40F6B2C5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1461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08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295280"/>
            <a:ext cx="40150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3961080"/>
            <a:ext cx="40150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34A8C-E5A4-430C-B7E3-19EB3F62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1461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0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295280"/>
            <a:ext cx="40150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81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3F22E-6D9C-42E2-AFD8-F163E25D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37440"/>
            <a:ext cx="29703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22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1B27A95-7E0C-4763-870A-B3DFE21584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39320" cy="6848640"/>
            <a:chOff x="0" y="0"/>
            <a:chExt cx="9139320" cy="684864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1440" cy="3308400"/>
              <a:chOff x="2743200" y="3540240"/>
              <a:chExt cx="6391440" cy="330840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3440" cy="265140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6920" cy="12859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1240" cy="153684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2160" cy="330840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79640" cy="8542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c85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5480" cy="243864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1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39320" cy="28177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-1461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3720" y="6356520"/>
            <a:ext cx="2894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816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468FCBB-698A-4DAF-8818-01A6D791D88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0" y="0"/>
            <a:ext cx="9139320" cy="6848640"/>
            <a:chOff x="0" y="0"/>
            <a:chExt cx="9139320" cy="6848640"/>
          </a:xfrm>
        </p:grpSpPr>
        <p:grpSp>
          <p:nvGrpSpPr>
            <p:cNvPr id="53" name=""/>
            <p:cNvGrpSpPr/>
            <p:nvPr/>
          </p:nvGrpSpPr>
          <p:grpSpPr>
            <a:xfrm>
              <a:off x="2743200" y="3540240"/>
              <a:ext cx="6391440" cy="3308400"/>
              <a:chOff x="2743200" y="3540240"/>
              <a:chExt cx="6391440" cy="3308400"/>
            </a:xfrm>
          </p:grpSpPr>
          <p:sp>
            <p:nvSpPr>
              <p:cNvPr id="54" name=""/>
              <p:cNvSpPr/>
              <p:nvPr/>
            </p:nvSpPr>
            <p:spPr>
              <a:xfrm>
                <a:off x="2743200" y="4197240"/>
                <a:ext cx="4573440" cy="265140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620040" y="4240080"/>
                <a:ext cx="1996920" cy="12859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603680" y="5311800"/>
                <a:ext cx="4521240" cy="153684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362480" y="3540240"/>
                <a:ext cx="4772160" cy="330840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145280" y="3678120"/>
                <a:ext cx="1979640" cy="8542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c85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5273640" y="2128680"/>
              <a:ext cx="2895480" cy="243864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1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0"/>
              <a:ext cx="9139320" cy="28177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PlaceHolder 3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6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ks.ru/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2120" y="1981080"/>
            <a:ext cx="7315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114800" y="2666880"/>
            <a:ext cx="4191120" cy="3143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191120" y="5943600"/>
            <a:ext cx="39621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истерство финансов России, Моск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41320" y="1023840"/>
            <a:ext cx="46306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осударственный бюдж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Россия: баланс бюджета </a:t>
            </a:r>
            <a:br>
              <a:rPr sz="40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(в % от ВВП)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534520" cy="3614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28600" y="5562720"/>
            <a:ext cx="891540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точник: Федеральная служба государственной статистики России,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gks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95 — дефицит, 2000—2005 — профиц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2480" y="2664000"/>
            <a:ext cx="48528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514"/>
                </a:solidFill>
                <a:latin typeface="Letter GothicPS"/>
              </a:rPr>
              <a:t>Процен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61360" y="4471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Letter GothicPS"/>
              </a:rPr>
              <a:t>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5. Государственный бюдже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1DC12-D21E-4904-AEDC-F237DF57929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Государственный долг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public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ebt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—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олговые обязательства государства перед физическими и юридическими лицами, иностранными государствами и международными организация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5. Государственный бюдже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C67CF-3983-4DF3-8694-2AEF5F961F6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остав государственного долга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0760" indent="-3207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редиты, полученные правительством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т иностранных государств, банков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 международных финансовых организаци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0760" indent="-3207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осударственные займы, осуществляемые путем выпуска ценных бумаг от имени правительств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0760" indent="-3207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суды и бюджетные кредиты от бюджетов других уровней бюджетной систем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0760" indent="-3207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едоставленные правительством государственные гарантии оплаты кредитов негосударственных организаци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0760" indent="-3207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лонгированные и реструктурированные государственные долги прошлых ле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5. Государственный бюдже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6A18C-CFE2-479D-B093-9D72909C07F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Фискальная полити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fiscal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policy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регулирование правительством совокупного спроса путем стимулирования или сокращения государственного потребления и инвестиций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5. Государственный бюдже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A3C33-09E0-422E-B50E-4DC1B895F44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иды фискальной политик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расширительная политика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expansionary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olicy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) —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искальная политика, увеличивающая государственное потребление и инвестиции;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ограничительная политика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ontractionary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olicy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фискальная политика, сокращающая государственное потребление и инвестиции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5. Государственный бюдже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A1842-234D-437C-9A07-87E895B2947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еры расширительной политик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Сокращение налогов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Больше денег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распоряжении домох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зя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йств и фирм обычно означает увеличение потребления, рост спроса со стороны частного сектор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0840" indent="-330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Увеличение государственных расходов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 Правительство может стимулировать спрос путем расширения государственного потребления и инвестиций, например, повысив зарплаты государственным служащим, пенсии или социальные пособия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5. Государственный бюдже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61819-EBBB-4D21-BD3F-15A39844A0B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граничительная полити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4000" indent="-324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Увеличение налогов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 Государство может решить либо повысить ставки существующих налогов, либо ввести новые типы налогов на фирмы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физическ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лиц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Сокращение государственных расходов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 Правительство может принять решение заморозить зарплаты государственных служащих, сократить их количество, отменить дополнительные выплаты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 зарплате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5. Государственный бюдже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2F782-E8D8-4D7D-B814-82DFF31EBE1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жон Гэлбрейт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"/>
          <p:cNvSpPr/>
          <p:nvPr/>
        </p:nvSpPr>
        <p:spPr>
          <a:xfrm>
            <a:off x="5410080" y="2286000"/>
            <a:ext cx="259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219320"/>
            <a:ext cx="44197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8—2006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мериканский экономист, один из лидеров институционального направления современной экономической нау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тор идеи нового индустриального общества (“Новое индустриальное общество” 1967), в котором сосуществуют основы двух экономических систем — рыночной и планов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4648320"/>
            <a:ext cx="4495680" cy="173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«Опасность, угрожающая свободе, заключается в подчинении общественного мнения нуждам индустриальной системы. Государство и индустриальная система действуют здесь заодно»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257800" y="1371600"/>
            <a:ext cx="3564000" cy="501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5. Государственный бюдже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F96DD-EBFA-46D1-AC8D-8A74B7689D3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оберт Лукас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3454560" cy="5181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191120" y="1143000"/>
            <a:ext cx="472428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род.1937)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мериканский экономист, разработал концепцию рациональных ожиданий—предположения, что люди в среднем не делают систематических ошибок в своих прогноз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нескольких работах в 1970-е гг. показал, что вместо попыток подправлять экономику мерами экономической политики государство должно проводить экономическую политику, заслуживающую доверия людей, что поможет сформирова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 них положительные ожида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на будущее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5. Государственный бюдже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D3BB6-5B03-4876-B7C4-D6F32D40D78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 (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Государственный бюджет — форма образовани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 расходования денежных средств государств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юджет выполняет функции финансирования производства общественных благ, перераспределения доходов и планирования финансов стран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оходы бюджета — денежные средства, поступающие в безвозмездном и безвозвратном порядке в распоряжение государств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сходы бюджета — использование государством поступивших в его распоряжение денежных средст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5. Государственный бюдже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31392-B5C8-4CAF-8A3F-D9F28F60FC6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Государственный бюдже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state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budget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форма образования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и расходования фонда денежных средств, предназначенных для финансового обеспечения функций государства и местного самоуправл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5. Государственный бюдже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CC245-46CC-4DF7-940A-728671983F0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 (2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Баланс бюджета — разность доходов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 расходов правительства — может иметь форму профицита и дефицит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случае дефицита правительство должно занимать средства, в результате чего образуется государственный дол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авительство проводит фискальную политику, изменяя уровень налогов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 бюджетных расходов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авительство регулирует тем самым совокупный спрос путем стимулирования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ли сокращения потребления и инвестиций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5. Государственный бюдже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1A443-2C71-4CC3-86A1-8CADAB102B0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Функции бюдже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инансирование производства общественных благ, которые не производятся рыночной экономико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ерераспределение доходов в соответств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с целями государственной политик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ланирование и прогнозирование государственных финансов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конодательное закрепление формирования и использования денежных средств государств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5. Государственный бюдже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5C8E2-3F5A-4563-905D-7179CA1249B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Бюджетный процесс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юджетное послание президен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ставление проектов бюджет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ссмотрение в правительств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ссмотрение в Государственной Дум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писание закона о бюджете президент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5. Государственный бюдже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79A63-1EC5-4F85-AA97-0F438AB5144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оходы бюдже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budget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revenue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денежные средства, поступающие в безвозмездном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и безвозвратном порядке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 распоряжение государства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1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Налоги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taxes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1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Взносы на социальные нужды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ocial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ontributions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1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Гранты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grants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1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Прочие доходы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other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revenue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5. Государственный бюдже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6239D-BB26-45D4-B15D-155F60EBCC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алог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axes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) — обязательные платежи, взимаемые с фирм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 физических лиц, для финансирования деятельности государств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Группы налогов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4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ямые налоги — представляют собой вычет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з дохода домохозяйства или фирмы (подоходный налог, налог на прибыль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4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свенные налоги — налоги, которыми облагаются производимые товары и услуги. Косвенные налоги включаются в цену товаров и обычно перекладываются на потребителя (налог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 добавленную стоимость, налог с продаж, акцизы), представляя собой налог на потреблени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5. Государственный бюдже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24C52-B4D2-4C25-AF86-A7DE13A0597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иды налого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 объекту налогообложения налоги делятся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 шесть основных категорий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1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логи на доходы, прибыль и прирост капитал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1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логи на фонд заработной платы и рабочую сил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1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логи на собственнос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1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логи на товары и услуг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1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логи на международную торговлю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 операци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1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чие налог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5. Государственный бюдже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B9E90-9C28-4EE1-9476-5A521339CF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сходы бюдже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budget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expenditure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— использование государством поступивших в его распоряжение денежных средст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иды расходов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екущие расходы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urrent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expenditure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— часть расходов, направляемая на финансирование текущей деятельности органов государственной вла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Капитальные расходы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apital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expenditure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— часть расходов, направляемая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 государственные инвестиции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5. Государственный бюдже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573C4-B9AB-43B6-8460-2F8600AEB83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Баланс бюдже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dget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alance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— разность доходов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и расходов правитель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фицит бюджета (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dget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rplus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 — превышение доходов над расходами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ефицит бюджета (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dget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cit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 — превышение расходов над доходами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5. Государственный бюдже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93B0D-1FF2-4507-8432-92A9A397DA2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1:46:14Z</dcterms:created>
  <dc:creator/>
  <dc:description/>
  <dc:language>en-US</dc:language>
  <cp:lastModifiedBy>akireyev</cp:lastModifiedBy>
  <dcterms:modified xsi:type="dcterms:W3CDTF">2007-06-07T22:13:37Z</dcterms:modified>
  <cp:revision>86</cp:revision>
  <dc:subject/>
  <dc:title>Глава 4. Экономика государства</dc:title>
</cp:coreProperties>
</file>