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56CC-7D49-4CEF-BF5C-7455BCD8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1E13-0381-4103-B352-ADCBBF61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F569-0CE9-4178-95AD-94FE25E0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C7EF-15AD-4B3D-909E-1FC0014D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D16A2-0690-4883-BABB-1A53FB15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F9476-4C7C-408C-9B77-44B473D0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5CF1D-C716-43B8-A7EB-00D55AD4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E80BD-091D-4AD8-A8A6-27E5990D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CCC44-6CB7-484F-93D4-A9E3E2FD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1461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02C5A-AFDD-4595-B098-A72B4DC7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C09A5-40A5-44E2-B3DC-CC14EA01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68BE-1BFF-433A-AC3F-22A6EDAC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5FF63-64EA-4244-B767-03D56F5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0C6F2-1C6C-4F12-A72C-AAFE0605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95043-DB34-4E74-9F8B-D47E1D39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3CDC5-A166-46C4-9449-AEF2C12D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2952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1080"/>
            <a:ext cx="264924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CE8DB-5FCD-4D73-8DD4-9D1876A7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3289-32A0-4978-B9B5-75A885B4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0619-8665-41ED-B497-416FA35F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1965-33A6-4D9D-A09C-4C811B3B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1461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C3CA-05FE-4A5B-AA7F-4CD044F0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C8E6-F739-48D1-924E-ED12BCBB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10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A651-2F98-4246-A4CE-DC69B8C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295280"/>
            <a:ext cx="40150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8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57FB-AE03-4160-9E9D-7C158319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37440"/>
            <a:ext cx="29703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ED1A94-9596-42B8-B78A-4B2EF07944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1461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356520"/>
            <a:ext cx="2894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81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ABE0AE-5059-439E-A3C9-12CBA53739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3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4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ks.ru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9810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91120" y="5943600"/>
            <a:ext cx="3962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финансов России, 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1320" y="1023840"/>
            <a:ext cx="4630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сударственный бюдж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оссия: баланс бюджет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(в % от ВВП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534520" cy="361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5562720"/>
            <a:ext cx="89154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: Федеральная служба государственной статистики России,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gks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95 — дефицит, 2000—2005 — профиц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" y="2664000"/>
            <a:ext cx="4852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Letter GothicPS"/>
              </a:rPr>
              <a:t>Процен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61360" y="4471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Letter GothicPS"/>
              </a:rPr>
              <a:t>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9451-40A7-4337-BAC2-D5BE721B33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осударственный дол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ublic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b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лговые обязательства государства перед физическими и юридическими лицами, иностранными государствами и международными организ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F668-6D2E-4902-A71B-845DE7D902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став государственного долг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редиты, полученные правительство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 иностранных государств, банк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еждународных финансовых организац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осударственные займы, осуществляемые путем выпуска ценных бумаг от имени правительст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суды и бюджетные кредиты от бюджетов других уровней бюджетной систем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доставленные правительством государственные гарантии оплаты кредитов негосударственных организац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лонгированные и реструктурированные государственные долги прошлых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2E48-33A1-46E2-9D0A-A76617356B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скальная поли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fisc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olic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егулирование правительством совокупного спроса путем стимулирования или сокращения государственного потребления и инвестици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CCC8-AB54-4EC1-B21D-547466FAF6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фискальной полит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асширительная политика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pansionar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olic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искальная политика, увеличивающая государственное потребление и инвестиции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граничительная политика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tractionar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olicy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фискальная политика, сокращающая государственное потребление и инвестици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A063-5B49-4C07-BA2F-81CCD02DE0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ры расширительной полит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окращение налогов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Больше денег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распоряжении домо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з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йств и фирм обычно означает увеличение потребления, рост спроса со стороны частного секто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Увеличение государственных расход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авительство может стимулировать спрос путем расширения государственного потребления и инвестиций, например, повысив зарплаты государственным служащим, пенсии или социальные пособия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1735-CDF4-447B-9D91-CBE39888D6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граничительная поли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Увеличение налог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Государство может решить либо повысить ставки существующих налогов, либо ввести новые типы налогов на фирм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физичес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лиц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окращение государственных расход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Правительство может принять решение заморозить зарплаты государственных служащих, сократить их количество, отменить дополнительные выплат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зарплат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D311-C6D1-4ACB-AF28-6254DDAD78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жон Гэлбрейт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2860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219320"/>
            <a:ext cx="4419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—2006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один из лидеров институционального направления современной экономической нау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 идеи нового индустриального общества (“Новое индустриальное общество” 1967), в котором сосуществуют основы двух экономических систем — рыночной и планов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648320"/>
            <a:ext cx="449568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Опасность, угрожающая свободе, заключается в подчинении общественного мнения нуждам индустриальной системы. Государство и индустриальная система действуют здесь заодно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564000" cy="50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2604-EF9E-4DDB-8831-561C04A1DE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Лукас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454560" cy="5181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91120" y="1143000"/>
            <a:ext cx="47242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37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разработал концепцию рациональных ожиданий—предположения, что люди в среднем не делают систематических ошибок в своих прогноз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скольких работах в 1970-е гг. показал, что вместо попыток подправлять экономику мерами экономической политики государство должно проводить экономическую политику, заслуживающую доверия людей, что поможет сформир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них положительные ожид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будущее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DF0D-D2CB-4115-9A5D-874BAEB2A5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сударственный бюджет — форма образова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расходования денежных средств государ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юджет выполняет функции финансирования производства общественных благ, перераспределения доходов и планирования финансов стра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ходы бюджета — денежные средства, поступающие в безвозмездном и безвозвратном порядке в распоряжение государ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ходы бюджета — использование государством поступивших в его распоряжение денежных средст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0555-324F-4641-A684-A4C0D4AA6D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сударственный бюдже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орма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расходования фонда денежных средств, предназначенных для финансового обеспечения функций государства и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4593-EDA7-4DFA-8601-A3F0F7D0E1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аланс бюджета — разность доход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расходов правительства — может иметь форму профицита и дефицит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лучае дефицита правительство должно занимать средства, в результате чего образуется государственный дол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ительство проводит фискальную политику, изменяя уровень налог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бюджетных расход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ительство регулирует тем самым совокупный спрос путем стимулирован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ли сокращения потребления и инвестиций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F39B-D90C-4533-B25F-519004D196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ункции бюдж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нансирование производства общественных благ, которые не производятся рыночной экономи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распределение доходов в соответств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 целями государственной поли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анирование и прогнозирование государственных финанс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онодательное закрепление формирования и использования денежных средств государств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66EA-7961-4F24-A24F-F003FB76F1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юджетный процес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юджетное послание презид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ставление проектов бюдже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ние в правитель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ние в Государственной Д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ание закона о бюджете президен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82FA-F96E-426C-8306-E26F48970D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ходы бюдж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evenu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поступающие в безвозмездном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безвозвратном поряд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распоряжение государства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логи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axes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Взносы на социальные нужд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ocial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tributions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рочие доходы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venue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C4F8-CD23-4B97-ABEB-63A9C7AD79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лог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xes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 — обязательные платежи, взимаемые с фир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физических лиц, для финансирования деятельности государ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ы налог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4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ямые налоги — представляют собой выч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 дохода домохозяйства или фирмы (подоходный налог, налог на прибыль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4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свенные налоги — налоги, которыми облагаются производимые товары и услуги. Косвенные налоги включаются в цену товаров и обычно перекладываются на потребителя (нало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добавленную стоимость, налог с продаж, акцизы), представляя собой налог на потребл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F0C9-2655-4291-A018-170FB2F47E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налог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бъекту налогообложения налоги делятс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шесть основных категорий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доходы, прибыль и прирост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фонд заработной платы и рабочую си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собствен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товары и услуг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логи на международную торговлю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опер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чие налог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3516-60BC-4911-A068-14E54B7E6A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ходы бюдж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expenditure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— использование государством поступивших в его распоряжение денежных сред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иды расход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екущие расходы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xpenditu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часть расходов, направляемая на финансирование текущей деятельности органов государственной вла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апитальные расходы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xpenditu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часть расходов, направляема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государственные инвестици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EDB1-719E-438C-BBCD-4E467AED08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аланс бюдж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lance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разность доходо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расходов правитель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фицит бюджета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rplu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ревышение доходов над расход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фицит бюджета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ci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ревышение расходов над доход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5. Государственный бюдже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CB26-3838-419B-98D5-C404E540F7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4. Экономика государства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akireyev</cp:lastModifiedBy>
  <dcterms:modified xsi:type="dcterms:W3CDTF">2007-06-07T22:13:37Z</dcterms:modified>
  <cp:revision>86</cp:revision>
  <dc:subject/>
  <dc:title>Глава 4. Экономика государства</dc:title>
</cp:coreProperties>
</file>