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173A-1167-4BD9-A695-AE70188A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58B1-803E-4560-BD17-9482030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6F9E-4E23-4A71-B624-59A07089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66B2-75F5-4554-8A3B-802F0F5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2E5B-C033-4595-AF48-96AC4C23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9428-4020-4D25-8407-6463D0B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FFF-B92C-4995-BB64-CEA51EB2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3FC7-5B56-4442-ACBD-104C050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14F-D4F2-423D-A777-5ADBC251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36C-0C69-49FE-AB7E-8B608E45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24A-74E9-43F4-8C69-FCB6DC0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5B2C-22E1-44B4-830B-B00FC5F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5411-8FC3-47B6-82DB-15A9FA9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19E4-E4E7-40E4-ADE9-6ECF39F0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4C8-1B69-4D9E-B4C0-A8BAAB5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892-F5E5-44BA-A2BB-F79E44C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DCB7-90C3-4086-BB7C-88D3690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5A6D-E87F-4DAB-A4FF-4CBE03D5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1FAB-C721-4FE5-9245-F2F67758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5140-7BD4-476B-A89A-06CB061F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80FE-95E4-4B44-B78B-D91005E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E09A-6EEF-478E-A939-25641F9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7110-AD52-4E8B-9CEE-9A89D73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C4A0-DA72-4A2F-8ED8-F6890AE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4BA-BF1A-4A40-B763-4E27DD3B46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A9B-D80D-486D-B454-F0ADE62ECC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0" y="690480"/>
            <a:ext cx="9045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прое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Интернет и дет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58920" y="23367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 работы: декабрь - февр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445000" y="2760840"/>
            <a:ext cx="36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гаева 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«А»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КОУ Кумылженская СОШ №1 имени А.Д. Знам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мкова Еле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411280" y="608796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-ца Кумылженская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ipertexto"/>
          <p:cNvPicPr/>
          <p:nvPr/>
        </p:nvPicPr>
        <p:blipFill>
          <a:blip r:embed="rId3"/>
          <a:stretch/>
        </p:blipFill>
        <p:spPr>
          <a:xfrm>
            <a:off x="1233360" y="2906640"/>
            <a:ext cx="3414960" cy="31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Объект 1" descr=""/>
          <p:cNvPicPr/>
          <p:nvPr/>
        </p:nvPicPr>
        <p:blipFill>
          <a:blip r:embed="rId3"/>
          <a:stretch/>
        </p:blipFill>
        <p:spPr>
          <a:xfrm>
            <a:off x="179280" y="619200"/>
            <a:ext cx="87854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Объект 1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9540720" cy="56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Объект 1" descr=""/>
          <p:cNvPicPr/>
          <p:nvPr/>
        </p:nvPicPr>
        <p:blipFill>
          <a:blip r:embed="rId3"/>
          <a:stretch/>
        </p:blipFill>
        <p:spPr>
          <a:xfrm>
            <a:off x="-735120" y="625320"/>
            <a:ext cx="10096560" cy="566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4366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грозы Интерне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281400" y="1125360"/>
            <a:ext cx="30002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http://android-mobile.ru/img/android-viruses-028212.jpg"/>
          <p:cNvPicPr/>
          <p:nvPr/>
        </p:nvPicPr>
        <p:blipFill>
          <a:blip r:embed="rId3"/>
          <a:stretch/>
        </p:blipFill>
        <p:spPr>
          <a:xfrm>
            <a:off x="1692360" y="2620800"/>
            <a:ext cx="6180120" cy="3595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1409760" y="1946160"/>
            <a:ext cx="67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ражения вредоносным 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348000" y="561960"/>
            <a:ext cx="30002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08000" y="141300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уп к материалам с  нежелательным содерж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1309995895"/>
          <p:cNvPicPr/>
          <p:nvPr/>
        </p:nvPicPr>
        <p:blipFill>
          <a:blip r:embed="rId3"/>
          <a:stretch/>
        </p:blipFill>
        <p:spPr>
          <a:xfrm>
            <a:off x="3780000" y="2222640"/>
            <a:ext cx="489564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0" y="623880"/>
            <a:ext cx="9144000" cy="5810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298680" y="515880"/>
            <a:ext cx="3000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-27000" y="134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зартные и жестокие иг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http://wiki.iteach.ru/images/9/90/%d0%98%d0%b3%d1%80%d0%be%d0%bc%d0%b0%d0%bd%d0%b8%d1%8f_%d0%b3%d0%b5%d1%80%d0%be%d0%b8%d0%bd_%d0%bd%d0%b0%d1%88%d0%b5%d0%b3%d0%be_%d0%b2%d1%80%d0%b5%d0%bc%d0%b5%d0%bd%d0%b8.jpg"/>
          <p:cNvPicPr/>
          <p:nvPr/>
        </p:nvPicPr>
        <p:blipFill>
          <a:blip r:embed="rId3"/>
          <a:stretch/>
        </p:blipFill>
        <p:spPr>
          <a:xfrm>
            <a:off x="993600" y="2048040"/>
            <a:ext cx="726156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VR00844.WAV" descr=""/>
          <p:cNvPicPr/>
          <p:nvPr/>
        </p:nvPicPr>
        <p:blipFill>
          <a:blip r:embed="rId1"/>
          <a:stretch/>
        </p:blipFill>
        <p:spPr>
          <a:xfrm>
            <a:off x="4327560" y="367992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98680" y="515880"/>
            <a:ext cx="3000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955880" y="134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тернет – зависим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www.periodistadigital.com/imagenes/2012/07/10/internet_560x280.jpg"/>
          <p:cNvPicPr/>
          <p:nvPr/>
        </p:nvPicPr>
        <p:blipFill>
          <a:blip r:embed="rId3"/>
          <a:stretch/>
        </p:blipFill>
        <p:spPr>
          <a:xfrm>
            <a:off x="166680" y="2016000"/>
            <a:ext cx="8810640" cy="4405320"/>
          </a:xfrm>
          <a:prstGeom prst="rect">
            <a:avLst/>
          </a:prstGeom>
          <a:ln w="0">
            <a:noFill/>
          </a:ln>
        </p:spPr>
      </p:pic>
      <p:pic>
        <p:nvPicPr>
          <p:cNvPr id="204" name="Презентация.mp3" descr=""/>
          <p:cNvPicPr/>
          <p:nvPr/>
        </p:nvPicPr>
        <p:blipFill>
          <a:blip r:embed="rId4"/>
          <a:stretch/>
        </p:blipFill>
        <p:spPr>
          <a:xfrm>
            <a:off x="7812000" y="85392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8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119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139920" y="404640"/>
            <a:ext cx="3000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52280" y="1193760"/>
            <a:ext cx="89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треча с неприятными и опасными людьми в чатах или других облас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sifk6_original"/>
          <p:cNvPicPr/>
          <p:nvPr/>
        </p:nvPicPr>
        <p:blipFill>
          <a:blip r:embed="rId3"/>
          <a:stretch/>
        </p:blipFill>
        <p:spPr>
          <a:xfrm>
            <a:off x="2268360" y="2500200"/>
            <a:ext cx="543096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139920" y="404640"/>
            <a:ext cx="3000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Угроз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119160" y="1436760"/>
            <a:ext cx="89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учение неточн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042920" y="2349360"/>
            <a:ext cx="7129440" cy="3600720"/>
          </a:xfrm>
          <a:prstGeom prst="rect">
            <a:avLst/>
          </a:prstGeom>
          <a:solidFill>
            <a:srgbClr val="c00000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152880" y="3336840"/>
            <a:ext cx="336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2=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90680" y="2133720"/>
            <a:ext cx="8229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комендации для снижения опасности при работе детей в Интерне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250920" y="1052640"/>
            <a:ext cx="864216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6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роблема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ногие родители, не достаточно хорошо осведомлены о рисках  и опасностях, подстерегающих их детей в Интерне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-1440" y="561960"/>
            <a:ext cx="9144000" cy="5962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179280" y="674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зрослые, посещайте Интернет вместе с детьм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http://dnz125.klasna.com/uploads/editor/superadmin_1_1/misc/image/1953422.jpg"/>
          <p:cNvPicPr/>
          <p:nvPr/>
        </p:nvPicPr>
        <p:blipFill>
          <a:blip r:embed="rId3"/>
          <a:stretch/>
        </p:blipFill>
        <p:spPr>
          <a:xfrm>
            <a:off x="1512720" y="1916280"/>
            <a:ext cx="614376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63440" y="836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ясните, нет ли проблем у ребенка, когда он работает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http://www.permucheba.ru/wp-content/uploads/2011/09/beseda-s-rebenkom.jpg"/>
          <p:cNvPicPr/>
          <p:nvPr/>
        </p:nvPicPr>
        <p:blipFill>
          <a:blip r:embed="rId3"/>
          <a:stretch/>
        </p:blipFill>
        <p:spPr>
          <a:xfrm>
            <a:off x="2065320" y="2565360"/>
            <a:ext cx="5013360" cy="375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90360" y="684360"/>
            <a:ext cx="89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размещайте  свои персональные д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http://img.lenta.ru/news/2006/05/22/passport/picture.jpg"/>
          <p:cNvPicPr/>
          <p:nvPr/>
        </p:nvPicPr>
        <p:blipFill>
          <a:blip r:embed="rId3"/>
          <a:stretch/>
        </p:blipFill>
        <p:spPr>
          <a:xfrm>
            <a:off x="2050920" y="220500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2050920" y="2205000"/>
            <a:ext cx="5329440" cy="3995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 flipH="1">
            <a:off x="2050920" y="2205000"/>
            <a:ext cx="5329440" cy="3995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125280" y="220500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когда не стоит встречаться с друзьями из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http://megalife.com.ua/uploads/posts/2010-12/1291185614_cbcbd989213b.jpg"/>
          <p:cNvPicPr/>
          <p:nvPr/>
        </p:nvPicPr>
        <p:blipFill>
          <a:blip r:embed="rId3"/>
          <a:stretch/>
        </p:blipFill>
        <p:spPr>
          <a:xfrm>
            <a:off x="4859280" y="944640"/>
            <a:ext cx="4111560" cy="52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5092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ряйте информацию   найденную в Интер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1042920" y="2325600"/>
            <a:ext cx="7129440" cy="3600360"/>
          </a:xfrm>
          <a:prstGeom prst="rect">
            <a:avLst/>
          </a:prstGeom>
          <a:solidFill>
            <a:srgbClr val="c00000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050920" y="2924280"/>
            <a:ext cx="5077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х2=5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92160" y="665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специальное программное обеспе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http://infodengy.ru/wp-content/uploads/2011/09/18.jpg"/>
          <p:cNvPicPr/>
          <p:nvPr/>
        </p:nvPicPr>
        <p:blipFill>
          <a:blip r:embed="rId3"/>
          <a:stretch/>
        </p:blipFill>
        <p:spPr>
          <a:xfrm>
            <a:off x="2952720" y="4151160"/>
            <a:ext cx="3340080" cy="2222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http://newsfromweb.ru/images/news14/009840ntrola.jpg"/>
          <p:cNvPicPr/>
          <p:nvPr/>
        </p:nvPicPr>
        <p:blipFill>
          <a:blip r:embed="rId4"/>
          <a:stretch/>
        </p:blipFill>
        <p:spPr>
          <a:xfrm>
            <a:off x="2906640" y="2279520"/>
            <a:ext cx="3813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s59.radikal.ru/i166/0902/01/df1e25dd7c5d.jpg"/>
          <p:cNvPicPr/>
          <p:nvPr/>
        </p:nvPicPr>
        <p:blipFill>
          <a:blip r:embed="rId5"/>
          <a:stretch/>
        </p:blipFill>
        <p:spPr>
          <a:xfrm>
            <a:off x="19080" y="2387520"/>
            <a:ext cx="2933640" cy="409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6"/>
          <a:stretch/>
        </p:blipFill>
        <p:spPr>
          <a:xfrm>
            <a:off x="6058080" y="2452680"/>
            <a:ext cx="30002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3"/>
          <p:cNvSpPr/>
          <p:nvPr/>
        </p:nvSpPr>
        <p:spPr>
          <a:xfrm>
            <a:off x="7920" y="549360"/>
            <a:ext cx="9144000" cy="5937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24000" y="4539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ыв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54080" y="1628640"/>
            <a:ext cx="87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ностью обезопасить детей от угроз Интернета невозможно Но, можно определить круг наиболее часто встречающихся Интернет – угр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 соблюдать рекомендации для снижения риска Интернет – угроз, можно значительно обезопасить детей  при работе в сети Интер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Прямоугольник 1" descr=""/>
          <p:cNvPicPr/>
          <p:nvPr/>
        </p:nvPicPr>
        <p:blipFill>
          <a:blip r:embed="rId3"/>
          <a:stretch/>
        </p:blipFill>
        <p:spPr>
          <a:xfrm>
            <a:off x="328680" y="1895400"/>
            <a:ext cx="84502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0" y="579600"/>
            <a:ext cx="9144000" cy="594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58640" y="6332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спользуемые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79280" y="1352520"/>
            <a:ext cx="878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//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hperk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u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ovety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ak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delat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ternet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lya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tej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olee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ezopasnym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ml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к сделать Интернет для детей более безопас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http://med-tutorial.ru/med-books/book/49/page/3-3-kompyuter-i-deti/46-deti-i-internet    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и 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http://www.internet-kontrol.ru/stati/deti-v-internete.html 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щита  детей от вредной информации в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bio.86sch10-nv.edusite.ru/    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семирная сеть и д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http://www.greenmama.ru/nid/140391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и и интернет: какие опасности скрывает всемирная пау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http://inetedu.ru/articles/26-security/153-internet-for-children.html   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лияние Интернета на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http://www.antivirus-navigator.com/articles/kids-internet.htm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и в интерн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http://video.mail.ru/catalog/static/bezop_inet.html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зопасный Интернет - дет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9280" y="67464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ктуальност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79280" y="162864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йдя в Интернет, можно запросто встретить даже на сайтах, предназначенных для детей неподходящие материалы, непристойные всплывающие окна. Самое главное для родителей и взрослых людей обеспечить безопасный Интернет дл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539640" y="671400"/>
            <a:ext cx="453708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ипотеза: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57040" y="1477800"/>
            <a:ext cx="85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можно определить круг наиболее часто встречающихся угроз Интернета и дать советы о том, какие меры предосторожности нужно предприним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5560" y="689040"/>
            <a:ext cx="731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Цель исследования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82520" y="2133720"/>
            <a:ext cx="871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яснить, что можно и нужно делать, чтобы всемирная сеть не становилась врагом юных пользовате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341280" y="636480"/>
            <a:ext cx="84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Задачи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79280" y="1406520"/>
            <a:ext cx="878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определить, как часто и продолжительно дети пользуются Интернетом, что делают школьники в сети и размещают ли информацию о с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изучить и проанализировать литературу  и Интернет – источники по данной те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ыяснить, какие угрозы Интернета существу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изучить  рекомендации для снижения опасности при работе в Интерне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делать выводы полученных результатов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660240"/>
            <a:ext cx="9144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зультаты опроса школьников 8 – 1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бъект 1" descr=""/>
          <p:cNvPicPr/>
          <p:nvPr/>
        </p:nvPicPr>
        <p:blipFill>
          <a:blip r:embed="rId3"/>
          <a:stretch/>
        </p:blipFill>
        <p:spPr>
          <a:xfrm>
            <a:off x="-1293840" y="1147680"/>
            <a:ext cx="10437840" cy="482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Объект 1" descr=""/>
          <p:cNvPicPr/>
          <p:nvPr/>
        </p:nvPicPr>
        <p:blipFill>
          <a:blip r:embed="rId3"/>
          <a:stretch/>
        </p:blipFill>
        <p:spPr>
          <a:xfrm>
            <a:off x="-541440" y="750960"/>
            <a:ext cx="968544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0" y="665280"/>
            <a:ext cx="9144000" cy="578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Объект 1" descr=""/>
          <p:cNvPicPr/>
          <p:nvPr/>
        </p:nvPicPr>
        <p:blipFill>
          <a:blip r:embed="rId3"/>
          <a:stretch/>
        </p:blipFill>
        <p:spPr>
          <a:xfrm>
            <a:off x="90360" y="665280"/>
            <a:ext cx="8963280" cy="583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7:30:30Z</dcterms:created>
  <dc:creator>*</dc:creator>
  <dc:description/>
  <dc:language>en-US</dc:language>
  <cp:lastModifiedBy>алексей</cp:lastModifiedBy>
  <dcterms:modified xsi:type="dcterms:W3CDTF">2013-02-24T17:59:32Z</dcterms:modified>
  <cp:revision>74</cp:revision>
  <dc:subject/>
  <dc:title>Ребёнок + Интернет = ??? или  Как уберечь ребёнка от опасностей,  подстерегающих его в сети? (пособие для родителей и не только…)</dc:title>
</cp:coreProperties>
</file>