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1.wmf" ContentType="image/x-wmf"/>
  <Override PartName="/ppt/media/image12.jpeg" ContentType="image/jpeg"/>
  <Override PartName="/ppt/media/image7.wmf" ContentType="image/x-wmf"/>
  <Override PartName="/ppt/media/image30.jpeg" ContentType="image/jpeg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.png" ContentType="image/png"/>
  <Override PartName="/ppt/media/image29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940-1608-48F7-8DE8-5E2838EB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75A-A455-4366-87A2-3F88F39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537-AE4B-45F8-9616-E3D1227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919-73F3-4518-AE6B-0A5303E6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BCC-8784-428A-8B16-A7AA4DA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E0F-5809-4425-BEC3-57D8CE5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DBE4-2544-4E87-BBAA-5DA1EA1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1FCF-72EA-4507-866C-E4AC4DC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01F-4E2C-4438-B671-7710097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BBF-074F-42BC-9C85-00E1071F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895D-3244-448B-AA52-D85B53E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F07-0F7F-48D6-B4F9-14DA30E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35B-AD48-4E8A-9997-58EDBD1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517-07EE-414E-990A-0F53419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E131-F0BB-4528-BD87-130747C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4C54-CD0F-4222-9117-3ED7A770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5FCC-2A52-4A3F-B0EA-D1EF8000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13AE-EA46-4B4E-B050-9457B355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10CB-F358-441C-B037-205D7EA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085F-AF6D-4F79-ACD5-3E303B5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9218-DDB3-46FD-AE12-2C156841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1069-AEC9-4A31-9F74-01292B16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ABE-8989-44D3-A30D-98588FC2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1047-B141-4D25-B096-41BED9E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D8BD-A106-4BD1-A933-87F5B68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42E2-A4A9-41FE-AF87-7F14D69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5921-29BC-4CFE-A618-90252FF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FFC1-7EE3-4EAB-8B8B-A45FD972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3414-6796-4CA7-BE45-6F31119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2725-9292-41E8-A321-89612590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B8C1-FF07-4B08-9D95-309C85F8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35FA-A85B-4A9B-AFCB-F531D56F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FEBF-80AF-4569-A9D7-99574F5E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C52-6105-4CDD-9073-9870216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B770-B57F-4E15-B884-662E5DF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875F-1E8B-4546-97E9-F649BA5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2B6C-04E1-45ED-B916-B3FF5D1D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A8E2-1E40-439C-B961-276307F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5321-6375-4424-A697-7CFBCF8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A599-E940-4FC6-A9DC-C7B9592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D84C-DE6E-49EF-A1DC-4FD454D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0C20-2324-4CE7-AC93-27A50A82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A9C4-382D-43A6-B5E3-0096F0FE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22D-B280-4DA7-A3DA-0DFE62B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86F-B879-4332-B5C1-6D5D3F2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C65-5748-4FAF-845F-C29E6EB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D56-FF8E-4CD0-ABA6-AFAE2D2F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A3E-8FA6-4D43-BB8F-43C18AF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54D4-7400-4574-AA12-C9AF3AE164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1B4B-A5DA-4E9A-845F-95673305F1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E302-5836-4137-A56E-FD12512483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9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9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7518-A608-4232-A02D-A63C4AB779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5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5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Как нам жить 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ентация, составленна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ьми 5 отря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доровительного лагер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оград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. Йошкар – Ола, 2006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164360" y="5013360"/>
            <a:ext cx="1776600" cy="1631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50920" y="5172120"/>
            <a:ext cx="151272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оль прир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еки и леса – это богатство и украшение планеты. Они требуют защит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199280" y="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769000" y="2708280"/>
            <a:ext cx="2789280" cy="36734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4249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оль прир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чезают с лица Земли некоторые виды животных и раст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655800" cy="2519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285920" cy="1387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3200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оль прир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чезают запасы природных богат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17680" cy="1530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3672000" cy="3754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003640" y="2349360"/>
            <a:ext cx="3302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дьба природы – наша судьба 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граничь изъятие природных богат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учись использовать отход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анови загрязнение сре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2401920" cy="2406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174760" cy="2789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093080" y="2133720"/>
            <a:ext cx="1985760" cy="2039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6516720" y="4869000"/>
            <a:ext cx="2287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умайте сам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зови исчезающих животных наше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зови редкие растения нашего кр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 можно использовать отходы деятельности человека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чему, сажая растения, мы одновременно охраняем почву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8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опросы для повтор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й ущерб могут причинить природе промышленность и сельское хозяйств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то создал искусственную экосисте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то в искусственной экосистем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 является главной причиной экологической катастрофы на Земл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443640" y="5043600"/>
            <a:ext cx="1819440" cy="181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324000" y="5030640"/>
            <a:ext cx="1827000" cy="1827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7524720" y="2565360"/>
            <a:ext cx="1779480" cy="2303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851280" y="4797360"/>
            <a:ext cx="200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ыводы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сконтрольное могущество человека – самая большая угроза в современном мир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 сожалению, человек нанёс большой урон природе, она просит защиты, её необходимо оберегать!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360" y="3429000"/>
            <a:ext cx="264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Над проектом работал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ганов Вад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пов Дмит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ндальцева Евг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алагина Ан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Юзыкайн  Элья – Йуке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езруков Алекс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699240" y="5084640"/>
            <a:ext cx="1314360" cy="1773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995640" y="5030640"/>
            <a:ext cx="1357560" cy="1827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1619280" y="5229360"/>
            <a:ext cx="1276200" cy="1628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6516720" y="1052640"/>
            <a:ext cx="18432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лагодарим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водителя проекта  - воспитателя 5 отря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чиеву Раису Александров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556000" y="2637000"/>
            <a:ext cx="34448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Цель проект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1.Узнать, как достижения науки и техники сказываются  на жизни нашей планеты Земл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2. Какие опасности таятся в их использован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3.  Узнать как предупредить экологические катастрофы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413480" y="2997360"/>
            <a:ext cx="1730520" cy="17064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067280" y="486900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15920" y="0"/>
            <a:ext cx="1295280" cy="242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885 -0.05394 C 0.06007 -0.05394 0.11615 -0.02546 0.11615 0.00995 C 0.11615 0.04514 0.06007 0.07384 -0.00885 0.07384 C -0.07795 0.07384 -0.13385 0.04514 -0.13385 0.00995 C -0.13385 -0.02546 -0.07795 -0.05394 -0.00885 -0.05394 Z">
                                      <p:cBhvr>
                                        <p:cTn id="6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1. Определить, как сказываются на жизни людей достижения науки и техники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2. Узнать, как достижения людей влияют на природу ?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3. Узнать, что должны сделать люди для того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чтобы предотвратить экологические катастроф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4. Подготовить материал для уроков естествозн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5. Воспитать любовь к родной природе,  и планете Земля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"/>
          <p:cNvSpPr/>
          <p:nvPr/>
        </p:nvSpPr>
        <p:spPr>
          <a:xfrm>
            <a:off x="2626920" y="333360"/>
            <a:ext cx="45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451640" y="2060640"/>
            <a:ext cx="1500120" cy="1527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268360" y="5661000"/>
            <a:ext cx="890640" cy="804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839000" y="5445000"/>
            <a:ext cx="13050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38240"/>
            <a:ext cx="9324720" cy="6312960"/>
            <a:chOff x="0" y="138240"/>
            <a:chExt cx="9324720" cy="6312960"/>
          </a:xfrm>
        </p:grpSpPr>
        <p:cxnSp>
          <p:nvCxnSpPr>
            <p:cNvPr id="286" name="_s6162"/>
            <p:cNvCxnSpPr>
              <a:stCxn id="287" idx="0"/>
              <a:endCxn id="288" idx="2"/>
            </p:cNvCxnSpPr>
            <p:nvPr/>
          </p:nvCxnSpPr>
          <p:spPr>
            <a:xfrm flipV="1" rot="16200000">
              <a:off x="5950080" y="1374120"/>
              <a:ext cx="1263240" cy="3840120"/>
            </a:xfrm>
            <a:prstGeom prst="bentConnector3">
              <a:avLst>
                <a:gd name="adj1" fmla="val 90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6160"/>
            <p:cNvCxnSpPr>
              <a:stCxn id="290" idx="0"/>
              <a:endCxn id="288" idx="2"/>
            </p:cNvCxnSpPr>
            <p:nvPr/>
          </p:nvCxnSpPr>
          <p:spPr>
            <a:xfrm flipV="1" rot="16200000">
              <a:off x="4991400" y="2332800"/>
              <a:ext cx="1263240" cy="1922400"/>
            </a:xfrm>
            <a:prstGeom prst="bentConnector3">
              <a:avLst>
                <a:gd name="adj1" fmla="val 90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1" name="_s6158"/>
            <p:cNvCxnSpPr>
              <a:stCxn id="292" idx="0"/>
              <a:endCxn id="288" idx="2"/>
            </p:cNvCxnSpPr>
            <p:nvPr/>
          </p:nvCxnSpPr>
          <p:spPr>
            <a:xfrm flipV="1">
              <a:off x="4662000" y="2662560"/>
              <a:ext cx="2520" cy="126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3" name="_s6157"/>
            <p:cNvCxnSpPr>
              <a:stCxn id="294" idx="0"/>
              <a:endCxn id="288" idx="2"/>
            </p:cNvCxnSpPr>
            <p:nvPr/>
          </p:nvCxnSpPr>
          <p:spPr>
            <a:xfrm flipH="1" flipV="1" rot="5400000">
              <a:off x="3070800" y="2334240"/>
              <a:ext cx="1263240" cy="1920240"/>
            </a:xfrm>
            <a:prstGeom prst="bentConnector3">
              <a:avLst>
                <a:gd name="adj1" fmla="val 90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5" name="_s6156"/>
            <p:cNvCxnSpPr>
              <a:stCxn id="296" idx="0"/>
              <a:endCxn id="288" idx="2"/>
            </p:cNvCxnSpPr>
            <p:nvPr/>
          </p:nvCxnSpPr>
          <p:spPr>
            <a:xfrm flipH="1" flipV="1" rot="5400000">
              <a:off x="2111760" y="1375200"/>
              <a:ext cx="1263240" cy="3837960"/>
            </a:xfrm>
            <a:prstGeom prst="bentConnector3">
              <a:avLst>
                <a:gd name="adj1" fmla="val 90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8" name="_s6152"/>
            <p:cNvSpPr/>
            <p:nvPr/>
          </p:nvSpPr>
          <p:spPr>
            <a:xfrm>
              <a:off x="3839400" y="13824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стиж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еловечеств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6153"/>
            <p:cNvSpPr/>
            <p:nvPr/>
          </p:nvSpPr>
          <p:spPr>
            <a:xfrm>
              <a:off x="0" y="392616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извест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род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новид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ганизм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6154"/>
            <p:cNvSpPr/>
            <p:nvPr/>
          </p:nvSpPr>
          <p:spPr>
            <a:xfrm>
              <a:off x="1919520" y="392616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осисте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6155"/>
            <p:cNvSpPr/>
            <p:nvPr/>
          </p:nvSpPr>
          <p:spPr>
            <a:xfrm>
              <a:off x="3839400" y="392616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е веще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материа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6159"/>
            <p:cNvSpPr/>
            <p:nvPr/>
          </p:nvSpPr>
          <p:spPr>
            <a:xfrm>
              <a:off x="5759280" y="392616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кори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л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р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6161"/>
            <p:cNvSpPr/>
            <p:nvPr/>
          </p:nvSpPr>
          <p:spPr>
            <a:xfrm>
              <a:off x="7679160" y="3926160"/>
              <a:ext cx="1645560" cy="2525040"/>
            </a:xfrm>
            <a:custGeom>
              <a:avLst/>
              <a:gdLst>
                <a:gd name="textAreaLeft" fmla="*/ 80280 w 1645560"/>
                <a:gd name="textAreaRight" fmla="*/ 1565280 w 1645560"/>
                <a:gd name="textAreaTop" fmla="*/ 80280 h 2525040"/>
                <a:gd name="textAreaBottom" fmla="*/ 2444760 h 2525040"/>
              </a:gdLst>
              <a:ahLst/>
              <a:rect l="textAreaLeft" t="textAreaTop" r="textAreaRight" b="textAreaBottom"/>
              <a:pathLst>
                <a:path w="21600" h="33142">
                  <a:moveTo>
                    <a:pt x="3600" y="0"/>
                  </a:moveTo>
                  <a:arcTo wR="3600" hR="3600" stAng="16200000" swAng="-5400000"/>
                  <a:lnTo>
                    <a:pt x="0" y="29542"/>
                  </a:lnTo>
                  <a:arcTo wR="3600" hR="3600" stAng="10800000" swAng="-5400000"/>
                  <a:lnTo>
                    <a:pt x="18000" y="331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шло н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нерг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178920" y="523800"/>
              <a:ext cx="3136680" cy="282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508720" y="449280"/>
            <a:ext cx="338436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блемы человечест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ловек научился использовать природные богатства для своих нужд так хорошо, что численность человечества выросла в два раза, с ростом населения Земли стали расти и проблемы человече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Круговорот веществ в природе становится незамкнутым: в окружающей среде остаётся меньше веществ, нужных человеку,  и накапливается много ненужных вредных и ядовитых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16720" y="5091120"/>
            <a:ext cx="163188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8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блемы человечест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лодородных земель не хватает, чтобы обеспечить население продовольствием, миллионы людей на земле голод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500280"/>
            <a:ext cx="6588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копаемое топливо (газ, нефть, каменный уголь)  не бесконечны, запасы его подойдут к кон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219400" cy="3048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блемы  человечест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грязнение среды обитания человека вредными отходами приводит к гибели многих видов животных и растений, а также самого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ё чаще происходят на Земле экологические катастрофы. Разрастание хозяйства человека нарушающего круговорот веществ, угрожает будущему нашей плане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1440" y="3068640"/>
            <a:ext cx="1582560" cy="1568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оль прир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грязняется воздух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478560" y="2781360"/>
            <a:ext cx="2665440" cy="26049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643120" cy="3257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7885080" y="0"/>
            <a:ext cx="1351080" cy="1459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3564000" y="2997360"/>
            <a:ext cx="226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оль прир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рушается почва. За последние 100 лет на планете разрушена 1\4 часть плодородных земел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217520" cy="1314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692360" y="3429000"/>
            <a:ext cx="2276280" cy="28926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33163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07:50:28Z</dcterms:created>
  <dc:creator>User</dc:creator>
  <dc:description/>
  <dc:language>en-US</dc:language>
  <cp:lastModifiedBy>User</cp:lastModifiedBy>
  <dcterms:modified xsi:type="dcterms:W3CDTF">2006-06-27T08:38:37Z</dcterms:modified>
  <cp:revision>8</cp:revision>
  <dc:subject/>
  <dc:title>Слайд 1</dc:title>
</cp:coreProperties>
</file>