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6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4.jpeg" ContentType="image/jpeg"/>
  <Override PartName="/ppt/media/image7.wmf" ContentType="image/x-wmf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DAE-8119-482D-82B2-1B586A58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832E-AC8D-4587-B21A-A55B0037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3A52B-2F27-4318-B5A4-6AA32E07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C00AF-4184-462B-9776-5480164F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AA1E7-1F79-4615-A9E9-9DB2F8F4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2CAFD-F342-44C5-A021-C9D833C1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84205-7C6D-41E4-BD42-817AEA18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A345E-339E-4773-9873-E92C5B71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EF0B2-70E1-4181-85DE-CEB198E3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4B6A6-1AF1-4AD0-917B-57969A2B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03983-14E6-4370-9163-BE343B55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F1542D-A68F-4C35-BD31-951CBB84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AD0-ADB9-4147-A8F4-DFABE83B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C1D2DF-71C7-4860-A9C8-C264704A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B80CCA-2465-473A-8585-346CCB00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E80E0C-AD3C-4BEC-8501-601A9040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0F2EA3-641A-4468-A255-DDE4E975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8B1EAE-95A0-4477-A2E0-27431F2D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8EDD1D-DCAA-424B-B052-8276315C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13DE97-517A-469D-AA0E-885DC382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2D35CF-A01A-4470-B5FF-9BBC5C42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E8A684-24CF-4519-A6F4-85427630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22650C-0B4C-40BA-9829-58416B38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FEE2-6472-4E3D-A765-D73720BE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9CCA22-0887-4508-8D6A-7AFD59A4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FC5F-1368-49BD-A829-2579EB87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30A0-AE38-4C63-B780-7EAD9A12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CE13-1341-45E5-85FB-DF6DEE21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0FC3-1011-4860-96F5-32D07437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C53C-C06D-44B1-8BED-1C66F8E5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0585-6BAC-4CEB-B988-FE0C50E9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D251-CBAB-40F4-ADA4-E6F39780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2108-96CB-4B0A-A0F8-568277AE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EC82-6068-49AC-B37F-B6EBE955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02C7-44CA-4935-839C-3B81D907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D5A9-5B64-45ED-807C-7F90620C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0B9D-4E3D-486E-833B-A15091A9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9FC3-B032-4C00-AD9B-301FD8F1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E775B-6E77-41B6-A4A5-D754D4A2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D3F5C-DB02-4D4E-8C64-BD83AD82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BF624-4EB8-4995-85A4-7CBB802E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CA9D5-A9B6-4E93-8673-B830C1C5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3B6A-2DA5-481B-877D-A5882C86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343-211A-4285-AB8D-2496F0C6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633B3-FE53-4876-BDAF-F7A507AF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B1E9C-A5CD-4CC9-A831-04A52E87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DD664-E978-472E-A054-96E89E75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7EAE4-94BA-4DDF-920A-542B2903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6EC4B-0921-40BD-A8E7-29064001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1E987-70C6-414C-BDA6-A7F424B5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B4B2E-4096-432D-9BE5-8F4E1289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B023F-B26F-4DD7-BC7B-A1371593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85ECB-E594-420E-82C0-F7FDA795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BA79E-47F0-4E34-A78D-8BA5ED52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288-85CD-4C02-A289-FF3E63F4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9C4DA-5EB3-462C-ACE8-7A14AA92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79B93-5986-4687-9BC5-6A780E8F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4F0F0-769B-4304-A73B-CFB473EA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D49E6-474E-456F-ABDA-7FAEE566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91BF0-2A0E-4CA8-96FE-63FB41DE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DB55D-2FDA-4EDC-87F4-FE7F64E3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C3691-97CA-4175-AED4-AD4ADEC1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8B100-D855-43DD-89AB-DF3228DE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2A7C9-FCCC-4BD0-9398-8D74A4FF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B68FEA-F610-47B5-A3EB-64BBAFB9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91C-6EED-405C-8991-7DFB8227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132AAF-A1B9-4096-86AC-1E4082B9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6232BD-5F55-4A51-81C5-56D31BF6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D79D99-2758-40F3-B750-7D6F081D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022DDC-F0FC-4DF8-BEA9-DF990A96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FC2F7F-EB5A-4BCE-8C19-FBB161B5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F0F414-6F86-4B8C-BBD0-4504A6B0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8F256B-D1ED-49C5-B5C3-ECFFB085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B55E5B-F5A8-4D35-B824-549E5D63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BD012-4B11-464E-9E0C-E2233A2E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E347DE-F54D-4679-8FEB-D99BC2C6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FEB-59CE-45E7-BD6A-C382DADA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7933DB-09B5-4C1B-A270-6BE2D92E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DABBF-C05E-478F-9317-81906CF2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7700A-60DE-4CB1-9260-3EE007FE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78D1E-06F0-48D6-B2A2-631EE9C0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0CDB7-0DD6-44C7-B7B2-739AD06A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4B38C-5237-4DBC-880B-27866AB1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C9026-5097-4CBB-9540-65946D11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E2C6E-79C2-4E89-B7ED-A5E43163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D788A-DDC3-4E6E-83DF-E1A70BBF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E5653-7FCB-4E8D-9AB2-28692D46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A70-3983-400F-939F-18424269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3B05D-2D0E-4D7A-A4F9-804F4C6A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86521-FCFE-4471-B27E-5ED1889F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3276F-B30C-4676-84B3-70F95644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2C5169-0F67-42D0-94EC-005E239D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6B1BEF-898C-4B46-8521-D80326D6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F96D98-60FE-4BA6-BA2B-5A941540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388079-76B4-46AC-A2F3-71D4B165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7C82E1-57F3-4177-B022-A0E682BC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6B5583-0932-4E3C-8A33-C0B82832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E9F1C7-5797-4C89-9EC0-006A6DA3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D180-87C1-4639-9511-16ECB65E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5994C7-C358-49FD-BA30-A55AA0D2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35C701-DFB9-4232-8A30-FCC701C1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C95BF2-68AF-42D1-9CCA-69ABC22D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D25EE2-AB3F-4EF6-900C-CB3905F7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150242-F6C7-44FD-A097-40C79864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8247D-C810-477D-B90A-FACF11CD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84F70-DD1C-48E9-AE58-0BFD01E1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2830A-00F2-4766-A6F0-2B408C50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E7846-197B-4A0F-AEAC-066F87AF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DB0A8-4772-4D29-B87C-19DD8DD6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F111-CD01-49FD-9B25-E1062421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25079-FCCC-41FD-BB9A-80F934AD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057C8-6F59-4550-8264-DB223E56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E7C58-49E5-44E6-8885-0260B232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A8046-DBFC-475A-B66F-309D9B2C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53663-E843-450C-A0E4-4A74C2AA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CD335-2C61-41B1-9B9E-ED7513D0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8D3D5-F2AD-4540-9364-ABC306AE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B7B29-60A2-4FE7-8A0C-E69B6EF2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85069-FBFD-4FAD-9E54-A065AD51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E69C1-0580-48DE-8728-ECAD75E7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4543-21CC-41B3-B9C8-97F7887CA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14DD-8FF6-4B1F-9C7D-99B1A8A8559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FCD1-95C8-4B0C-B11E-780CE044A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63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1A4D-7DC7-4F63-822E-CE25E65E65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213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FEFD-BFD9-423B-ADF2-1BF0A75B9B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6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107A-865B-4B67-8CD1-B7DCD90C229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2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49B6-D2BA-4284-940C-66FE30EA1F7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389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39A7-87EF-401D-98D3-EDD71F832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dt" idx="2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ftr" idx="2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646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E971-7E36-47D6-B777-A5007CF9D9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CEB9-834F-4DD5-8943-335169A96F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8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mmdtp://$155951/" TargetMode="External"/><Relationship Id="rId3" Type="http://schemas.openxmlformats.org/officeDocument/2006/relationships/hyperlink" Target="mmdtp://$156047/" TargetMode="External"/><Relationship Id="rId4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Государственное общеобразовательное учреждение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средняя общеобразовательная школа № 466 Курортного административного района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Санкт-Петербурга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1981080" y="403848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Адрес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Санкт-Петербург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пос.Песочный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ул. Речная, д.24/26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индекс 19775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тел.: 5968685, 5966636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4754520" cy="331632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Для более глубокого изучения материала имеются сноски, которые называются «Знаете ли вы, что…»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В заливе Кара-Богаз-Гол в воде содержится 30% глауберовой соли и при температуре +5</a:t>
            </a:r>
            <a:r>
              <a:rPr b="1" i="1" lang="en-US" sz="2800" spc="-1" strike="noStrike" baseline="30000">
                <a:solidFill>
                  <a:srgbClr val="990000"/>
                </a:solidFill>
                <a:latin typeface="Times New Roman"/>
                <a:ea typeface="Times New Roman"/>
              </a:rPr>
              <a:t>о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С эта соль выпадает в виде белого осадка, как снег, а с наступлением теплого времени соль снова растворяется. Так как в этом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заливе глауберова соль то появляется, то исчезает, она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была названа мирабилитом, что означает «удивительная соль».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Для того, чтобы изучаемый материал усваивался лучше, в учебнике даны таблицы-обобщения, схемы химических процессов, диаграммы применения химических веществ и, конечно, рассказывается об ученых-химиках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5186160" cy="20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.А.Аррениус (1859-1927)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Шведский ученый, академи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 1887 г. сформулиров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сновные положения об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электролитической диссоциац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Имеет ряд других научных исследова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1135080" cy="152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8" name=""/>
          <p:cNvGraphicFramePr/>
          <p:nvPr/>
        </p:nvGraphicFramePr>
        <p:xfrm>
          <a:off x="685800" y="4292640"/>
          <a:ext cx="3525840" cy="22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292640"/>
                    <a:ext cx="352584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0" name=""/>
          <p:cNvGraphicFramePr/>
          <p:nvPr/>
        </p:nvGraphicFramePr>
        <p:xfrm>
          <a:off x="7543800" y="2286000"/>
          <a:ext cx="1476360" cy="4267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43800" y="2286000"/>
                    <a:ext cx="147636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2" name=""/>
          <p:cNvSpPr/>
          <p:nvPr/>
        </p:nvSpPr>
        <p:spPr>
          <a:xfrm>
            <a:off x="6012000" y="580536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Механизм диссоциации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211640" y="429264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Применение углерода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500"/>
                            </p:stCondLst>
                            <p:childTnLst>
                              <p:par>
                                <p:cTn id="39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000"/>
                            </p:stCondLst>
                            <p:childTnLst>
                              <p:par>
                                <p:cTn id="39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0" y="152280"/>
            <a:ext cx="3352680" cy="2514600"/>
          </a:xfrm>
          <a:prstGeom prst="cloudCallout">
            <a:avLst>
              <a:gd name="adj1" fmla="val 53694"/>
              <a:gd name="adj2" fmla="val 6426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99"/>
                </a:solidFill>
                <a:latin typeface="Times New Roman"/>
              </a:rPr>
              <a:t>Приведены примеры решения расчетных задач, на которые даны ответы, по которым ученик может проверить себя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581280" y="0"/>
            <a:ext cx="3727440" cy="2133720"/>
          </a:xfrm>
          <a:prstGeom prst="cloudCallout">
            <a:avLst>
              <a:gd name="adj1" fmla="val -48166"/>
              <a:gd name="adj2" fmla="val 8965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99"/>
                </a:solidFill>
                <a:latin typeface="Times New Roman"/>
              </a:rPr>
              <a:t>После каждой темы есть описание лабораторных опытов и практических работ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508720" y="2060640"/>
            <a:ext cx="3483000" cy="2435040"/>
          </a:xfrm>
          <a:prstGeom prst="cloudCallout">
            <a:avLst>
              <a:gd name="adj1" fmla="val -94300"/>
              <a:gd name="adj2" fmla="val -6712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Хотелось бы, чтобы таблица растворимости солей и ряд напряжений металлов были на форзаце учебника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0" y="3809880"/>
            <a:ext cx="3254400" cy="2362320"/>
          </a:xfrm>
          <a:prstGeom prst="cloudCallout">
            <a:avLst>
              <a:gd name="adj1" fmla="val 57365"/>
              <a:gd name="adj2" fmla="val -7674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99"/>
                </a:solidFill>
                <a:latin typeface="Times New Roman"/>
              </a:rPr>
              <a:t>В разделе «Химические производства» рассказывается о профессиях в области химии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352680" y="4343400"/>
            <a:ext cx="3457800" cy="2362320"/>
          </a:xfrm>
          <a:prstGeom prst="cloudCallout">
            <a:avLst>
              <a:gd name="adj1" fmla="val -41138"/>
              <a:gd name="adj2" fmla="val -100875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Неудобным показалось то, что задачи и упражнения к параграфу нужно искать в конце всей темы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 txBox="1"/>
          <p:nvPr/>
        </p:nvSpPr>
        <p:spPr>
          <a:xfrm>
            <a:off x="1143000" y="1523880"/>
            <a:ext cx="70866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ccff"/>
                </a:solidFill>
                <a:latin typeface="Tahoma"/>
              </a:rPr>
              <a:t>Благодарю за внимание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00ccff"/>
              </a:solidFill>
              <a:latin typeface="Tahoma"/>
              <a:ea typeface="Tahoma"/>
            </a:endParaRPr>
          </a:p>
        </p:txBody>
      </p:sp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Мой учебник химии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00360" y="3789360"/>
            <a:ext cx="44607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Выполнила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ученица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9 «А» класса Купцова Мария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0" name="" descr=""/>
          <p:cNvPicPr/>
          <p:nvPr/>
        </p:nvPicPr>
        <p:blipFill>
          <a:blip r:embed="rId1"/>
          <a:stretch/>
        </p:blipFill>
        <p:spPr>
          <a:xfrm>
            <a:off x="755640" y="4365720"/>
            <a:ext cx="3594240" cy="2038320"/>
          </a:xfrm>
          <a:prstGeom prst="rect">
            <a:avLst/>
          </a:prstGeom>
          <a:ln w="0">
            <a:noFill/>
          </a:ln>
        </p:spPr>
      </p:pic>
      <p:sp>
        <p:nvSpPr>
          <p:cNvPr id="991" name=""/>
          <p:cNvSpPr/>
          <p:nvPr/>
        </p:nvSpPr>
        <p:spPr>
          <a:xfrm>
            <a:off x="179280" y="2060640"/>
            <a:ext cx="61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Тема проекта: «Я – как ученик…»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Научные руководители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заведующий библиотекой – Фирфарова В.М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учитель химии – Овчарова О.Э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Times New Roman"/>
              </a:rPr>
              <a:t>Оглав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2314080" y="2133720"/>
            <a:ext cx="68295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>
              <a:spcBef>
                <a:spcPts val="799"/>
              </a:spcBef>
              <a:buClr>
                <a:srgbClr val="33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Что такое химия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Об учебнике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Основные разделы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«Знаете ли вы, что…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Портретная галерея, таблицы, схемы, диаграммы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Плюсы и минусы учебник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</a:t>
            </a:r>
            <a:br>
              <a:rPr sz="2000"/>
            </a:br>
            <a:br>
              <a:rPr sz="2000"/>
            </a:br>
            <a:br>
              <a:rPr sz="2400"/>
            </a:br>
            <a:r>
              <a:rPr b="0" lang="ru-RU" sz="2400" spc="-1" strike="noStrike">
                <a:solidFill>
                  <a:srgbClr val="66ccff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66ccff"/>
                </a:solidFill>
                <a:latin typeface="Times New Roman"/>
              </a:rPr>
              <a:t>Химия - интересная и сложная наука. Химия — одна из отраслей естествознания, предметом изучения которой являются химические элементы (</a:t>
            </a:r>
            <a:r>
              <a:rPr b="0" lang="ru-RU" sz="2400" spc="-1" strike="noStrike" u="sng">
                <a:solidFill>
                  <a:srgbClr val="9c004e"/>
                </a:solidFill>
                <a:uFillTx/>
                <a:latin typeface="Times New Roman"/>
                <a:hlinkClick r:id="rId2"/>
              </a:rPr>
              <a:t>атомы</a:t>
            </a:r>
            <a:r>
              <a:rPr b="0" lang="ru-RU" sz="2400" spc="-1" strike="noStrike">
                <a:solidFill>
                  <a:srgbClr val="66ccff"/>
                </a:solidFill>
                <a:latin typeface="Times New Roman"/>
              </a:rPr>
              <a:t>), образуемые ими простые и сложные вещества (</a:t>
            </a:r>
            <a:r>
              <a:rPr b="0" lang="ru-RU" sz="2400" spc="-1" strike="noStrike" u="sng">
                <a:solidFill>
                  <a:srgbClr val="9c004e"/>
                </a:solidFill>
                <a:uFillTx/>
                <a:latin typeface="Times New Roman"/>
                <a:hlinkClick r:id="rId3"/>
              </a:rPr>
              <a:t>молекулы</a:t>
            </a:r>
            <a:r>
              <a:rPr b="0" lang="ru-RU" sz="2400" spc="-1" strike="noStrike">
                <a:solidFill>
                  <a:srgbClr val="66ccff"/>
                </a:solidFill>
                <a:latin typeface="Times New Roman"/>
              </a:rPr>
              <a:t>), их превращения и законы, которым подчиняются эти превращения. По определению Д. И. Менделеева (1871), «химию в современном ее состоянии можно... назвать учением об элементах»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ccff"/>
                </a:solidFill>
                <a:latin typeface="Times New Roman"/>
              </a:rPr>
              <a:t>      Происхождение слова «химия» выяснено не окончательно. Многие исследователи полагают, что оно происходит от старинного наименования Египта — Хемия (греч. Chem</a:t>
            </a:r>
            <a:r>
              <a:rPr b="0" lang="ru-RU" sz="2400" spc="-1" strike="noStrike">
                <a:solidFill>
                  <a:srgbClr val="66ccff"/>
                </a:solidFill>
                <a:latin typeface="Arial"/>
                <a:ea typeface="Arial"/>
              </a:rPr>
              <a:t>í</a:t>
            </a:r>
            <a:r>
              <a:rPr b="0" lang="ru-RU" sz="2400" spc="-1" strike="noStrike">
                <a:solidFill>
                  <a:srgbClr val="66ccff"/>
                </a:solidFill>
                <a:latin typeface="Times New Roman"/>
              </a:rPr>
              <a:t>a, встречается у Плутарха), которое производится от «хем» или «хаме» — чёрный и означает «наука чёрной земли» (Египта), «египетская наука».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Вещества в химии – это формы существования материальных объектов. По признаку изучаемых объектов (веществ) химию принято делить на  неорганическую и органическую. Кислород, вода, кремнезём, аммиак и сода  - неорганические вещества, метан, ацетилен, этанол, уксусная кислота и сахароза – органические вещества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6477120" y="3962520"/>
            <a:ext cx="2487600" cy="2496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00"/>
            </a:gs>
            <a:gs pos="100000">
              <a:srgbClr val="462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52280" y="4648320"/>
            <a:ext cx="2133720" cy="186048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40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Учебник неорганической химии для 9 класса общеобразовательных учреждений. </a:t>
            </a:r>
            <a:br>
              <a:rPr sz="2000"/>
            </a:b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Авторы - Г.Е.Рудзитис и Ф.Г.Фельдман.</a:t>
            </a:r>
            <a:br>
              <a:rPr sz="2000"/>
            </a:b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Издан в Москве издательством «Просвещение» </a:t>
            </a:r>
            <a:br>
              <a:rPr sz="2000"/>
            </a:b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Рукопись этого учебника была удостоена премии на конкурсе школьных учебников в 1987 году. </a:t>
            </a:r>
            <a:br>
              <a:rPr sz="2000"/>
            </a:b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    На форзаце учебника – Периодическая таблица химических элементов Д.И.Менделеева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Открыв книгу, я обратила внимание на условные обозначения, </a:t>
            </a:r>
            <a:br>
              <a:rPr sz="2000"/>
            </a:b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которые даны в учебнике.</a:t>
            </a:r>
            <a:br>
              <a:rPr sz="2000"/>
            </a:b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Мне было легко изучать параграф, потому что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ОСНОВНЫЕ ПОНЯТИЯ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выделены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ЖИРНЫМ 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ШРИФТОМ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или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cc00"/>
                </a:solidFill>
                <a:latin typeface="Times New Roman"/>
              </a:rPr>
              <a:t>КУРСИВОМ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В схемах и таблицах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КРАСНЫМИ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стрелками обозначен материал,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ПОДЛЕЖАЩИЙ УСВОЕНИЮ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, а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220011"/>
                </a:solidFill>
                <a:latin typeface="Times New Roman"/>
              </a:rPr>
              <a:t>ЧЕРНЫМИ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– необходимый для дальнейшей систематизации и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220011"/>
                </a:solidFill>
                <a:latin typeface="Times New Roman"/>
              </a:rPr>
              <a:t>УГЛУБЛЕНИИ ЗНАНИЙ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атериал учебника разделен на отдельные глав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380880" y="1905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Tahoma"/>
              </a:rPr>
              <a:t>Основные изучаемые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4000" spc="-1" strike="noStrike">
                <a:solidFill>
                  <a:srgbClr val="ff3300"/>
                </a:solidFill>
                <a:latin typeface="Tahoma"/>
              </a:rPr>
              <a:t>тем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3505320"/>
            <a:ext cx="2895480" cy="1371600"/>
          </a:xfrm>
          <a:prstGeom prst="cloudCallout">
            <a:avLst>
              <a:gd name="adj1" fmla="val 49888"/>
              <a:gd name="adj2" fmla="val -10960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Теория электролитической диссоциации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057400" y="4648320"/>
            <a:ext cx="2514600" cy="1828800"/>
          </a:xfrm>
          <a:prstGeom prst="cloudCallout">
            <a:avLst>
              <a:gd name="adj1" fmla="val 13319"/>
              <a:gd name="adj2" fmla="val -15573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Характеристика элементов отдельных групп Периодической системы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800600" y="4648320"/>
            <a:ext cx="2895480" cy="1752480"/>
          </a:xfrm>
          <a:prstGeom prst="cloudCallout">
            <a:avLst>
              <a:gd name="adj1" fmla="val -63375"/>
              <a:gd name="adj2" fmla="val -15932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Основные закономерности течения химических реакций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629400" y="3429000"/>
            <a:ext cx="2133720" cy="1074600"/>
          </a:xfrm>
          <a:prstGeom prst="cloudCallout">
            <a:avLst>
              <a:gd name="adj1" fmla="val -115027"/>
              <a:gd name="adj2" fmla="val -11706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Химические производства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0" y="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чебный материал в каждом параграфе излагается в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логической последовательности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СТАВ    СТРОЕНИЕ       СВОЙСТВА     ПРИМЕНЕНИ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00200" y="914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657600" y="914400"/>
            <a:ext cx="380880" cy="0"/>
          </a:xfrm>
          <a:prstGeom prst="line">
            <a:avLst/>
          </a:prstGeom>
          <a:ln w="381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867280" y="914400"/>
            <a:ext cx="381240" cy="0"/>
          </a:xfrm>
          <a:prstGeom prst="line">
            <a:avLst/>
          </a:prstGeom>
          <a:ln w="381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288880" y="11430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ЕРНАЯ КИСЛОТ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-2209680" y="1523880"/>
            <a:ext cx="91440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220011"/>
                </a:solidFill>
                <a:latin typeface="Times New Roman"/>
              </a:rPr>
              <a:t>- </a:t>
            </a:r>
            <a:r>
              <a:rPr b="1" i="1" lang="ru-RU" sz="2000" spc="-1" strike="noStrike">
                <a:solidFill>
                  <a:srgbClr val="220011"/>
                </a:solidFill>
                <a:latin typeface="Times New Roman"/>
              </a:rPr>
              <a:t>бесцветная, тяжелая, нелетучая жидкость,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0011"/>
                </a:solidFill>
                <a:latin typeface="Times New Roman"/>
              </a:rPr>
              <a:t>                 </a:t>
            </a:r>
            <a:r>
              <a:rPr b="1" i="1" lang="ru-RU" sz="2000" spc="-1" strike="noStrike">
                <a:solidFill>
                  <a:srgbClr val="220011"/>
                </a:solidFill>
                <a:latin typeface="Times New Roman"/>
              </a:rPr>
              <a:t>при растворении в воде происходит очень сильное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0011"/>
                </a:solidFill>
                <a:latin typeface="Times New Roman"/>
              </a:rPr>
              <a:t>                </a:t>
            </a:r>
            <a:r>
              <a:rPr b="1" i="1" lang="ru-RU" sz="2000" spc="-1" strike="noStrike">
                <a:solidFill>
                  <a:srgbClr val="220011"/>
                </a:solidFill>
                <a:latin typeface="Times New Roman"/>
              </a:rPr>
              <a:t>разогревание,концентрированная серная кислота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0011"/>
                </a:solidFill>
                <a:latin typeface="Times New Roman"/>
              </a:rPr>
              <a:t>              </a:t>
            </a:r>
            <a:r>
              <a:rPr b="1" i="1" lang="ru-RU" sz="2000" spc="-1" strike="noStrike">
                <a:solidFill>
                  <a:srgbClr val="220011"/>
                </a:solidFill>
                <a:latin typeface="Times New Roman"/>
              </a:rPr>
              <a:t>поглощает из воздуха водяные пары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НЕЛЬЗЯ ВЛИВАТЬ ВОДУ В КОНЦЕНТРИРОВАННУЮ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ЕРНУЮ КИСЛОТУ!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2040" y="3505320"/>
            <a:ext cx="456300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220011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220011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 + Zn = ZnSO</a:t>
            </a:r>
            <a:r>
              <a:rPr b="1" lang="en-US" sz="2400" spc="-1" strike="noStrike" baseline="-25000">
                <a:solidFill>
                  <a:srgbClr val="220011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 + H</a:t>
            </a:r>
            <a:r>
              <a:rPr b="1" lang="en-US" sz="2400" spc="-1" strike="noStrike" baseline="-25000">
                <a:solidFill>
                  <a:srgbClr val="22001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220011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220011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 + MgO=MgSO</a:t>
            </a:r>
            <a:r>
              <a:rPr b="1" lang="en-US" sz="2400" spc="-1" strike="noStrike" baseline="-25000">
                <a:solidFill>
                  <a:srgbClr val="220011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 + H</a:t>
            </a:r>
            <a:r>
              <a:rPr b="1" lang="en-US" sz="2400" spc="-1" strike="noStrike" baseline="-25000">
                <a:solidFill>
                  <a:srgbClr val="220011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220011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220011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 + 2KOH=K</a:t>
            </a:r>
            <a:r>
              <a:rPr b="1" lang="en-US" sz="2400" spc="-1" strike="noStrike" baseline="-25000">
                <a:solidFill>
                  <a:srgbClr val="220011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220011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 + 2H</a:t>
            </a:r>
            <a:r>
              <a:rPr b="1" lang="en-US" sz="2400" spc="-1" strike="noStrike" baseline="-25000">
                <a:solidFill>
                  <a:srgbClr val="220011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220011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220011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 + BaCI</a:t>
            </a:r>
            <a:r>
              <a:rPr b="1" lang="en-US" sz="2400" spc="-1" strike="noStrike" baseline="-25000">
                <a:solidFill>
                  <a:srgbClr val="220011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=BaSO</a:t>
            </a:r>
            <a:r>
              <a:rPr b="1" lang="en-US" sz="2400" spc="-1" strike="noStrike" baseline="-25000">
                <a:solidFill>
                  <a:srgbClr val="220011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  +2HCI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220011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220011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 + Cu= CuSO</a:t>
            </a:r>
            <a:r>
              <a:rPr b="1" lang="en-US" sz="2400" spc="-1" strike="noStrike" baseline="-25000">
                <a:solidFill>
                  <a:srgbClr val="220011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 + H</a:t>
            </a:r>
            <a:r>
              <a:rPr b="1" lang="en-US" sz="2400" spc="-1" strike="noStrike" baseline="-25000">
                <a:solidFill>
                  <a:srgbClr val="220011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O + SO</a:t>
            </a:r>
            <a:r>
              <a:rPr b="1" lang="en-US" sz="2400" spc="-1" strike="noStrike" baseline="-25000">
                <a:solidFill>
                  <a:srgbClr val="22001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0011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220011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4114800" y="4267080"/>
            <a:ext cx="1447920" cy="1676520"/>
          </a:xfrm>
          <a:prstGeom prst="line">
            <a:avLst/>
          </a:prstGeom>
          <a:ln w="381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80880" y="5715000"/>
            <a:ext cx="39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Минеральные удобрения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4419720" y="4191120"/>
            <a:ext cx="1218960" cy="2057400"/>
          </a:xfrm>
          <a:prstGeom prst="line">
            <a:avLst/>
          </a:prstGeom>
          <a:ln w="381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65000" y="609588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Очистка нефтепродуктов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5029200" y="4191120"/>
            <a:ext cx="533520" cy="2133360"/>
          </a:xfrm>
          <a:prstGeom prst="line">
            <a:avLst/>
          </a:prstGeom>
          <a:ln w="381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192560" y="6035760"/>
            <a:ext cx="329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Взрывчатые веществ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562720" y="4114800"/>
            <a:ext cx="380880" cy="1828800"/>
          </a:xfrm>
          <a:prstGeom prst="line">
            <a:avLst/>
          </a:prstGeom>
          <a:ln w="381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08040" y="586728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Красител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638680" y="4267080"/>
            <a:ext cx="1524240" cy="1371600"/>
          </a:xfrm>
          <a:prstGeom prst="line">
            <a:avLst/>
          </a:prstGeom>
          <a:ln w="381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781680" y="5562720"/>
            <a:ext cx="297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Искусственный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шелк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91320" y="3886200"/>
            <a:ext cx="1828800" cy="0"/>
          </a:xfrm>
          <a:prstGeom prst="line">
            <a:avLst/>
          </a:prstGeom>
          <a:ln w="381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892560" y="386064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Соли, кислоты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562720" y="4114800"/>
            <a:ext cx="990360" cy="457200"/>
          </a:xfrm>
          <a:prstGeom prst="line">
            <a:avLst/>
          </a:prstGeom>
          <a:ln w="381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541200" y="4308480"/>
            <a:ext cx="23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Электролит в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аккумуляторах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267080" y="3505320"/>
            <a:ext cx="2667240" cy="990360"/>
          </a:xfrm>
          <a:prstGeom prst="cloudCallout">
            <a:avLst>
              <a:gd name="adj1" fmla="val -28393"/>
              <a:gd name="adj2" fmla="val 75638"/>
            </a:avLst>
          </a:prstGeom>
          <a:solidFill>
            <a:srgbClr val="0000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95520" y="3886200"/>
            <a:ext cx="100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ff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3581280" y="3580920"/>
            <a:ext cx="0" cy="228600"/>
          </a:xfrm>
          <a:prstGeom prst="line">
            <a:avLst/>
          </a:prstGeom>
          <a:ln w="2844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200400" y="4724280"/>
            <a:ext cx="0" cy="304920"/>
          </a:xfrm>
          <a:prstGeom prst="line">
            <a:avLst/>
          </a:prstGeom>
          <a:ln w="2844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572000" y="4952520"/>
            <a:ext cx="0" cy="304920"/>
          </a:xfrm>
          <a:prstGeom prst="line">
            <a:avLst/>
          </a:prstGeom>
          <a:ln w="2844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613200" y="1641600"/>
            <a:ext cx="16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 -  O      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 -  O      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467480" y="1981080"/>
            <a:ext cx="152640" cy="152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7848360" y="2057400"/>
            <a:ext cx="152280" cy="152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7772040" y="1981080"/>
            <a:ext cx="152280" cy="152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7543800" y="2361960"/>
            <a:ext cx="76320" cy="152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 flipV="1">
            <a:off x="7848360" y="2285640"/>
            <a:ext cx="152280" cy="228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7772040" y="2361960"/>
            <a:ext cx="152280" cy="228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5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15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2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3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6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8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9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1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25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4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7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304920" y="3808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В конце каждой главы предлагаются лабораторные опыты и практические работы с подробными инструкциями по выполнению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31520" y="1727280"/>
            <a:ext cx="78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Times New Roman"/>
              </a:rPr>
              <a:t>РАСПОЗНАВАНИЕ СУЛЬФАТ-ИОНОВ В РАСТВОР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80880" y="2209680"/>
            <a:ext cx="609840" cy="2057400"/>
          </a:xfrm>
          <a:prstGeom prst="flowChartMagneticDisk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990720" y="3124080"/>
            <a:ext cx="685800" cy="2286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676520" y="243828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771920" y="2590920"/>
            <a:ext cx="15631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0011"/>
                </a:solidFill>
                <a:latin typeface="Times New Roman"/>
              </a:rPr>
              <a:t>1.Na</a:t>
            </a:r>
            <a:r>
              <a:rPr b="1" lang="en-US" sz="2800" spc="-1" strike="noStrike" baseline="-25000">
                <a:solidFill>
                  <a:srgbClr val="220011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220011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220011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0011"/>
                </a:solidFill>
                <a:latin typeface="Times New Roman"/>
              </a:rPr>
              <a:t>2.Zn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0011"/>
                </a:solidFill>
                <a:latin typeface="Times New Roman"/>
              </a:rPr>
              <a:t>3.BaCI</a:t>
            </a:r>
            <a:r>
              <a:rPr b="1" lang="en-US" sz="2800" spc="-1" strike="noStrike" baseline="-25000">
                <a:solidFill>
                  <a:srgbClr val="220011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429000" y="2209680"/>
            <a:ext cx="609480" cy="2057400"/>
          </a:xfrm>
          <a:prstGeom prst="flowChartMagneticDisk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8480" y="31240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800600" y="243828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963680" y="2590920"/>
            <a:ext cx="14594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0011"/>
                </a:solidFill>
                <a:latin typeface="Times New Roman"/>
              </a:rPr>
              <a:t>1.Zn</a:t>
            </a:r>
            <a:r>
              <a:rPr b="1" lang="ru-RU" sz="2800" spc="-1" strike="noStrike">
                <a:solidFill>
                  <a:srgbClr val="220011"/>
                </a:solidFill>
                <a:latin typeface="Times New Roman"/>
              </a:rPr>
              <a:t>SO</a:t>
            </a:r>
            <a:r>
              <a:rPr b="1" lang="ru-RU" sz="2800" spc="-1" strike="noStrike" baseline="-25000">
                <a:solidFill>
                  <a:srgbClr val="220011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0011"/>
                </a:solidFill>
                <a:latin typeface="Times New Roman"/>
              </a:rPr>
              <a:t>2.Zn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0011"/>
                </a:solidFill>
                <a:latin typeface="Times New Roman"/>
              </a:rPr>
              <a:t>3.BaCI</a:t>
            </a:r>
            <a:r>
              <a:rPr b="1" lang="ru-RU" sz="2800" spc="-1" strike="noStrike" baseline="-25000">
                <a:solidFill>
                  <a:srgbClr val="220011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477120" y="2286000"/>
            <a:ext cx="609480" cy="2057400"/>
          </a:xfrm>
          <a:prstGeom prst="flowChartMagneticDisk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86600" y="3124080"/>
            <a:ext cx="533520" cy="30492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20120" y="243828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720200" y="2565360"/>
            <a:ext cx="1404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0011"/>
                </a:solidFill>
                <a:latin typeface="Times New Roman"/>
              </a:rPr>
              <a:t>1.H</a:t>
            </a:r>
            <a:r>
              <a:rPr b="1" lang="en-US" sz="2800" spc="-1" strike="noStrike" baseline="-25000">
                <a:solidFill>
                  <a:srgbClr val="220011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220011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220011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0011"/>
                </a:solidFill>
                <a:latin typeface="Times New Roman"/>
              </a:rPr>
              <a:t>2.Zn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0011"/>
                </a:solidFill>
                <a:latin typeface="Times New Roman"/>
              </a:rPr>
              <a:t>3.BaCI</a:t>
            </a:r>
            <a:r>
              <a:rPr b="1" lang="en-US" sz="2800" spc="-1" strike="noStrike" baseline="-25000">
                <a:solidFill>
                  <a:srgbClr val="220011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9080" y="4203720"/>
            <a:ext cx="8578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99"/>
                </a:solidFill>
                <a:latin typeface="Times New Roman"/>
              </a:rPr>
              <a:t>ЗАДАНИЯ 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99"/>
                </a:solidFill>
                <a:latin typeface="Times New Roman"/>
              </a:rPr>
              <a:t>1.Выполните последовательно все превращения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99"/>
                </a:solidFill>
                <a:latin typeface="Times New Roman"/>
              </a:rPr>
              <a:t>1.Как можно отличить серную кислоту от ее солей</a:t>
            </a:r>
            <a:r>
              <a:rPr b="1" lang="en-US" sz="2800" spc="-1" strike="noStrike">
                <a:solidFill>
                  <a:srgbClr val="00ff99"/>
                </a:solidFill>
                <a:latin typeface="Times New Roman"/>
              </a:rPr>
              <a:t> ?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99"/>
                </a:solidFill>
                <a:latin typeface="Times New Roman"/>
              </a:rPr>
              <a:t>2.Как отличить сульфаты от других солей </a:t>
            </a:r>
            <a:r>
              <a:rPr b="1" lang="en-US" sz="2800" spc="-1" strike="noStrike">
                <a:solidFill>
                  <a:srgbClr val="00ff99"/>
                </a:solidFill>
                <a:latin typeface="Times New Roman"/>
              </a:rPr>
              <a:t>?</a:t>
            </a:r>
            <a:r>
              <a:rPr b="1" lang="ru-RU" sz="2800" spc="-1" strike="noStrike">
                <a:solidFill>
                  <a:srgbClr val="00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99"/>
                </a:solidFill>
                <a:latin typeface="Times New Roman"/>
              </a:rPr>
              <a:t>3.Составьте уравнения проделанных реакций в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99"/>
                </a:solidFill>
                <a:latin typeface="Times New Roman"/>
              </a:rPr>
              <a:t>молекулярном и ионном виде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9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12:54:34Z</dcterms:created>
  <dc:creator>Дмитрий</dc:creator>
  <dc:description/>
  <dc:language>en-US</dc:language>
  <cp:lastModifiedBy>я</cp:lastModifiedBy>
  <dcterms:modified xsi:type="dcterms:W3CDTF">2013-09-27T12:00:48Z</dcterms:modified>
  <cp:revision>26</cp:revision>
  <dc:subject/>
  <dc:title>Государственное общеобразовательное учреждение средняя общеобразовательная школа № 466 Курортного административного района г. Санкт-Петербурга</dc:title>
</cp:coreProperties>
</file>