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96C-7157-4250-B3BA-1AD8269B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DC6-F483-40F0-A7AC-0F0FA5FE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BC4-BBD5-44E2-9889-50AC1D3F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907-F165-48E4-AC64-BC12BFB6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35C2-0171-4A7D-ABBA-8C9B54D5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78CE-5DAB-431A-B834-3B121335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4B71-FB45-4D35-A414-947B2B23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05EC-9056-41CC-9225-F7359BC3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27F5-8097-4858-AE35-5A367686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5301-EC52-4E9E-97BE-BA7C1A1F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A388-60DC-4D04-BFAC-4E36D0F8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0F7-447B-4745-8CEC-CCE6BA92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9272-E3D6-47F5-8C29-CB67635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4557-8669-4C98-8684-7A1399D6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A2E9-C845-4678-BD1A-D9BF4B05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963-76AB-48BE-8D84-1BFEEB9D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DECA-0D40-4B8E-A091-AF1BE87F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C88-CD05-4C1A-A628-50395666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9FC-15E6-4A11-AC8C-EF763E4E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382-728F-469F-929E-BC7B8E38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7B2-6F53-4437-B443-087694FC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717-11C6-4CA0-BFBE-3D40DE3E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37C-B53F-4E64-84B6-3B2C1835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6AA-215B-45B0-86F8-9A177247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5343-C224-498F-80B2-7B428E5F7BF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95E7-A733-409D-973E-20F474F2C6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16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8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720" y="1989000"/>
            <a:ext cx="4572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П.П. Ершов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«Конёк-горбунок»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02920" y="188640"/>
            <a:ext cx="61945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БОУ  школа№1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 углубленным изучением отдельных предметов г. Серафимович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втор: Калмыкова Л.Ю.- 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П"/>
          <p:cNvPicPr/>
          <p:nvPr/>
        </p:nvPicPr>
        <p:blipFill>
          <a:blip r:embed="rId1"/>
          <a:stretch/>
        </p:blipFill>
        <p:spPr>
          <a:xfrm>
            <a:off x="971640" y="1989000"/>
            <a:ext cx="2757240" cy="352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Конек горбунок"/>
          <p:cNvPicPr/>
          <p:nvPr/>
        </p:nvPicPr>
        <p:blipFill>
          <a:blip r:embed="rId2"/>
          <a:stretch/>
        </p:blipFill>
        <p:spPr>
          <a:xfrm>
            <a:off x="4716360" y="3486240"/>
            <a:ext cx="41101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31640" y="333360"/>
            <a:ext cx="3240360" cy="100800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Характеристика героев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План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4000" y="1557360"/>
            <a:ext cx="4295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Имя героя. Где он жив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Чем занимается?(отрыв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Какие поступ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ает? (отрыв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Какой характер у геро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Опишите внеш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характер геро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Отношение автора к геро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. Ваше отношение 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о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Отец с сыновьями"/>
          <p:cNvPicPr/>
          <p:nvPr/>
        </p:nvPicPr>
        <p:blipFill>
          <a:blip r:embed="rId1"/>
          <a:stretch/>
        </p:blipFill>
        <p:spPr>
          <a:xfrm>
            <a:off x="0" y="0"/>
            <a:ext cx="250992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1" name="Picture 5" descr="Конек 2"/>
          <p:cNvPicPr/>
          <p:nvPr/>
        </p:nvPicPr>
        <p:blipFill>
          <a:blip r:embed="rId2"/>
          <a:stretch/>
        </p:blipFill>
        <p:spPr>
          <a:xfrm>
            <a:off x="6588000" y="189000"/>
            <a:ext cx="2556000" cy="2590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2" name="Picture 6" descr="Иван на лошади"/>
          <p:cNvPicPr/>
          <p:nvPr/>
        </p:nvPicPr>
        <p:blipFill>
          <a:blip r:embed="rId3"/>
          <a:stretch/>
        </p:blipFill>
        <p:spPr>
          <a:xfrm>
            <a:off x="0" y="3645000"/>
            <a:ext cx="2365200" cy="321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Царь и сонник"/>
          <p:cNvPicPr/>
          <p:nvPr/>
        </p:nvPicPr>
        <p:blipFill>
          <a:blip r:embed="rId4"/>
          <a:stretch/>
        </p:blipFill>
        <p:spPr>
          <a:xfrm>
            <a:off x="5940360" y="3933720"/>
            <a:ext cx="3203640" cy="282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932360" cy="100800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осстановите правильный порядок событий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Отец на поле"/>
          <p:cNvPicPr/>
          <p:nvPr/>
        </p:nvPicPr>
        <p:blipFill>
          <a:blip r:embed="rId1"/>
          <a:stretch/>
        </p:blipFill>
        <p:spPr>
          <a:xfrm>
            <a:off x="3203640" y="4971960"/>
            <a:ext cx="1444680" cy="1886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Отец с сыновьями"/>
          <p:cNvPicPr/>
          <p:nvPr/>
        </p:nvPicPr>
        <p:blipFill>
          <a:blip r:embed="rId2"/>
          <a:stretch/>
        </p:blipFill>
        <p:spPr>
          <a:xfrm>
            <a:off x="1763640" y="4986360"/>
            <a:ext cx="1370160" cy="187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Иван в дозоре 2"/>
          <p:cNvPicPr/>
          <p:nvPr/>
        </p:nvPicPr>
        <p:blipFill>
          <a:blip r:embed="rId3"/>
          <a:stretch/>
        </p:blipFill>
        <p:spPr>
          <a:xfrm>
            <a:off x="2700360" y="3284640"/>
            <a:ext cx="2303280" cy="1662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Иван на лошади"/>
          <p:cNvPicPr/>
          <p:nvPr/>
        </p:nvPicPr>
        <p:blipFill>
          <a:blip r:embed="rId4"/>
          <a:stretch/>
        </p:blipFill>
        <p:spPr>
          <a:xfrm>
            <a:off x="7605720" y="2924280"/>
            <a:ext cx="1538280" cy="2089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Два жеребца"/>
          <p:cNvPicPr/>
          <p:nvPr/>
        </p:nvPicPr>
        <p:blipFill>
          <a:blip r:embed="rId5"/>
          <a:stretch/>
        </p:blipFill>
        <p:spPr>
          <a:xfrm>
            <a:off x="6012000" y="1844640"/>
            <a:ext cx="2016000" cy="1514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0" name="Picture 9" descr="Кони и иван"/>
          <p:cNvPicPr/>
          <p:nvPr/>
        </p:nvPicPr>
        <p:blipFill>
          <a:blip r:embed="rId6"/>
          <a:stretch/>
        </p:blipFill>
        <p:spPr>
          <a:xfrm>
            <a:off x="250920" y="4869000"/>
            <a:ext cx="1305000" cy="1785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1" name="Picture 10" descr="Иван и кони"/>
          <p:cNvPicPr/>
          <p:nvPr/>
        </p:nvPicPr>
        <p:blipFill>
          <a:blip r:embed="rId7"/>
          <a:stretch/>
        </p:blipFill>
        <p:spPr>
          <a:xfrm>
            <a:off x="5148360" y="3573360"/>
            <a:ext cx="2232000" cy="1443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Конек 4"/>
          <p:cNvPicPr/>
          <p:nvPr/>
        </p:nvPicPr>
        <p:blipFill>
          <a:blip r:embed="rId8"/>
          <a:stretch/>
        </p:blipFill>
        <p:spPr>
          <a:xfrm>
            <a:off x="5292720" y="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Царь и кони"/>
          <p:cNvPicPr/>
          <p:nvPr/>
        </p:nvPicPr>
        <p:blipFill>
          <a:blip r:embed="rId9"/>
          <a:stretch/>
        </p:blipFill>
        <p:spPr>
          <a:xfrm>
            <a:off x="4788000" y="5084640"/>
            <a:ext cx="2376360" cy="1568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Царь и сонник"/>
          <p:cNvPicPr/>
          <p:nvPr/>
        </p:nvPicPr>
        <p:blipFill>
          <a:blip r:embed="rId10"/>
          <a:stretch/>
        </p:blipFill>
        <p:spPr>
          <a:xfrm>
            <a:off x="7054920" y="5291280"/>
            <a:ext cx="2089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22 -0.07987 L -0.19288 -0.58403 E">
                                      <p:cBhvr>
                                        <p:cTn id="15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77 -0.06852 L -0.18924 -0.57245 E">
                                      <p:cBhvr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7917 L 0.00799 -0.33102 E">
                                      <p:cBhvr>
                                        <p:cTn id="16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46 0.00533 L -0.29774 -0.25717 E">
                                      <p:cBhvr>
                                        <p:cTn id="16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L 0.11024 -0.00533 E">
                                      <p:cBhvr>
                                        <p:cTn id="16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6759 L -0.54341 0.42454 E">
                                      <p:cBhvr>
                                        <p:cTn id="17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3264 L -0.22431 -0.33495 E">
                                      <p:cBhvr>
                                        <p:cTn id="17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5 0.02731 L 0.53507 -0.19306 E">
                                      <p:cBhvr>
                                        <p:cTn id="18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14965 0.01042 E">
                                      <p:cBhvr>
                                        <p:cTn id="18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1.11111E-006 L -0.59062 -0.01042 E">
                                      <p:cBhvr>
                                        <p:cTn id="18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60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Тест по сказке «Конёк-горбунок»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7543800" cy="497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cc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Tahoma"/>
              </a:rPr>
              <a:t>1.Как звали старшего брат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) Ив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) Дани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) Гаври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Tahoma"/>
              </a:rPr>
              <a:t>2. Что взял с собой в караул Иван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) Краюшку хле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) Вилы и топ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) В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Tahoma"/>
              </a:rPr>
              <a:t>3. Кого поймал Иван во время своего караул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)Дьяво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) кобылиц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) Конька-Горбу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489800" cy="60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Тест по сказке «Конёк-Горбунок»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7543800" cy="525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66cc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Tahoma"/>
              </a:rPr>
              <a:t>4.Когда Иван поймал вора, за что он его удерживал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) За хв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) За гри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)За поводь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Tahoma"/>
              </a:rPr>
              <a:t>  </a:t>
            </a: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Tahoma"/>
              </a:rPr>
              <a:t>5. Какого роста был конек-горбунок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) 4 вер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) 2 вер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) 3 вер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6. Сколько коней было у Иван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) 5 кон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) 2 ко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) 3 ко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Тест по сказке «Конёк-Горбунок»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413000"/>
            <a:ext cx="7543800" cy="468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7. Сколько конюхов вели коней к цар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)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Б)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) 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8. На какую должность взял царь Ива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) Стрел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Б)Вое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) Конюх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3721320" cy="96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Проверь!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Конек горбунок"/>
          <p:cNvPicPr/>
          <p:nvPr/>
        </p:nvPicPr>
        <p:blipFill>
          <a:blip r:embed="rId1"/>
          <a:stretch/>
        </p:blipFill>
        <p:spPr>
          <a:xfrm>
            <a:off x="3348000" y="1773360"/>
            <a:ext cx="53341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967280" cy="187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Чему учит эта сказка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акой урок вы извлекли для себя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а какую народную сказку похожа эта сказка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08000" y="2492280"/>
            <a:ext cx="49021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Рекомендую прочитать эту сказку до конца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Царь у котла"/>
          <p:cNvPicPr/>
          <p:nvPr/>
        </p:nvPicPr>
        <p:blipFill>
          <a:blip r:embed="rId1"/>
          <a:stretch/>
        </p:blipFill>
        <p:spPr>
          <a:xfrm>
            <a:off x="0" y="2276640"/>
            <a:ext cx="34941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Цель уро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ься анализировать поступки геро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навыки выразительного чт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умение находить необходимые отрывки в текс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152600" cy="93636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Речевая размин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657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горами, за лес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широкими морям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ив неба- на зем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 старик в одном се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старинушки три сы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рший умный был дети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й сын и так и ся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адший вовсе был дур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тья сеяли пшениц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 возили в град-столиц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ть столица та бы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алече от с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Отец с сыновьями"/>
          <p:cNvPicPr/>
          <p:nvPr/>
        </p:nvPicPr>
        <p:blipFill>
          <a:blip r:embed="rId1"/>
          <a:stretch/>
        </p:blipFill>
        <p:spPr>
          <a:xfrm>
            <a:off x="5064120" y="1484280"/>
            <a:ext cx="376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4010040" cy="82044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Работа со словом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4583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алече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ять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чью сверкая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и вершка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аршинными ушами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хонт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в жомах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8920" y="2276280"/>
            <a:ext cx="4049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але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прек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з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близительно 13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близительно 71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ринное название руб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ис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Конек 2"/>
          <p:cNvPicPr/>
          <p:nvPr/>
        </p:nvPicPr>
        <p:blipFill>
          <a:blip r:embed="rId1"/>
          <a:stretch/>
        </p:blipFill>
        <p:spPr>
          <a:xfrm>
            <a:off x="5686560" y="0"/>
            <a:ext cx="34574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2000" cy="83664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Проверка домашнего задан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Иван на лошади"/>
          <p:cNvPicPr/>
          <p:nvPr/>
        </p:nvPicPr>
        <p:blipFill>
          <a:blip r:embed="rId1"/>
          <a:stretch/>
        </p:blipFill>
        <p:spPr>
          <a:xfrm>
            <a:off x="695160" y="1143000"/>
            <a:ext cx="3186360" cy="4684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Picture 5" descr="Отец на поле"/>
          <p:cNvPicPr/>
          <p:nvPr/>
        </p:nvPicPr>
        <p:blipFill>
          <a:blip r:embed="rId2"/>
          <a:stretch/>
        </p:blipFill>
        <p:spPr>
          <a:xfrm>
            <a:off x="6300720" y="189000"/>
            <a:ext cx="248148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6" name="Picture 6" descr="Иван в дозоре"/>
          <p:cNvPicPr/>
          <p:nvPr/>
        </p:nvPicPr>
        <p:blipFill>
          <a:blip r:embed="rId3"/>
          <a:stretch/>
        </p:blipFill>
        <p:spPr>
          <a:xfrm>
            <a:off x="4356000" y="3789360"/>
            <a:ext cx="3419640" cy="257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796000" cy="112536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Почему царь взял к себе во дворец Ивана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Царь и кони"/>
          <p:cNvPicPr/>
          <p:nvPr/>
        </p:nvPicPr>
        <p:blipFill>
          <a:blip r:embed="rId1"/>
          <a:stretch/>
        </p:blipFill>
        <p:spPr>
          <a:xfrm>
            <a:off x="3132000" y="1593720"/>
            <a:ext cx="56880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79236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ahoma"/>
              </a:rPr>
              <a:t>Какие ещё приключения ждут Ивана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Иван у моря"/>
          <p:cNvPicPr/>
          <p:nvPr/>
        </p:nvPicPr>
        <p:blipFill>
          <a:blip r:embed="rId1"/>
          <a:stretch/>
        </p:blipFill>
        <p:spPr>
          <a:xfrm>
            <a:off x="179280" y="1125360"/>
            <a:ext cx="3095640" cy="2316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Жар птица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34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Девица"/>
          <p:cNvPicPr/>
          <p:nvPr/>
        </p:nvPicPr>
        <p:blipFill>
          <a:blip r:embed="rId3"/>
          <a:stretch/>
        </p:blipFill>
        <p:spPr>
          <a:xfrm>
            <a:off x="6451560" y="2997360"/>
            <a:ext cx="2692440" cy="364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Рыба-кит"/>
          <p:cNvPicPr/>
          <p:nvPr/>
        </p:nvPicPr>
        <p:blipFill>
          <a:blip r:embed="rId4"/>
          <a:stretch/>
        </p:blipFill>
        <p:spPr>
          <a:xfrm>
            <a:off x="0" y="3990960"/>
            <a:ext cx="4048200" cy="286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Иван и месяц"/>
          <p:cNvPicPr/>
          <p:nvPr/>
        </p:nvPicPr>
        <p:blipFill>
          <a:blip r:embed="rId5"/>
          <a:stretch/>
        </p:blipFill>
        <p:spPr>
          <a:xfrm>
            <a:off x="900000" y="1197000"/>
            <a:ext cx="3889440" cy="2917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6" name="Picture 10" descr="Котлы"/>
          <p:cNvPicPr/>
          <p:nvPr/>
        </p:nvPicPr>
        <p:blipFill>
          <a:blip r:embed="rId6"/>
          <a:stretch/>
        </p:blipFill>
        <p:spPr>
          <a:xfrm>
            <a:off x="3666960" y="1413000"/>
            <a:ext cx="4069080" cy="544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7" name="Picture 11" descr="Котлы"/>
          <p:cNvPicPr/>
          <p:nvPr/>
        </p:nvPicPr>
        <p:blipFill>
          <a:blip r:embed="rId7"/>
          <a:stretch/>
        </p:blipFill>
        <p:spPr>
          <a:xfrm>
            <a:off x="3635280" y="1413000"/>
            <a:ext cx="4068720" cy="544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5400720" cy="96372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66ff"/>
                </a:solidFill>
                <a:latin typeface="Tahoma"/>
              </a:rPr>
              <a:t>Сказочные примет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Отец на поле"/>
          <p:cNvPicPr/>
          <p:nvPr/>
        </p:nvPicPr>
        <p:blipFill>
          <a:blip r:embed="rId1"/>
          <a:stretch/>
        </p:blipFill>
        <p:spPr>
          <a:xfrm>
            <a:off x="468360" y="1125360"/>
            <a:ext cx="3208320" cy="4189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1" name="Picture 6" descr="Кони и иван"/>
          <p:cNvPicPr/>
          <p:nvPr/>
        </p:nvPicPr>
        <p:blipFill>
          <a:blip r:embed="rId2"/>
          <a:stretch/>
        </p:blipFill>
        <p:spPr>
          <a:xfrm>
            <a:off x="6093000" y="189000"/>
            <a:ext cx="3051000" cy="41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2" name="Picture 7" descr="Иван в дозоре 2"/>
          <p:cNvPicPr/>
          <p:nvPr/>
        </p:nvPicPr>
        <p:blipFill>
          <a:blip r:embed="rId3"/>
          <a:stretch/>
        </p:blipFill>
        <p:spPr>
          <a:xfrm>
            <a:off x="2268360" y="3213000"/>
            <a:ext cx="46818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545080" cy="1432080"/>
          </a:xfrm>
          <a:prstGeom prst="rect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К какому виду сказок относится сказка П.Ершов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лшебная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товая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жив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2484000" y="1557360"/>
            <a:ext cx="1582920" cy="10080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4067280" y="1557360"/>
            <a:ext cx="0" cy="15112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Два жеребца"/>
          <p:cNvPicPr/>
          <p:nvPr/>
        </p:nvPicPr>
        <p:blipFill>
          <a:blip r:embed="rId1"/>
          <a:stretch/>
        </p:blipFill>
        <p:spPr>
          <a:xfrm>
            <a:off x="4932360" y="2781360"/>
            <a:ext cx="3943440" cy="3722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09:15Z</dcterms:created>
  <dc:creator>Larisa</dc:creator>
  <dc:description/>
  <dc:language>en-US</dc:language>
  <cp:lastModifiedBy>Галина Петровна</cp:lastModifiedBy>
  <dcterms:modified xsi:type="dcterms:W3CDTF">2013-09-27T10:54:57Z</dcterms:modified>
  <cp:revision>7</cp:revision>
  <dc:subject/>
  <dc:title>Слайд 1</dc:title>
</cp:coreProperties>
</file>