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7175-EA4F-42EA-B6D8-BFDD790D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1B8-36BB-457D-BDFE-5AA250D1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80BB-D025-4769-B8C1-DCC3818B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875-953E-4892-A462-DE427464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14DE-5C86-4B19-8C65-938765A4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5209-6D60-425B-9035-B8CA25DC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EC5B-A17B-4202-95E3-AC475FF7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599D-7024-428E-87AA-5FBCDAA1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779F-B83D-4912-94C5-2A080E1B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9E4B-B794-4A0E-A053-86C0FBA7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D495-CEDA-427B-8B64-611EC93E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E405-D4FE-447D-B35F-4758569C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A4C4-AA41-48BA-B2C7-C59A63AA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FA0D-3713-4899-A021-1A34098D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8D53-B783-4406-AFE4-C2160F28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6B9A-3BDD-411E-A318-E8EF553C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E03C-03FC-4170-84D7-A56022DA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0BB-D36C-4216-BD83-81F3E62C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79F6-5483-42B7-A290-0819CAAA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40D9-93F0-4B46-8AEF-F42C4713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FFE4-9DFC-444B-9E95-9D3F222B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FC0-C56E-4AE7-B54A-E1D7B1BA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4B1-2552-45F3-A9DC-BB1BDA21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25FE-6EE4-447D-9260-78552D14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5712-461D-488E-95B4-F5BDE1FAA8A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4028-5871-4139-8770-03CFA07DF5C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-prirode.com/photo/51-0-549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-prirode.com/photo/51-0-3005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-174600"/>
            <a:ext cx="9144000" cy="70326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26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Золотая осен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очинение по русскому язык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ыполнила Любенкова Анастасия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ченица 6а класса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читель русского язык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олосухина Ирина Яковлевн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читель информатики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Голубева Лариса Ивановн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0920" y="5444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Осень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2599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арит осень чудеса,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а еще какие!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наряжены леса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шапки золотые.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 пеньке сидят гурьбой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ыжие опята,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 паук – ловкач какой! –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янет сеть куда-то.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ождь и жухлая трава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сонной чаще ночью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епонятные слова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о утра бормочут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Картинки осенний дожд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044720" y="0"/>
            <a:ext cx="1062036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13200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052640"/>
            <a:ext cx="8929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олотая осень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ень – это прекрасная пора. Кружит разноцветный листопад.  В это время листья начинают окрашиваться в разные цвета: красный, золотой, бурый ,коричневый . Всё это буйство красок на фоне еще неизменившейся зеленой листвы образует зрелище от которого захватывает дух. Кроны деревьев над головами людей соединяются в цветные зонты, которыми можно любоваться бесконечно. В нашем парке деревья похожи на разноцветные пятна из космоса. А когда листья начинают опадать можно идти из школы брать их в охапку и бросать над головой. Потом поднимешь голову и видишь, как они летят по ветру блестя своими красками на солнце .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рава под ногами уже пожухла и есть ощущение что идешь по мягкому шуршащему ковру. Воздух какой-то прозрачный , чистый , уже немного прохладный . А ещё он вбирает в себя все запахи осени : запах прелых листьев , спелых яблок , свежевспаханной земли 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ень для многих это время грусти, воспоминаний , подведение итогов и  поэтому наверное у писателей рождаются такие искренние  , трогающие за душу  стихи.  Как много было написано об осени такими знаменитыми поэтами как А.С.Пушкин , С.Есенин , Ф.Тютчев. Читая эти стихи внутри тебя растет ощущение печали , от того что расстаёшься с чем-то родным и близким , но в тоже время ждешь какого-то нового чуда от природы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324000" y="1125360"/>
            <a:ext cx="813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37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5300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Осенью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000" y="1886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В журавлином небе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Ветер тучи носит.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Шепчет верба вербе: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"Осень. Снова осень!"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Листьев желтый ливень,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Солнце ниже сосен.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Шепчет ива иве: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"Осень. Скоро осень!"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На кустарник иней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Белый плач набросил.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Шепчет дуб рябине: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"Осень. Скоро осень!"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Шепчут елям ели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Средь лесного бора: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"Скоро заметелит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И завьюжит скоро!"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Осень в Москве 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0480"/>
            <a:ext cx="9144000" cy="67975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М. Гелле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1197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eaeaea"/>
                </a:solidFill>
                <a:latin typeface="Arial"/>
              </a:rPr>
              <a:t>А. Ефимце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19640" y="177336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Картинки о осени.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r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07:39Z</dcterms:created>
  <dc:creator>Настя</dc:creator>
  <dc:description/>
  <dc:language>en-US</dc:language>
  <cp:lastModifiedBy>Настя</cp:lastModifiedBy>
  <dcterms:modified xsi:type="dcterms:W3CDTF">2002-01-01T01:51:13Z</dcterms:modified>
  <cp:revision>4</cp:revision>
  <dc:subject/>
  <dc:title>Золотая осень</dc:title>
</cp:coreProperties>
</file>