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E5A-9F49-49E2-AD60-6CFEFA0F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471-40E9-4199-B669-4E172162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94D-FF70-421F-94E7-77515ACB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798-DE27-4F37-A40A-A5AED1F7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EC94-2884-49B4-96F0-A22D9DE0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84DD-E761-46ED-8111-A495E863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2AB0-AA90-4FBB-8ECC-8285822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1EB-C85E-446F-9216-A8962097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89A-B372-4690-A63B-FB4B279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9B7-9A18-4E18-A25E-504D64D5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9ECF-0159-4F24-8F93-D6D6B11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616-B94F-4538-ADDB-B2F703C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B37-B431-4158-B34B-0D12DCD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7DFB-C66F-4AAF-965E-AB06E01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5387-F643-482E-A6AF-7B6335F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D202-0646-4D5C-A594-E8D7C09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3D5-A39F-477C-8050-187B3F62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721-830B-4FD6-ABE5-4BF9F70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B10-74DB-4D85-91CB-2DAEEF3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FC1-DA10-4886-8705-71ECEA7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8B8-2DBA-4081-BE51-3AA86B1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E1F-C626-4D1C-A892-B80A717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21B-C471-414E-8B65-A524DF3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781-7F43-4C13-8075-95D4B80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401D71-3CAF-48F2-B047-D32DDE4F66F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DF3D67-4518-4EA0-AF3C-A1A94B0F9AC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260280"/>
            <a:ext cx="820908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р религ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25760" cy="3575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5343480"/>
            <a:ext cx="73080" cy="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" y="2685960"/>
            <a:ext cx="4038480" cy="2357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00720" y="1800360"/>
            <a:ext cx="46432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втор работы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ондарук Алия, </a:t>
            </a: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ученица 4 класса ГАОУ РМЭ «Лицей Бауманский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уководитель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Очиева Раиса Александровна, учитель начальных классов ГАОУ РМЭ «Лицей Бауманский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г. Йошкар — Ола, 2006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4000" y="2160720"/>
            <a:ext cx="4176720" cy="42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мимо христианство в Европе также распространен исла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7120" y="1884240"/>
            <a:ext cx="6089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745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слам- распространенная в мире религия, последователей которой называют мусульманами. Мусульмане верят , что  существует только один Бог: создатель мира -Алла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00400" y="692280"/>
            <a:ext cx="504360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386244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лам – религия «людей Книги», писания, посланного людям через пророков. Священная книга мусульман - Коран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16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4114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лам возник на западе Аравийского полуостро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лам в России – вторая по численности последователей религия после православ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32200" y="765000"/>
            <a:ext cx="4411800" cy="5330880"/>
            <a:chOff x="4732200" y="765000"/>
            <a:chExt cx="4411800" cy="53308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732200" y="765000"/>
              <a:ext cx="4411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732200" y="765000"/>
              <a:ext cx="4411800" cy="53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360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уддизм –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ревнейшая из мировых религий. Буддизм получил название от имени, а точнее, от почетного титула своего основателя Будды, что означает «просветленный», «пробужденный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2240" y="765000"/>
            <a:ext cx="50817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4067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к и другие религии, буддизм обещает людям избавление от самых тягостных сторон человеческого существования – страданий, невзгод ,страстей,  Поступая плохо, он пожинает болезни, бедность, унижения; поступая хорошо, вкушает радость и умиротворенность. Таков закон карм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4496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2735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уддисты выделяют во вселенной шесть живых существ. В зависимости от кармы можно переродиться в любом из них. Круговорот этих рождений бесконечен. Это хорошо показывает «колесо жизни»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52760" y="0"/>
            <a:ext cx="5691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еография современных религий представляет собой достаточно впечатляющую картину. Наряду с перечисленными вероисповеданиями в России есть и другие вероисповедания.  Распространение получил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удаизм, 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которых областях сохранились традиционные местные верования: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шаманство, язычество и др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709720"/>
            <a:ext cx="914400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знала много нового о существующих в прошлом и настоящем религиях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зучила более глубоко религии проповедуемые в настоящее время в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знакомила с существующими в России религиями в настоящее врем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. М. Аксенова «Энциклопедия для детей. Религии мира.» том 6 часть перва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. Аксенова «Энциклопедия для детей. Религии мира.» том 6 часть втора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ерра лексикон: Иллюстрированный энциклопедический словар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. Д. Данилов «Окружающий мир.» 4 клас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ели и задач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ир религий и ее географ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Христианств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ла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уддиз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во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 зад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знакомиться с разнообразными религиями ми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олее полно узнать о современных религиях проповедуемых в России в настоящее врем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казать своим одноклассникам о религиях существующих в настоящее время в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076040"/>
            <a:ext cx="3564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ир религий… он многолик и разнообразен, как наша планет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елигия – это вера людей в существование высших, сверхъестественных сил – Бога или богов, которые создали мир и людей и управляют ими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51116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341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еография современных религий Европы представлены преимущественно различными направлениями христиан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65164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39355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дна из самых распространенных в мире религий, вера в Бога единого в трех лицах: Бог-Отец, Бог-Сын, и Святой Дух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8592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3863520"/>
            <a:ext cx="80024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вященной книгой христиан является Библия. В ней говорится о том, как бог сотворил мир, жизнь на земле человека. В Библии рассказано о рождение Сына Бога- Иисуса Христа и его жизни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56880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4751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Христиане верят в, что Иисус Христос явился на землю 20 веков назад, чтобы спасти род человеческий от зла и научить его добру и  справедливости.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70600" y="0"/>
            <a:ext cx="407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8957160"/>
            <a:ext cx="8229600" cy="19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360" y="836640"/>
            <a:ext cx="484488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У Христа и его учеников было много врагов. Они схватили Иисуса и распяли его на кресте. Но, как гласит Библия, Сын Божий не мог погибнуть. Через три дня он воскрес из мертвых и вознесся на небо. Люди, которые поверили в него, приняли новую веру – христианств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Христианство делится: православие, католичество, протестантиз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549360"/>
            <a:ext cx="4132440" cy="5790960"/>
            <a:chOff x="0" y="549360"/>
            <a:chExt cx="4132440" cy="57909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41324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549360"/>
              <a:ext cx="41324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7:19:40Z</dcterms:created>
  <dc:creator>Сушенцов Владимир</dc:creator>
  <dc:description/>
  <dc:language>en-US</dc:language>
  <cp:lastModifiedBy>Сушенцов Владимир</cp:lastModifiedBy>
  <dcterms:modified xsi:type="dcterms:W3CDTF">2006-04-25T13:09:48Z</dcterms:modified>
  <cp:revision>2</cp:revision>
  <dc:subject/>
  <dc:title>Слайд 1</dc:title>
</cp:coreProperties>
</file>