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6.gif" ContentType="image/gif"/>
  <Override PartName="/ppt/media/image19.png" ContentType="image/pn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5.jpeg" ContentType="image/jpeg"/>
  <Override PartName="/ppt/media/image7.gif" ContentType="image/gif"/>
  <Override PartName="/ppt/media/image33.wmf" ContentType="image/x-wmf"/>
  <Override PartName="/ppt/media/image12.jpeg" ContentType="image/jpeg"/>
  <Override PartName="/ppt/media/image20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30.jpeg" ContentType="image/jpeg"/>
  <Override PartName="/ppt/media/image3.jpeg" ContentType="image/jpeg"/>
  <Override PartName="/ppt/media/image34.gif" ContentType="image/gif"/>
  <Override PartName="/ppt/media/image2.jpeg" ContentType="image/jpeg"/>
  <Override PartName="/ppt/media/image31.gif" ContentType="image/gif"/>
  <Override PartName="/ppt/media/image11.jpeg" ContentType="image/jpeg"/>
  <Override PartName="/ppt/media/image1.gif" ContentType="image/gif"/>
  <Override PartName="/ppt/media/image14.jpeg" ContentType="image/jpeg"/>
  <Override PartName="/ppt/media/image24.wmf" ContentType="image/x-wmf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44A-16AF-4F0E-A53C-730255A50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45B0-4A97-4C64-A77A-D258E0F7E4A0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CD7-9BFD-4B42-A05C-C797AD53D711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289-D586-43EC-B8BA-3CBBE9476E5B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480-1959-4498-BF80-AC37021DAAB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DBB-6DB8-42D4-B909-BF957BD3214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4B3-FFFD-4ED3-B19B-4BC60889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B1E-C499-43AE-8DFD-1F4AFE29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2C4-7173-4035-B2FB-84342AE2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632-2BAD-4789-B52A-90092A52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75A0-9777-42A1-BAD5-301F2FE7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A82-8969-4AAE-8049-80372E72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CD8E-3A9B-4730-BD9D-8B8A9C8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ACFE-6077-4B51-BAB0-A12C700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95DA-8FB2-4CF8-917E-3B6566B7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7853-D07E-491D-97C5-0DC3B84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701-D360-40E6-8DD0-962859D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D4D-5973-4EAF-9208-34C08C8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711D-59F7-4AB2-8A72-F0200AF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D70-B87F-46BF-8516-F643015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26D1-710E-414D-8423-BDBD9FF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682A-952A-4079-8A8D-FFF0A870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3DBF-34C4-469A-97ED-AA057B75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B4F-45D9-4934-8E2F-FE7A487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45C-7301-4B20-83ED-7D8FED3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24A-1CA9-4597-954F-249106EF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8B1-A286-450E-868D-84EE345D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B26-2234-402E-8C13-91E2549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F65-83A7-49C2-82B5-0D41F90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EB2-A24F-4C55-86A4-EFC6B02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0E4-7CB2-4835-AA75-D043FAD42CD0}" type="datetime">
              <a:rPr b="0" lang="ru-RU" sz="1400" spc="-1" strike="noStrike">
                <a:solidFill>
                  <a:srgbClr val="808080"/>
                </a:solidFill>
                <a:latin typeface="Tahom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9B35-AB2C-48A9-B368-26E6BF159CF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8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9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8" name="Rectangle 1030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59" name="Group 1031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2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Rectangle 1033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62" name="Group 1034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5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Rectangle 1036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grpSp>
        <p:nvGrpSpPr>
          <p:cNvPr id="65" name="Group 1037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8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Rectangle 1039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9E4-E77E-447A-B935-1A83778D9592}" type="datetime">
              <a:rPr b="0" lang="ru-RU" sz="1400" spc="-1" strike="noStrike">
                <a:solidFill>
                  <a:srgbClr val="808080"/>
                </a:solidFill>
                <a:latin typeface="Tahom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6DA3-1048-47C5-9780-0156CCC84BE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99ff66"/>
                </a:solidFill>
                <a:latin typeface="Tahoma"/>
              </a:rPr>
              <a:t>Форофонтова</a:t>
            </a:r>
            <a:br>
              <a:rPr sz="2800"/>
            </a:br>
            <a:r>
              <a:rPr b="1" i="1" lang="ru-RU" sz="2800" spc="-1" strike="noStrike">
                <a:solidFill>
                  <a:srgbClr val="99ff66"/>
                </a:solidFill>
                <a:latin typeface="Tahoma"/>
              </a:rPr>
              <a:t>Ольга</a:t>
            </a:r>
            <a:br>
              <a:rPr sz="2800"/>
            </a:br>
            <a:r>
              <a:rPr b="1" i="1" lang="ru-RU" sz="2800" spc="-1" strike="noStrike">
                <a:solidFill>
                  <a:srgbClr val="99ff66"/>
                </a:solidFill>
                <a:latin typeface="Tahoma"/>
              </a:rPr>
              <a:t>Александровна, </a:t>
            </a:r>
            <a:br>
              <a:rPr sz="2800"/>
            </a:br>
            <a:r>
              <a:rPr b="1" i="1" lang="ru-RU" sz="2800" spc="-1" strike="noStrike">
                <a:solidFill>
                  <a:srgbClr val="99ff66"/>
                </a:solidFill>
                <a:latin typeface="Tahoma"/>
              </a:rPr>
              <a:t>ученица</a:t>
            </a:r>
            <a:br>
              <a:rPr sz="2800"/>
            </a:br>
            <a:r>
              <a:rPr b="1" i="1" lang="ru-RU" sz="2800" spc="-1" strike="noStrike">
                <a:solidFill>
                  <a:srgbClr val="99ff66"/>
                </a:solidFill>
                <a:latin typeface="Tahoma"/>
              </a:rPr>
              <a:t>МБОУ «Беляевская средняя общеобразовательная шко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Дата 3"/>
          <p:cNvSpPr/>
          <p:nvPr/>
        </p:nvSpPr>
        <p:spPr>
          <a:xfrm flipV="1">
            <a:off x="380880" y="6472080"/>
            <a:ext cx="46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CF6-138E-40C5-A74C-B610AACC892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9" name="Picture 7" descr="D:\Рисунки - User ФОТО\gif\Uch.gif"/>
          <p:cNvPicPr/>
          <p:nvPr/>
        </p:nvPicPr>
        <p:blipFill>
          <a:blip r:embed="rId1"/>
          <a:stretch/>
        </p:blipFill>
        <p:spPr>
          <a:xfrm>
            <a:off x="5638680" y="3886200"/>
            <a:ext cx="2590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5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Дата 3"/>
          <p:cNvSpPr/>
          <p:nvPr/>
        </p:nvSpPr>
        <p:spPr>
          <a:xfrm flipV="1">
            <a:off x="380880" y="6472080"/>
            <a:ext cx="46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6F0-E6E2-4714-9139-A9508D6DF7E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8" name="Содержимое 5" descr="Весь персонал.jpg"/>
          <p:cNvPicPr/>
          <p:nvPr/>
        </p:nvPicPr>
        <p:blipFill>
          <a:blip r:embed="rId1"/>
          <a:stretch/>
        </p:blipFill>
        <p:spPr>
          <a:xfrm>
            <a:off x="457200" y="380880"/>
            <a:ext cx="8344080" cy="6019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9" name="Прямоугольник 6"/>
          <p:cNvSpPr/>
          <p:nvPr/>
        </p:nvSpPr>
        <p:spPr>
          <a:xfrm>
            <a:off x="380880" y="45720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ечении 3 лет мои родители были в загранкомандировке в Республике Йемен. Там они работали в Государственном госпитале в городе Сана(столица Йемена).                                                                                                                                    В этом госпитале работали ещё и врачи из других стран, с которым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и родители познакомились  и поделились накопленным опытом и знаниями.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и родители любят свою профессию и по их словам: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Врачебная деятельность требует постоянного повышения своей квалификации, полную отдачу профессии и любовь к ней».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80" name="Picture 4" descr="D:\Рисунки - User ФОТО\gif\006.gif"/>
          <p:cNvPicPr/>
          <p:nvPr/>
        </p:nvPicPr>
        <p:blipFill>
          <a:blip r:embed="rId2"/>
          <a:stretch/>
        </p:blipFill>
        <p:spPr>
          <a:xfrm>
            <a:off x="7772400" y="5181480"/>
            <a:ext cx="1095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cc"/>
                </a:solidFill>
                <a:latin typeface="Georgia"/>
              </a:rPr>
              <a:t>Если человек не знает, </a:t>
            </a:r>
            <a:br>
              <a:rPr sz="2000"/>
            </a:br>
            <a:r>
              <a:rPr b="1" i="1" lang="ru-RU" sz="2000" spc="-1" strike="noStrike">
                <a:solidFill>
                  <a:srgbClr val="66ffcc"/>
                </a:solidFill>
                <a:latin typeface="Georgia"/>
              </a:rPr>
              <a:t>к какой пристани он держит путь,</a:t>
            </a:r>
            <a:br>
              <a:rPr sz="2000"/>
            </a:br>
            <a:r>
              <a:rPr b="1" i="1" lang="ru-RU" sz="2000" spc="-1" strike="noStrike">
                <a:solidFill>
                  <a:srgbClr val="66ffcc"/>
                </a:solidFill>
                <a:latin typeface="Georgia"/>
              </a:rPr>
              <a:t> для него ни один ветер не будет попутным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2000" spc="-1" strike="noStrike">
                <a:solidFill>
                  <a:srgbClr val="808080"/>
                </a:solidFill>
                <a:latin typeface="Georgia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6" descr="J0233056"/>
          <p:cNvPicPr/>
          <p:nvPr/>
        </p:nvPicPr>
        <p:blipFill>
          <a:blip r:embed="rId1"/>
          <a:stretch/>
        </p:blipFill>
        <p:spPr>
          <a:xfrm>
            <a:off x="380880" y="2057400"/>
            <a:ext cx="2173320" cy="3151080"/>
          </a:xfrm>
          <a:prstGeom prst="rect">
            <a:avLst/>
          </a:prstGeom>
          <a:ln w="0">
            <a:noFill/>
          </a:ln>
        </p:spPr>
      </p:pic>
      <p:sp>
        <p:nvSpPr>
          <p:cNvPr id="183" name="Дата 3"/>
          <p:cNvSpPr/>
          <p:nvPr/>
        </p:nvSpPr>
        <p:spPr>
          <a:xfrm flipV="1">
            <a:off x="380880" y="6472080"/>
            <a:ext cx="46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C2AA-90FA-4222-80F7-11ECE4A2631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85" name="Picture 18" descr="J0299751"/>
          <p:cNvPicPr/>
          <p:nvPr/>
        </p:nvPicPr>
        <p:blipFill>
          <a:blip r:embed="rId2"/>
          <a:stretch/>
        </p:blipFill>
        <p:spPr>
          <a:xfrm>
            <a:off x="6248520" y="457200"/>
            <a:ext cx="2361960" cy="19479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6"/>
          <p:cNvSpPr/>
          <p:nvPr/>
        </p:nvSpPr>
        <p:spPr>
          <a:xfrm>
            <a:off x="2666880" y="2971800"/>
            <a:ext cx="60962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шей области нехватка врачей достигла 40%, поэтому  можно устроиться работать в любой районный центр или участковую больницу в сельской местности.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ренбурге можно устроиться в любую государственную или частную больницу. А получить медицинское образование можно в следующих учебных заведениях: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енбургская Государственная Медицинская Академия (ОГМА);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Оренбургский Государственный медколледж;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Медногорский Государственный медколледж;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Орский Государственный медколледж;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Бузулукский Государственный медколледж.</a:t>
            </a:r>
            <a:endParaRPr b="0" lang="en-US" sz="17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87" name="Picture 8" descr="D:\анимация\smotri.gif"/>
          <p:cNvPicPr/>
          <p:nvPr/>
        </p:nvPicPr>
        <p:blipFill>
          <a:blip r:embed="rId3"/>
          <a:stretch/>
        </p:blipFill>
        <p:spPr>
          <a:xfrm>
            <a:off x="4495680" y="20574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e811"/>
                </a:solidFill>
                <a:latin typeface="Georgia"/>
              </a:rPr>
              <a:t>Профессия - вра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33920" y="990360"/>
            <a:ext cx="495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Stylo"/>
              </a:rPr>
              <a:t>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Stylo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рач - самая нужная, необходимая и благородная  профессия в современном обществе. Именно люди, выбравшие эту профессию, помогают людям с их здоровьем, отдавая все свои внутренние силы на спасение больного. Давайте рассмотрим эту профессию поподробнее!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Дата 3"/>
          <p:cNvSpPr/>
          <p:nvPr/>
        </p:nvSpPr>
        <p:spPr>
          <a:xfrm flipV="1">
            <a:off x="380880" y="6472080"/>
            <a:ext cx="76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FF7F-79EB-4B14-AA10-43B389D8E64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Рисунок 5" descr="DOCTOR_2.jpg"/>
          <p:cNvPicPr/>
          <p:nvPr/>
        </p:nvPicPr>
        <p:blipFill>
          <a:blip r:embed="rId1"/>
          <a:stretch/>
        </p:blipFill>
        <p:spPr>
          <a:xfrm>
            <a:off x="304920" y="1295280"/>
            <a:ext cx="1828800" cy="2500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Врачи 3"/>
          <p:cNvPicPr/>
          <p:nvPr/>
        </p:nvPicPr>
        <p:blipFill>
          <a:blip r:embed="rId2"/>
          <a:stretch/>
        </p:blipFill>
        <p:spPr>
          <a:xfrm>
            <a:off x="2057400" y="1981080"/>
            <a:ext cx="2036880" cy="27306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5.1246633128 .jpg"/>
          <p:cNvPicPr/>
          <p:nvPr/>
        </p:nvPicPr>
        <p:blipFill>
          <a:blip r:embed="rId3"/>
          <a:stretch/>
        </p:blipFill>
        <p:spPr>
          <a:xfrm>
            <a:off x="457200" y="4648320"/>
            <a:ext cx="2895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Tahoma"/>
              </a:rPr>
              <a:t>Перед  людьми в белых халатах человек преклоняется во все времена. Им доверяют свое здоровье и жизнь, а они, взамен отдают все свои силы, чтобы больной поскорее поправи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Дата 3"/>
          <p:cNvSpPr/>
          <p:nvPr/>
        </p:nvSpPr>
        <p:spPr>
          <a:xfrm flipH="1" flipV="1">
            <a:off x="304200" y="6472080"/>
            <a:ext cx="75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E977-2F3D-4765-91E5-BB3F8AF1394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21" descr="Врачи"/>
          <p:cNvPicPr/>
          <p:nvPr/>
        </p:nvPicPr>
        <p:blipFill>
          <a:blip r:embed="rId1"/>
          <a:stretch/>
        </p:blipFill>
        <p:spPr>
          <a:xfrm>
            <a:off x="6095880" y="3733920"/>
            <a:ext cx="2590920" cy="253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:\Documents and Settings\Алия\Рабочий стол\о профессии\Форофонтова\x_db37f509.jpeg"/>
          <p:cNvPicPr/>
          <p:nvPr/>
        </p:nvPicPr>
        <p:blipFill>
          <a:blip r:embed="rId2"/>
          <a:stretch/>
        </p:blipFill>
        <p:spPr>
          <a:xfrm>
            <a:off x="3581280" y="1981080"/>
            <a:ext cx="244656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:\анимация\clip_image001.gif"/>
          <p:cNvPicPr/>
          <p:nvPr/>
        </p:nvPicPr>
        <p:blipFill>
          <a:blip r:embed="rId3"/>
          <a:stretch/>
        </p:blipFill>
        <p:spPr>
          <a:xfrm>
            <a:off x="3581280" y="45720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мама на работе(Беляевка).jpg"/>
          <p:cNvPicPr/>
          <p:nvPr/>
        </p:nvPicPr>
        <p:blipFill>
          <a:blip r:embed="rId4"/>
          <a:stretch/>
        </p:blipFill>
        <p:spPr>
          <a:xfrm>
            <a:off x="533520" y="3733920"/>
            <a:ext cx="2971800" cy="243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4" name="Picture 10" descr="http://bestgif.narod.ru/cvety/bestgif.narod.ru_21212.gif"/>
          <p:cNvPicPr/>
          <p:nvPr/>
        </p:nvPicPr>
        <p:blipFill>
          <a:blip r:embed="rId5"/>
          <a:stretch/>
        </p:blipFill>
        <p:spPr>
          <a:xfrm>
            <a:off x="6629400" y="2133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ttp://bestgif.narod.ru/cvety/bestgif.narod.ru_2163.gif"/>
          <p:cNvPicPr/>
          <p:nvPr/>
        </p:nvPicPr>
        <p:blipFill>
          <a:blip r:embed="rId6"/>
          <a:stretch/>
        </p:blipFill>
        <p:spPr>
          <a:xfrm>
            <a:off x="1143000" y="2209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tylo"/>
              </a:rPr>
              <a:t>Если посмотреть в любой энциклопедии или справочнике,то мы можем найти определение профессии врач, как:</a:t>
            </a:r>
            <a:br>
              <a:rPr sz="2000"/>
            </a:br>
            <a:r>
              <a:rPr b="0" lang="ru-RU" sz="2000" spc="-1" strike="noStrike">
                <a:solidFill>
                  <a:srgbClr val="99ff66"/>
                </a:solidFill>
                <a:latin typeface="Stylo"/>
              </a:rPr>
              <a:t>«Врач — лицо, получившее законченное высшее, медицинское образование(кроме зубных врачей, имеющих среднее медицинское образование) и обязующееся посвятить свои знания и умения предупреждению и лечению заболеваний, сохранению и укреплению здоровья человека.</a:t>
            </a:r>
            <a:r>
              <a:rPr b="0" lang="ru-RU" sz="2000" spc="-1" strike="noStrike" baseline="30000">
                <a:solidFill>
                  <a:srgbClr val="99ff66"/>
                </a:solidFill>
                <a:latin typeface="Stylo"/>
              </a:rPr>
              <a:t>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Stylo"/>
              </a:rPr>
              <a:t>Тем самым мы узнаём, что человек-врач должен быть образованным, порядочным и честным. А также обладать такими </a:t>
            </a:r>
            <a:r>
              <a:rPr b="1" lang="ru-RU" sz="2000" spc="-1" strike="noStrike">
                <a:solidFill>
                  <a:srgbClr val="ff3399"/>
                </a:solidFill>
                <a:latin typeface="Stylo"/>
              </a:rPr>
              <a:t>качествами, как спокойствие, уравновешенность, способность оценить ситуацию и отвечать за совершённые им действия.</a:t>
            </a: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Дата 4"/>
          <p:cNvSpPr/>
          <p:nvPr/>
        </p:nvSpPr>
        <p:spPr>
          <a:xfrm flipV="1">
            <a:off x="380880" y="6472080"/>
            <a:ext cx="76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CE4-9C8F-4D8C-80C5-B6923F0A0AE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13" descr="Роды 2"/>
          <p:cNvPicPr/>
          <p:nvPr/>
        </p:nvPicPr>
        <p:blipFill>
          <a:blip r:embed="rId1"/>
          <a:stretch/>
        </p:blipFill>
        <p:spPr>
          <a:xfrm>
            <a:off x="4495680" y="3886200"/>
            <a:ext cx="1567080" cy="207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зубной врач"/>
          <p:cNvPicPr/>
          <p:nvPr/>
        </p:nvPicPr>
        <p:blipFill>
          <a:blip r:embed="rId2"/>
          <a:stretch/>
        </p:blipFill>
        <p:spPr>
          <a:xfrm>
            <a:off x="3124080" y="4495680"/>
            <a:ext cx="1373400" cy="191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Провизор"/>
          <p:cNvPicPr/>
          <p:nvPr/>
        </p:nvPicPr>
        <p:blipFill>
          <a:blip r:embed="rId3"/>
          <a:stretch/>
        </p:blipFill>
        <p:spPr>
          <a:xfrm>
            <a:off x="533520" y="4527720"/>
            <a:ext cx="1295280" cy="1895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Медсестра"/>
          <p:cNvPicPr/>
          <p:nvPr/>
        </p:nvPicPr>
        <p:blipFill>
          <a:blip r:embed="rId4"/>
          <a:stretch/>
        </p:blipFill>
        <p:spPr>
          <a:xfrm>
            <a:off x="6032520" y="4800600"/>
            <a:ext cx="141120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Врачи10"/>
          <p:cNvPicPr/>
          <p:nvPr/>
        </p:nvPicPr>
        <p:blipFill>
          <a:blip r:embed="rId5"/>
          <a:stretch/>
        </p:blipFill>
        <p:spPr>
          <a:xfrm>
            <a:off x="1828800" y="4191120"/>
            <a:ext cx="1327320" cy="2278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дет"/>
          <p:cNvPicPr/>
          <p:nvPr/>
        </p:nvPicPr>
        <p:blipFill>
          <a:blip r:embed="rId6"/>
          <a:stretch/>
        </p:blipFill>
        <p:spPr>
          <a:xfrm>
            <a:off x="7404120" y="3886200"/>
            <a:ext cx="126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Клятва Гиппократа</a:t>
            </a: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2949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Каждый врач, когда он заканчивает какое-либо учебное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заведение, перед началом своей профессиональной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деятельности он обязан дать клятву Гиппократа. Сама по себе «Клятва Гиппократа» содержит в себе 9 этнических принципов и обязательств: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i="1" lang="ru-RU" sz="1900" spc="-1" strike="noStrike">
                <a:solidFill>
                  <a:srgbClr val="ff3399"/>
                </a:solidFill>
                <a:latin typeface="Arno Pro Smbd Display"/>
              </a:rPr>
              <a:t>обязательства перед учителями, коллегами и учениками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ff66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9b98d8"/>
                </a:solidFill>
                <a:latin typeface="Arno Pro Smbd Display"/>
              </a:rPr>
              <a:t>принцип не причинения вреда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ff9933"/>
                </a:solidFill>
                <a:latin typeface="Arno Pro Smbd Display"/>
              </a:rPr>
              <a:t>обязательства оказания помощи больному (принцип милосердия)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</a:t>
            </a:r>
            <a:r>
              <a:rPr b="1" i="1" lang="ru-RU" sz="1900" spc="-1" strike="noStrike">
                <a:solidFill>
                  <a:srgbClr val="0d5dff"/>
                </a:solidFill>
                <a:latin typeface="Arno Pro Smbd Display"/>
              </a:rPr>
              <a:t>принцип заботы о пользе больного и доминанты интересов больного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</a:t>
            </a:r>
            <a:r>
              <a:rPr b="1" i="1" lang="ru-RU" sz="1900" spc="-1" strike="noStrike">
                <a:solidFill>
                  <a:srgbClr val="c00000"/>
                </a:solidFill>
                <a:latin typeface="Arno Pro Smbd Display"/>
              </a:rPr>
              <a:t>принцип уважения к жизни и отрицательного отношения к эвтаназии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ffffff"/>
                </a:solidFill>
                <a:latin typeface="Arno Pro Smbd Display"/>
              </a:rPr>
              <a:t>принцип уважения к жизни и отрицательного отношения к    абортам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00b050"/>
                </a:solidFill>
                <a:latin typeface="Arno Pro Smbd Display"/>
              </a:rPr>
              <a:t>обязательство об отказе от интимных связей с пациентами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66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ff3300"/>
                </a:solidFill>
                <a:latin typeface="Arno Pro Smbd Display"/>
              </a:rPr>
              <a:t>обязательство личного совершенствования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no Pro Smbd Displ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815ba"/>
                </a:solidFill>
                <a:latin typeface="Arno Pro Smbd Display"/>
              </a:rPr>
              <a:t>  </a:t>
            </a:r>
            <a:r>
              <a:rPr b="1" i="1" lang="ru-RU" sz="1900" spc="-1" strike="noStrike">
                <a:solidFill>
                  <a:srgbClr val="6815ba"/>
                </a:solidFill>
                <a:latin typeface="Arno Pro Smbd Display"/>
              </a:rPr>
              <a:t>врачебная тайна (принцип конфиденциальности).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8" name="Picture 8" descr="C:\Documents and Settings\Алия\Рабочий стол\о профессии\Форофонтова\cfoto.php.jpg"/>
          <p:cNvPicPr/>
          <p:nvPr/>
        </p:nvPicPr>
        <p:blipFill>
          <a:blip r:embed="rId1"/>
          <a:stretch/>
        </p:blipFill>
        <p:spPr>
          <a:xfrm>
            <a:off x="6840360" y="380880"/>
            <a:ext cx="1770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8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38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85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385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385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85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385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385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85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385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385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385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85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385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85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385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385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85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38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38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85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385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385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385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85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385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385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85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385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385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385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85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385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85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385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385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385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000" spc="-1" strike="noStrike">
                <a:solidFill>
                  <a:srgbClr val="99ff66"/>
                </a:solidFill>
                <a:latin typeface="Stylo"/>
              </a:rPr>
              <a:t>Медицинская этика</a:t>
            </a:r>
            <a:r>
              <a:rPr b="0" lang="ru-RU" sz="2000" spc="-1" strike="noStrike">
                <a:solidFill>
                  <a:srgbClr val="99ff66"/>
                </a:solidFill>
                <a:latin typeface="Stylo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no Pro Smbd Display"/>
              </a:rPr>
              <a:t>исследует понят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no Pro Smbd Display"/>
              </a:rPr>
              <a:t> о </a:t>
            </a:r>
            <a:r>
              <a:rPr b="0" i="1" lang="ru-RU" sz="2000" spc="-1" strike="noStrike">
                <a:solidFill>
                  <a:srgbClr val="99ff66"/>
                </a:solidFill>
                <a:latin typeface="Arno Pro Smbd Display"/>
              </a:rPr>
              <a:t>врачебном долге </a:t>
            </a:r>
            <a:r>
              <a:rPr b="0" lang="ru-RU" sz="2000" spc="-1" strike="noStrike">
                <a:solidFill>
                  <a:srgbClr val="ffffff"/>
                </a:solidFill>
                <a:latin typeface="Arno Pro Smbd Display"/>
              </a:rPr>
              <a:t>(Деонтология), о заболеваниях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no Pro Smbd Display"/>
              </a:rPr>
              <a:t>и их осложнениях, связанных с действиям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no Pro Smbd Display"/>
              </a:rPr>
              <a:t>медицинского персонала.</a:t>
            </a:r>
            <a:br>
              <a:rPr sz="2000"/>
            </a:br>
            <a:r>
              <a:rPr b="0" lang="ru-RU" sz="2000" spc="-1" strike="noStrike">
                <a:solidFill>
                  <a:srgbClr val="99ff66"/>
                </a:solidFill>
                <a:latin typeface="Stylo"/>
              </a:rPr>
              <a:t>Занимаясь медицинской деятельностью, врач руководствуется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no Pro Smbd Display"/>
              </a:rPr>
              <a:t>Этическим кодексом российского врача (Кодекс врачебной этики РФ, утвержден 4-ой Конференцией Ассоциации врачей России, ноябрь 1994; одобрен Всероссийским Пироговским съездом врачей 7 июня 1997 г.)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no Pro Smbd Display"/>
              </a:rPr>
              <a:t>Этическими требованиями ассоциации, в которой состоит врач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no Pro Smbd Display"/>
              </a:rPr>
              <a:t>Международными нормами профессиональной этики, исключая, не признаваемое Ассоциацией врачей России, положение о допустимости пассивной эвтаназии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no Pro Smbd Display"/>
              </a:rPr>
              <a:t>«Международным кодексом медицинской этики»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no Pro Smbd Display"/>
              </a:rPr>
              <a:t>«Всеобщей Декларацией о биоэтике и правах человека»</a:t>
            </a:r>
            <a:br>
              <a:rPr sz="2000"/>
            </a:br>
            <a:r>
              <a:rPr b="0" i="1" lang="ru-RU" sz="2000" spc="-1" strike="noStrike">
                <a:solidFill>
                  <a:srgbClr val="99ff66"/>
                </a:solidFill>
                <a:latin typeface="Arno Pro Smbd Display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Дата 2"/>
          <p:cNvSpPr/>
          <p:nvPr/>
        </p:nvSpPr>
        <p:spPr>
          <a:xfrm flipV="1">
            <a:off x="380880" y="6472080"/>
            <a:ext cx="228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37C-8A10-4BF4-81F5-B4684E3DE63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2" name="Рисунок 7" descr="1225453184_maska-vrach копия.gif"/>
          <p:cNvPicPr/>
          <p:nvPr/>
        </p:nvPicPr>
        <p:blipFill>
          <a:blip r:embed="rId1"/>
          <a:stretch/>
        </p:blipFill>
        <p:spPr>
          <a:xfrm>
            <a:off x="7086600" y="685800"/>
            <a:ext cx="1652760" cy="198108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8" descr=""/>
          <p:cNvPicPr/>
          <p:nvPr/>
        </p:nvPicPr>
        <p:blipFill>
          <a:blip r:embed="rId2"/>
          <a:stretch/>
        </p:blipFill>
        <p:spPr>
          <a:xfrm>
            <a:off x="1347840" y="450720"/>
            <a:ext cx="5722920" cy="104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09"/>
          <p:cNvPicPr/>
          <p:nvPr/>
        </p:nvPicPr>
        <p:blipFill>
          <a:blip r:embed="rId3"/>
          <a:stretch/>
        </p:blipFill>
        <p:spPr>
          <a:xfrm>
            <a:off x="152280" y="380880"/>
            <a:ext cx="1317600" cy="9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3"/>
          <p:cNvSpPr/>
          <p:nvPr/>
        </p:nvSpPr>
        <p:spPr>
          <a:xfrm flipV="1">
            <a:off x="380880" y="6471360"/>
            <a:ext cx="4608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312-8375-404F-B3A2-0CAB3C5A299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Прямоугольник 27" descr=""/>
          <p:cNvPicPr/>
          <p:nvPr/>
        </p:nvPicPr>
        <p:blipFill>
          <a:blip r:embed="rId1"/>
          <a:stretch/>
        </p:blipFill>
        <p:spPr>
          <a:xfrm>
            <a:off x="4352760" y="2962440"/>
            <a:ext cx="438480" cy="9331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9"/>
          <p:cNvSpPr/>
          <p:nvPr/>
        </p:nvSpPr>
        <p:spPr>
          <a:xfrm>
            <a:off x="380880" y="106668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tylo"/>
              </a:rPr>
              <a:t>Врач традиционно пользуется особым статусом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tylo"/>
              </a:rPr>
              <a:t>в любом обществе, и к нему предъявляются высокие этические и правовые требования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no Pro Smbd Caption"/>
              </a:rPr>
              <a:t>Социальный статус врача в России — противоречив, особенно в сочетании с представлением о соответствии уровня знаний и «напряженности» труда величине материального вознаграждения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c2ff"/>
                </a:solidFill>
                <a:latin typeface="Arno Pro Smbd Caption"/>
              </a:rPr>
              <a:t>   </a:t>
            </a:r>
            <a:r>
              <a:rPr b="0" lang="ru-RU" sz="1800" spc="-1" strike="noStrike">
                <a:solidFill>
                  <a:srgbClr val="4a78ff"/>
                </a:solidFill>
                <a:latin typeface="Arno Pro Smbd Caption"/>
              </a:rPr>
              <a:t>Принято считать, что «настоящий» врач является эталоном для широкой общественности в вопросах не только охраны здоровья (должен, к примеру, не курить  не злоупотреблять алкогольными напитками, вести активный образ жизни, правильно питаться), но и морали. Существует мнение, что врач должен быть всецело предан делу Медицины, милосерден, требователен к себе, скромен в быту и потребностях, трезв в оценках, проявлять силу духа и решительность в сложных жизненных ситуациях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Stylo"/>
              </a:rPr>
              <a:t>Медицина, как отрасль человеческой деятельности, занимает совершенно особое  место потому, что наука в ней сочетается с ценностями, подходом, не имеющими ничего общего с наукой. В основе врачебного подхода </a:t>
            </a:r>
            <a:r>
              <a:rPr b="0" lang="ru-RU" sz="1800" spc="-1" strike="noStrike">
                <a:solidFill>
                  <a:srgbClr val="00b050"/>
                </a:solidFill>
                <a:latin typeface="Arno Pro Smbd Caption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a3c2ff"/>
              </a:buClr>
              <a:buFont typeface="Arno Pro Smbd Capt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c2ff"/>
                </a:solidFill>
                <a:latin typeface="Arno Pro Smbd Captio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no Pro Smbd Caption"/>
              </a:rPr>
              <a:t>сострадание</a:t>
            </a:r>
            <a:r>
              <a:rPr b="0" lang="ru-RU" sz="1800" spc="-1" strike="noStrike">
                <a:solidFill>
                  <a:srgbClr val="ffffff"/>
                </a:solidFill>
                <a:latin typeface="Arno Pro Smbd Caption"/>
              </a:rPr>
              <a:t> (не означает сентиментальность)-это творческая отзывчивость на страдание пациента и его положение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Arno Pro Smbd Capt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ff5050"/>
                </a:solidFill>
                <a:latin typeface="Arno Pro Smbd Caption"/>
              </a:rPr>
              <a:t>человеческий подход (вне которого медицины  вовсе не существует)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9" descr="C:\Documents and Settings\Алия\Рабочий стол\1235720265_doktor[1].jpg"/>
          <p:cNvPicPr/>
          <p:nvPr/>
        </p:nvPicPr>
        <p:blipFill>
          <a:blip r:embed="rId2"/>
          <a:stretch/>
        </p:blipFill>
        <p:spPr>
          <a:xfrm>
            <a:off x="6477120" y="152280"/>
            <a:ext cx="1974600" cy="11890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1" descr=""/>
          <p:cNvPicPr/>
          <p:nvPr/>
        </p:nvPicPr>
        <p:blipFill>
          <a:blip r:embed="rId3"/>
          <a:stretch/>
        </p:blipFill>
        <p:spPr>
          <a:xfrm>
            <a:off x="378000" y="79200"/>
            <a:ext cx="577368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5790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81f1"/>
                </a:solidFill>
                <a:latin typeface="Georgia"/>
              </a:rPr>
              <a:t>Кто не владеет техникой какого-нибудь искусства, науки  или ремесла, тот никогда не будет способен создать что-нибудь выдающееся.</a:t>
            </a:r>
            <a:br>
              <a:rPr sz="2000"/>
            </a:br>
            <a:r>
              <a:rPr b="0" lang="ru-RU" sz="2000" spc="-1" strike="noStrike">
                <a:solidFill>
                  <a:srgbClr val="b981f1"/>
                </a:solidFill>
                <a:latin typeface="Tahoma"/>
              </a:rPr>
              <a:t>                </a:t>
            </a:r>
            <a:r>
              <a:rPr b="1" i="1" lang="ru-RU" sz="2000" spc="-1" strike="noStrike">
                <a:solidFill>
                  <a:srgbClr val="b981f1"/>
                </a:solidFill>
                <a:latin typeface="Tahoma"/>
              </a:rPr>
              <a:t>И.Мичур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Дата 2"/>
          <p:cNvSpPr/>
          <p:nvPr/>
        </p:nvSpPr>
        <p:spPr>
          <a:xfrm flipV="1">
            <a:off x="380880" y="6472080"/>
            <a:ext cx="1526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8A1-0FA1-4803-AFF2-01544168089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9" descr="J0346303"/>
          <p:cNvPicPr/>
          <p:nvPr/>
        </p:nvPicPr>
        <p:blipFill>
          <a:blip r:embed="rId1"/>
          <a:stretch/>
        </p:blipFill>
        <p:spPr>
          <a:xfrm>
            <a:off x="380880" y="457200"/>
            <a:ext cx="2108160" cy="18972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women-doctors копия.jpg"/>
          <p:cNvPicPr/>
          <p:nvPr/>
        </p:nvPicPr>
        <p:blipFill>
          <a:blip r:embed="rId2"/>
          <a:stretch/>
        </p:blipFill>
        <p:spPr>
          <a:xfrm>
            <a:off x="533520" y="2362320"/>
            <a:ext cx="3276360" cy="25905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7"/>
          <p:cNvSpPr/>
          <p:nvPr/>
        </p:nvSpPr>
        <p:spPr>
          <a:xfrm>
            <a:off x="3886200" y="1981080"/>
            <a:ext cx="48769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Врачебная профессия очень разнообразна . Можно например стать врачом:</a:t>
            </a:r>
            <a:endParaRPr b="0" lang="en-US" sz="22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вматолог(различные повреждения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неколог(женские болезни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8dc"/>
                </a:solidFill>
                <a:latin typeface="Times New Roman"/>
                <a:ea typeface="Times New Roman"/>
              </a:rPr>
              <a:t>Педиатр((детский врач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врач(врач общей практики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сихиатр(душевные болезни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ерапевт(внутренние болезни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78ff"/>
                </a:solidFill>
                <a:latin typeface="Times New Roman"/>
                <a:ea typeface="Times New Roman"/>
              </a:rPr>
              <a:t>Хирург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томатолог(болезни полости  рта и  зубов) и т.д.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7" name="Picture 11" descr="D:\Рисунки - User ФОТО\gif\ist\2.gif"/>
          <p:cNvPicPr/>
          <p:nvPr/>
        </p:nvPicPr>
        <p:blipFill>
          <a:blip r:embed="rId3"/>
          <a:stretch/>
        </p:blipFill>
        <p:spPr>
          <a:xfrm>
            <a:off x="1219320" y="4687920"/>
            <a:ext cx="19047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040"/>
          <p:cNvSpPr/>
          <p:nvPr/>
        </p:nvSpPr>
        <p:spPr>
          <a:xfrm>
            <a:off x="380880" y="6400800"/>
            <a:ext cx="763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0" name="Rectangle 1042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074-BFF6-4EDF-B474-A8C02D3FBCD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1" name="Рисунок 8" descr="мама и папа в Йемене(на работе).jpg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586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считаю эту профессию очень интересной. Хотя она не простая и требует большой ответственности, она мне нравится. Я хочу стать по профессии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рачом, также как и мои родители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А. А.Форофонтов и Л.Н.Форофонтова)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и  мама и папа начинали свою врачебную карьеру с Центральной районной больницы в селе Беляевка, где они работают и сейчас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3" name="Picture 12" descr="http://img1.liveinternet.ru/images/attach/c/0/42/551/42551970_12.gif"/>
          <p:cNvPicPr/>
          <p:nvPr/>
        </p:nvPicPr>
        <p:blipFill>
          <a:blip r:embed="rId2"/>
          <a:stretch/>
        </p:blipFill>
        <p:spPr>
          <a:xfrm>
            <a:off x="419112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http://bestgif.narod.ru/cvety/bestgif.narod.ru_2171.gif"/>
          <p:cNvPicPr/>
          <p:nvPr/>
        </p:nvPicPr>
        <p:blipFill>
          <a:blip r:embed="rId3"/>
          <a:stretch/>
        </p:blipFill>
        <p:spPr>
          <a:xfrm>
            <a:off x="2666880" y="4648320"/>
            <a:ext cx="133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09-27T18:24:2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