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0.jpeg" ContentType="image/jpeg"/>
  <Override PartName="/ppt/media/image8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23.png" ContentType="image/png"/>
  <Override PartName="/ppt/media/image13.jpeg" ContentType="image/jpeg"/>
  <Override PartName="/ppt/media/image29.png" ContentType="image/png"/>
  <Override PartName="/ppt/media/image31.png" ContentType="image/png"/>
  <Override PartName="/ppt/media/image9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type.wav" ContentType="audio/x-wav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47F-5850-43C1-AF40-ACF7608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24E-8DF2-41ED-B5FC-395CAB58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135-A460-4925-BA6B-5FB370CD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3FE-BD30-4432-B5FA-9378C902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F25-CB6B-4438-B339-BC3F7365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C49-23A0-4084-9E02-D9B5369D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EBB-FD2E-4E05-8FAE-B4BE32E0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451-69F9-40B7-A6DB-A8ED020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471-4570-4DBF-977B-C442F020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7EB-DFD8-4F7A-9547-65098ED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E88-9D33-41E1-B258-BC1ADCFF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D63-3B11-4F8F-821C-4887C8D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ABD-3E8F-4062-8875-94652638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lori.ru/images/0000324892-thumb.jpg" TargetMode="External"/><Relationship Id="rId12" Type="http://schemas.openxmlformats.org/officeDocument/2006/relationships/image" Target="../media/image22.png"/><Relationship Id="rId13" Type="http://schemas.openxmlformats.org/officeDocument/2006/relationships/image" Target="../media/image19.png"/><Relationship Id="rId14" Type="http://schemas.openxmlformats.org/officeDocument/2006/relationships/image" Target="../media/image26.png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lori.ru/images/0000324892-thumb.jpg" TargetMode="External"/><Relationship Id="rId14" Type="http://schemas.openxmlformats.org/officeDocument/2006/relationships/image" Target="../media/image22.png"/><Relationship Id="rId15" Type="http://schemas.openxmlformats.org/officeDocument/2006/relationships/image" Target="../media/image19.png"/><Relationship Id="rId16" Type="http://schemas.openxmlformats.org/officeDocument/2006/relationships/image" Target="../media/image27.png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4" Type="http://schemas.openxmlformats.org/officeDocument/2006/relationships/image" Target="../media/image21.png"/><Relationship Id="rId15" Type="http://schemas.openxmlformats.org/officeDocument/2006/relationships/hyperlink" Target="http://lori.ru/images/0000324892-thumb.jpg" TargetMode="External"/><Relationship Id="rId16" Type="http://schemas.openxmlformats.org/officeDocument/2006/relationships/image" Target="../media/image22.png"/><Relationship Id="rId17" Type="http://schemas.openxmlformats.org/officeDocument/2006/relationships/image" Target="../media/image19.png"/><Relationship Id="rId18" Type="http://schemas.openxmlformats.org/officeDocument/2006/relationships/image" Target="../media/image28.png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4" Type="http://schemas.openxmlformats.org/officeDocument/2006/relationships/image" Target="../media/image21.png"/><Relationship Id="rId1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6" Type="http://schemas.openxmlformats.org/officeDocument/2006/relationships/image" Target="../media/image21.png"/><Relationship Id="rId17" Type="http://schemas.openxmlformats.org/officeDocument/2006/relationships/hyperlink" Target="http://lori.ru/images/0000324892-thumb.jpg" TargetMode="External"/><Relationship Id="rId18" Type="http://schemas.openxmlformats.org/officeDocument/2006/relationships/image" Target="../media/image22.png"/><Relationship Id="rId19" Type="http://schemas.openxmlformats.org/officeDocument/2006/relationships/image" Target="../media/image19.png"/><Relationship Id="rId20" Type="http://schemas.openxmlformats.org/officeDocument/2006/relationships/image" Target="../media/image29.png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4" Type="http://schemas.openxmlformats.org/officeDocument/2006/relationships/image" Target="../media/image21.png"/><Relationship Id="rId1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6" Type="http://schemas.openxmlformats.org/officeDocument/2006/relationships/image" Target="../media/image21.png"/><Relationship Id="rId1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8" Type="http://schemas.openxmlformats.org/officeDocument/2006/relationships/image" Target="../media/image21.png"/><Relationship Id="rId19" Type="http://schemas.openxmlformats.org/officeDocument/2006/relationships/hyperlink" Target="http://lori.ru/images/0000324892-thumb.jpg" TargetMode="External"/><Relationship Id="rId20" Type="http://schemas.openxmlformats.org/officeDocument/2006/relationships/image" Target="../media/image22.png"/><Relationship Id="rId21" Type="http://schemas.openxmlformats.org/officeDocument/2006/relationships/image" Target="../media/image19.png"/><Relationship Id="rId22" Type="http://schemas.openxmlformats.org/officeDocument/2006/relationships/image" Target="../media/image30.png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4" Type="http://schemas.openxmlformats.org/officeDocument/2006/relationships/image" Target="../media/image21.png"/><Relationship Id="rId1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6" Type="http://schemas.openxmlformats.org/officeDocument/2006/relationships/image" Target="../media/image21.png"/><Relationship Id="rId1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18" Type="http://schemas.openxmlformats.org/officeDocument/2006/relationships/image" Target="../media/image21.png"/><Relationship Id="rId19" Type="http://schemas.openxmlformats.org/officeDocument/2006/relationships/hyperlink" Target="http://lori.ru/images/0000324892-thumb.jpg" TargetMode="External"/><Relationship Id="rId20" Type="http://schemas.openxmlformats.org/officeDocument/2006/relationships/image" Target="../media/image22.png"/><Relationship Id="rId21" Type="http://schemas.openxmlformats.org/officeDocument/2006/relationships/image" Target="../media/image19.png"/><Relationship Id="rId22" Type="http://schemas.openxmlformats.org/officeDocument/2006/relationships/image" Target="../media/image31.png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smiles.33b.ru/smile.60753.html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smiles.33b.ru/smile.60753.html" TargetMode="External"/><Relationship Id="rId6" Type="http://schemas.openxmlformats.org/officeDocument/2006/relationships/image" Target="../media/image3.gif"/><Relationship Id="rId7" Type="http://schemas.openxmlformats.org/officeDocument/2006/relationships/hyperlink" Target="http://smiles.33b.ru/smile.60753.html" TargetMode="External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hyperlink" Target="http://smiles.33b.ru/smile.60753.html" TargetMode="External"/><Relationship Id="rId12" Type="http://schemas.openxmlformats.org/officeDocument/2006/relationships/image" Target="../media/image3.gif"/><Relationship Id="rId13" Type="http://schemas.openxmlformats.org/officeDocument/2006/relationships/hyperlink" Target="http://smiles.33b.ru/smile.60753.html" TargetMode="External"/><Relationship Id="rId14" Type="http://schemas.openxmlformats.org/officeDocument/2006/relationships/image" Target="../media/image3.gif"/><Relationship Id="rId15" Type="http://schemas.openxmlformats.org/officeDocument/2006/relationships/hyperlink" Target="http://smiles.33b.ru/smile.60753.html" TargetMode="External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hyperlink" Target="http://smiles.33b.ru/smile.60753.html" TargetMode="External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hyperlink" Target="http://smiles.33b.ru/smile.60753.html" TargetMode="External"/><Relationship Id="rId16" Type="http://schemas.openxmlformats.org/officeDocument/2006/relationships/image" Target="../media/image3.gif"/><Relationship Id="rId17" Type="http://schemas.openxmlformats.org/officeDocument/2006/relationships/hyperlink" Target="http://smiles.33b.ru/smile.60753.html" TargetMode="External"/><Relationship Id="rId18" Type="http://schemas.openxmlformats.org/officeDocument/2006/relationships/image" Target="../media/image3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hyperlink" Target="http://smiles.33b.ru/smile.60753.html" TargetMode="External"/><Relationship Id="rId22" Type="http://schemas.openxmlformats.org/officeDocument/2006/relationships/image" Target="../media/image3.gif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lori.ru/images/0000324892-thumb.jpg" TargetMode="External"/><Relationship Id="rId6" Type="http://schemas.openxmlformats.org/officeDocument/2006/relationships/image" Target="../media/image22.png"/><Relationship Id="rId7" Type="http://schemas.openxmlformats.org/officeDocument/2006/relationships/image" Target="../media/image19.png"/><Relationship Id="rId8" Type="http://schemas.openxmlformats.org/officeDocument/2006/relationships/image" Target="../media/image23.pn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lori.ru/images/0000324892-thumb.jpg" TargetMode="External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ages.yandex.ru/yandsearch?p=22&amp;ed=1&amp;text=&#1103;&#1081;&#1094;&#1086;&amp;spsite=www.vizitagro.ru&amp;img_url=www.vizitagro.ru%2Fassets%2Fimages%2Fegg.jpg&amp;rpt=simage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lori.ru/images/0000324892-thumb.jpg" TargetMode="External"/><Relationship Id="rId10" Type="http://schemas.openxmlformats.org/officeDocument/2006/relationships/image" Target="../media/image22.png"/><Relationship Id="rId11" Type="http://schemas.openxmlformats.org/officeDocument/2006/relationships/image" Target="../media/image19.png"/><Relationship Id="rId12" Type="http://schemas.openxmlformats.org/officeDocument/2006/relationships/image" Target="../media/image25.png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907920"/>
            <a:ext cx="518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0680" y="3170160"/>
            <a:ext cx="8162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ование чисел второго деся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13160" y="551664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вринова Ир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876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395280" y="333360"/>
            <a:ext cx="8483760" cy="624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57520" y="304920"/>
            <a:ext cx="59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ЧЕТЫ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600720" cy="214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5645160" y="4114800"/>
            <a:ext cx="1441440" cy="90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7169040" y="4114800"/>
            <a:ext cx="1441440" cy="90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5721480" y="5181480"/>
            <a:ext cx="1441440" cy="906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7169040" y="5105520"/>
            <a:ext cx="1441440" cy="906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Картинка 5 из 5">
            <a:hlinkClick r:id="rId11"/>
          </p:cNvPr>
          <p:cNvPicPr/>
          <p:nvPr/>
        </p:nvPicPr>
        <p:blipFill>
          <a:blip r:embed="rId12"/>
          <a:srcRect l="0" t="0" r="0" b="15957"/>
          <a:stretch/>
        </p:blipFill>
        <p:spPr>
          <a:xfrm>
            <a:off x="712800" y="3500280"/>
            <a:ext cx="4665600" cy="2913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3">
            <a:lum contrast="-18000"/>
          </a:blip>
          <a:srcRect l="38605" t="16667" r="30035" b="47068"/>
          <a:stretch/>
        </p:blipFill>
        <p:spPr>
          <a:xfrm>
            <a:off x="4390920" y="1052640"/>
            <a:ext cx="3205440" cy="252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4"/>
          <a:stretch/>
        </p:blipFill>
        <p:spPr>
          <a:xfrm>
            <a:off x="6257880" y="1447920"/>
            <a:ext cx="21560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55112E-017 L 0.21493 0.00093 E">
                                      <p:cBhvr>
                                        <p:cTn id="29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21181 -0.00023 E">
                                      <p:cBhvr>
                                        <p:cTn id="29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267760" cy="6248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68640" y="304920"/>
            <a:ext cx="53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ПЯ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00000" y="1447920"/>
            <a:ext cx="3527640" cy="2146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7281720" y="3809880"/>
            <a:ext cx="1405080" cy="906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6367320" y="4495680"/>
            <a:ext cx="1405080" cy="906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7281720" y="5410080"/>
            <a:ext cx="1405080" cy="906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5376960" y="5257800"/>
            <a:ext cx="1404720" cy="906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1"/>
          </p:cNvPr>
          <p:cNvPicPr/>
          <p:nvPr/>
        </p:nvPicPr>
        <p:blipFill>
          <a:blip r:embed="rId12"/>
          <a:srcRect l="17687" t="41295" r="23357" b="17461"/>
          <a:stretch/>
        </p:blipFill>
        <p:spPr>
          <a:xfrm>
            <a:off x="5376960" y="3809880"/>
            <a:ext cx="1404720" cy="906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Картинка 5 из 5">
            <a:hlinkClick r:id="rId13"/>
          </p:cNvPr>
          <p:cNvPicPr/>
          <p:nvPr/>
        </p:nvPicPr>
        <p:blipFill>
          <a:blip r:embed="rId14"/>
          <a:srcRect l="0" t="0" r="0" b="15957"/>
          <a:stretch/>
        </p:blipFill>
        <p:spPr>
          <a:xfrm>
            <a:off x="558720" y="3429000"/>
            <a:ext cx="4546800" cy="2913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42644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5">
            <a:lum contrast="-18000"/>
          </a:blip>
          <a:srcRect l="38605" t="16667" r="30035" b="47068"/>
          <a:stretch/>
        </p:blipFill>
        <p:spPr>
          <a:xfrm>
            <a:off x="4327560" y="1052640"/>
            <a:ext cx="3124080" cy="252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6"/>
          <a:stretch/>
        </p:blipFill>
        <p:spPr>
          <a:xfrm>
            <a:off x="6477120" y="1371600"/>
            <a:ext cx="1944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2184 0.00648 E">
                                      <p:cBhvr>
                                        <p:cTn id="31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21268 0.00301 E">
                                      <p:cBhvr>
                                        <p:cTn id="31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339040" cy="6248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14600" y="3049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ШЕ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344760" cy="2146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5334120" y="426708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5867280" y="48769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6324480" y="55627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6781680" y="41911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11"/>
          </p:cNvPr>
          <p:cNvPicPr/>
          <p:nvPr/>
        </p:nvPicPr>
        <p:blipFill>
          <a:blip r:embed="rId12"/>
          <a:srcRect l="17687" t="41295" r="23357" b="17461"/>
          <a:stretch/>
        </p:blipFill>
        <p:spPr>
          <a:xfrm>
            <a:off x="7238880" y="480060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13"/>
          </p:cNvPr>
          <p:cNvPicPr/>
          <p:nvPr/>
        </p:nvPicPr>
        <p:blipFill>
          <a:blip r:embed="rId14"/>
          <a:srcRect l="17687" t="41295" r="23357" b="17461"/>
          <a:stretch/>
        </p:blipFill>
        <p:spPr>
          <a:xfrm>
            <a:off x="7543800" y="548640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Картинка 5 из 5">
            <a:hlinkClick r:id="rId15"/>
          </p:cNvPr>
          <p:cNvPicPr/>
          <p:nvPr/>
        </p:nvPicPr>
        <p:blipFill>
          <a:blip r:embed="rId16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4380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7">
            <a:lum contrast="-18000"/>
          </a:blip>
          <a:srcRect l="38605" t="16667" r="30035" b="47068"/>
          <a:stretch/>
        </p:blipFill>
        <p:spPr>
          <a:xfrm>
            <a:off x="4643280" y="1052640"/>
            <a:ext cx="2880000" cy="2520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6553080" y="1447920"/>
            <a:ext cx="1854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21441 -0.00416 E">
                                      <p:cBhvr>
                                        <p:cTn id="33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-0.20782 -0.00024 E">
                                      <p:cBhvr>
                                        <p:cTn id="33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33904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3049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СЕ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416400" cy="2197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5257800" y="41911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5715000" y="480060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6248520" y="541008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6324480" y="38098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11"/>
          </p:cNvPr>
          <p:cNvPicPr/>
          <p:nvPr/>
        </p:nvPicPr>
        <p:blipFill>
          <a:blip r:embed="rId12"/>
          <a:srcRect l="17687" t="41295" r="23357" b="17461"/>
          <a:stretch/>
        </p:blipFill>
        <p:spPr>
          <a:xfrm>
            <a:off x="6781680" y="42670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13"/>
          </p:cNvPr>
          <p:cNvPicPr/>
          <p:nvPr/>
        </p:nvPicPr>
        <p:blipFill>
          <a:blip r:embed="rId14"/>
          <a:srcRect l="17687" t="41295" r="23357" b="17461"/>
          <a:stretch/>
        </p:blipFill>
        <p:spPr>
          <a:xfrm>
            <a:off x="7315200" y="47242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15"/>
          </p:cNvPr>
          <p:cNvPicPr/>
          <p:nvPr/>
        </p:nvPicPr>
        <p:blipFill>
          <a:blip r:embed="rId16"/>
          <a:srcRect l="17687" t="41295" r="23357" b="17461"/>
          <a:stretch/>
        </p:blipFill>
        <p:spPr>
          <a:xfrm>
            <a:off x="7620120" y="533412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Картинка 5 из 5">
            <a:hlinkClick r:id="rId17"/>
          </p:cNvPr>
          <p:cNvPicPr/>
          <p:nvPr/>
        </p:nvPicPr>
        <p:blipFill>
          <a:blip r:embed="rId18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4380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9">
            <a:lum contrast="-18000"/>
          </a:blip>
          <a:srcRect l="38605" t="16667" r="30035" b="47068"/>
          <a:stretch/>
        </p:blipFill>
        <p:spPr>
          <a:xfrm>
            <a:off x="4643280" y="1052640"/>
            <a:ext cx="2880000" cy="252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0"/>
          <a:stretch/>
        </p:blipFill>
        <p:spPr>
          <a:xfrm>
            <a:off x="6477120" y="1371600"/>
            <a:ext cx="2157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0.23402 -0.00416 E">
                                      <p:cBhvr>
                                        <p:cTn id="35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20816 4.07407E-006 E">
                                      <p:cBhvr>
                                        <p:cTn id="35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267760" cy="6248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0" y="228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ВОСЕ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271680" cy="2197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5867280" y="37339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5334120" y="434340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7238880" y="37339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6477120" y="419112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11"/>
          </p:cNvPr>
          <p:cNvPicPr/>
          <p:nvPr/>
        </p:nvPicPr>
        <p:blipFill>
          <a:blip r:embed="rId12"/>
          <a:srcRect l="17687" t="41295" r="23357" b="17461"/>
          <a:stretch/>
        </p:blipFill>
        <p:spPr>
          <a:xfrm>
            <a:off x="6172200" y="49528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13"/>
          </p:cNvPr>
          <p:cNvPicPr/>
          <p:nvPr/>
        </p:nvPicPr>
        <p:blipFill>
          <a:blip r:embed="rId14"/>
          <a:srcRect l="17687" t="41295" r="23357" b="17461"/>
          <a:stretch/>
        </p:blipFill>
        <p:spPr>
          <a:xfrm>
            <a:off x="5638680" y="55627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15"/>
          </p:cNvPr>
          <p:cNvPicPr/>
          <p:nvPr/>
        </p:nvPicPr>
        <p:blipFill>
          <a:blip r:embed="rId16"/>
          <a:srcRect l="17687" t="41295" r="23357" b="17461"/>
          <a:stretch/>
        </p:blipFill>
        <p:spPr>
          <a:xfrm>
            <a:off x="7391520" y="480060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7"/>
          </p:cNvPr>
          <p:cNvPicPr/>
          <p:nvPr/>
        </p:nvPicPr>
        <p:blipFill>
          <a:blip r:embed="rId18"/>
          <a:srcRect l="17687" t="41295" r="23357" b="17461"/>
          <a:stretch/>
        </p:blipFill>
        <p:spPr>
          <a:xfrm>
            <a:off x="6858000" y="55627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5 из 5">
            <a:hlinkClick r:id="rId19"/>
          </p:cNvPr>
          <p:cNvPicPr/>
          <p:nvPr/>
        </p:nvPicPr>
        <p:blipFill>
          <a:blip r:embed="rId20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4674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1">
            <a:lum contrast="-18000"/>
          </a:blip>
          <a:srcRect l="38605" t="16667" r="30035" b="47068"/>
          <a:stretch/>
        </p:blipFill>
        <p:spPr>
          <a:xfrm>
            <a:off x="4572000" y="1052640"/>
            <a:ext cx="2879640" cy="2520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2"/>
          <a:srcRect l="0" t="0" r="0" b="3255"/>
          <a:stretch/>
        </p:blipFill>
        <p:spPr>
          <a:xfrm>
            <a:off x="6516720" y="1413000"/>
            <a:ext cx="194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22639 -0.00416 E">
                                      <p:cBhvr>
                                        <p:cTn id="37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2049 0.0007 E">
                                      <p:cBhvr>
                                        <p:cTn id="37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75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339040" cy="6248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38280" y="3049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ДЕВЯ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271680" cy="219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17687" t="41295" r="23357" b="17461"/>
          <a:stretch/>
        </p:blipFill>
        <p:spPr>
          <a:xfrm>
            <a:off x="5486400" y="38098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6172200" y="44197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7086600" y="373392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7543800" y="44956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9"/>
          </p:cNvPr>
          <p:cNvPicPr/>
          <p:nvPr/>
        </p:nvPicPr>
        <p:blipFill>
          <a:blip r:embed="rId10"/>
          <a:srcRect l="17687" t="41295" r="23357" b="17461"/>
          <a:stretch/>
        </p:blipFill>
        <p:spPr>
          <a:xfrm>
            <a:off x="5105520" y="449568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11"/>
          </p:cNvPr>
          <p:cNvPicPr/>
          <p:nvPr/>
        </p:nvPicPr>
        <p:blipFill>
          <a:blip r:embed="rId12"/>
          <a:srcRect l="17687" t="41295" r="23357" b="17461"/>
          <a:stretch/>
        </p:blipFill>
        <p:spPr>
          <a:xfrm>
            <a:off x="5486400" y="518148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13"/>
          </p:cNvPr>
          <p:cNvPicPr/>
          <p:nvPr/>
        </p:nvPicPr>
        <p:blipFill>
          <a:blip r:embed="rId14"/>
          <a:srcRect l="17687" t="41295" r="23357" b="17461"/>
          <a:stretch/>
        </p:blipFill>
        <p:spPr>
          <a:xfrm>
            <a:off x="7010280" y="5029200"/>
            <a:ext cx="1219320" cy="852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15"/>
          </p:cNvPr>
          <p:cNvPicPr/>
          <p:nvPr/>
        </p:nvPicPr>
        <p:blipFill>
          <a:blip r:embed="rId16"/>
          <a:srcRect l="17687" t="41295" r="23357" b="17461"/>
          <a:stretch/>
        </p:blipFill>
        <p:spPr>
          <a:xfrm>
            <a:off x="6248520" y="571500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17"/>
          </p:cNvPr>
          <p:cNvPicPr/>
          <p:nvPr/>
        </p:nvPicPr>
        <p:blipFill>
          <a:blip r:embed="rId18"/>
          <a:srcRect l="17687" t="41295" r="23357" b="17461"/>
          <a:stretch/>
        </p:blipFill>
        <p:spPr>
          <a:xfrm>
            <a:off x="7391520" y="571500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Картинка 5 из 5">
            <a:hlinkClick r:id="rId19"/>
          </p:cNvPr>
          <p:cNvPicPr/>
          <p:nvPr/>
        </p:nvPicPr>
        <p:blipFill>
          <a:blip r:embed="rId20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6201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1">
            <a:lum contrast="-18000"/>
          </a:blip>
          <a:srcRect l="38605" t="16667" r="30035" b="47068"/>
          <a:stretch/>
        </p:blipFill>
        <p:spPr>
          <a:xfrm>
            <a:off x="4643280" y="1052640"/>
            <a:ext cx="2880000" cy="252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2"/>
          <a:srcRect l="0" t="0" r="6606" b="0"/>
          <a:stretch/>
        </p:blipFill>
        <p:spPr>
          <a:xfrm>
            <a:off x="6588000" y="1413000"/>
            <a:ext cx="2089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0.22639 0.00277 E">
                                      <p:cBhvr>
                                        <p:cTn id="389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-0.20868 -0.00046 E">
                                      <p:cBhvr>
                                        <p:cTn id="39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75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395280" y="304920"/>
            <a:ext cx="8367840" cy="6248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68360" y="26028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 В А Д Ц А Т 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3745080" cy="2519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144792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5 из 5"/>
          <p:cNvPicPr/>
          <p:nvPr/>
        </p:nvPicPr>
        <p:blipFill>
          <a:blip r:embed="rId5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Картинка 5 из 5"/>
          <p:cNvPicPr/>
          <p:nvPr/>
        </p:nvPicPr>
        <p:blipFill>
          <a:blip r:embed="rId6"/>
          <a:srcRect l="0" t="0" r="0" b="15957"/>
          <a:stretch/>
        </p:blipFill>
        <p:spPr>
          <a:xfrm>
            <a:off x="4724280" y="3276720"/>
            <a:ext cx="4191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8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0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75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1280" y="3429000"/>
            <a:ext cx="5905440" cy="2303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3429000"/>
            <a:ext cx="5905440" cy="230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3429000"/>
            <a:ext cx="5905440" cy="23036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1280" y="3428640"/>
            <a:ext cx="5905440" cy="230364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4581360"/>
            <a:ext cx="5759280" cy="115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899280" y="3069360"/>
            <a:ext cx="2376360" cy="295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684000" y="3428640"/>
            <a:ext cx="5832360" cy="1152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923280" y="3140280"/>
            <a:ext cx="2305080" cy="288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3429000"/>
            <a:ext cx="5905440" cy="2305080"/>
          </a:xfrm>
          <a:prstGeom prst="rtTriangl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539280" y="3357360"/>
            <a:ext cx="5977080" cy="2376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11280" y="3356640"/>
            <a:ext cx="5832360" cy="2376360"/>
          </a:xfrm>
          <a:prstGeom prst="rtTriangl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38920" y="3357720"/>
            <a:ext cx="5977080" cy="2376360"/>
          </a:xfrm>
          <a:prstGeom prst="rtTriangl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4856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447640" cy="2879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357800" y="981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08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77080" y="3716280"/>
            <a:ext cx="2087640" cy="2808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00320" y="1023840"/>
            <a:ext cx="167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 +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 + 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4720" y="1095480"/>
            <a:ext cx="154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 –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 – 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 – 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81280" y="3924360"/>
            <a:ext cx="223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8 – 3 +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8 – 2 +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8 – 1 +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9440" y="98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9440" y="148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944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0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3440" y="157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3440" y="206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89440" y="39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4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9440" y="486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 + 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4720" y="25653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 – 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3080" y="537372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8 – 0 + 1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89000"/>
            <a:ext cx="91440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189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2997360"/>
            <a:ext cx="914400" cy="9144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896000" cy="3527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58920" y="458136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Всем 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8" descr="http://s4.rimg.info/06bda9bd896c26e0cc2feaaaa2232d33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5589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http://s4.rimg.info/06bda9bd896c26e0cc2feaaaa2232d33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76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http://s4.rimg.info/06bda9bd896c26e0cc2feaaaa2232d33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6" descr="d2cb88548b80da1cbb645576ccc50fd8"/>
          <p:cNvPicPr/>
          <p:nvPr/>
        </p:nvPicPr>
        <p:blipFill>
          <a:blip r:embed="rId9"/>
          <a:stretch/>
        </p:blipFill>
        <p:spPr>
          <a:xfrm>
            <a:off x="8101080" y="3716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6" descr="d2cb88548b80da1cbb645576ccc50fd8"/>
          <p:cNvPicPr/>
          <p:nvPr/>
        </p:nvPicPr>
        <p:blipFill>
          <a:blip r:embed="rId10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http://s4.rimg.info/06bda9bd896c26e0cc2feaaaa2232d33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0" descr="http://s4.rimg.info/06bda9bd896c26e0cc2feaaaa2232d33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55640" y="5084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http://s4.rimg.info/06bda9bd896c26e0cc2feaaaa2232d33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55640" y="2997360"/>
            <a:ext cx="523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103640" cy="46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0391600">
            <a:off x="0" y="3860280"/>
            <a:ext cx="4248000" cy="2049480"/>
          </a:xfrm>
          <a:prstGeom prst="rightArrow">
            <a:avLst>
              <a:gd name="adj1" fmla="val 50000"/>
              <a:gd name="adj2" fmla="val 518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20325600">
            <a:off x="250560" y="4652640"/>
            <a:ext cx="361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98100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476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40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89000"/>
            <a:ext cx="576000" cy="576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26028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558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4653000"/>
            <a:ext cx="648000" cy="6969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5157720"/>
            <a:ext cx="792000" cy="698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6524640"/>
            <a:ext cx="21600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2"/>
          <a:stretch/>
        </p:blipFill>
        <p:spPr>
          <a:xfrm>
            <a:off x="2987640" y="1989000"/>
            <a:ext cx="565200" cy="5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d2cb88548b80da1cbb645576ccc50fd8"/>
          <p:cNvPicPr/>
          <p:nvPr/>
        </p:nvPicPr>
        <p:blipFill>
          <a:blip r:embed="rId3"/>
          <a:stretch/>
        </p:blipFill>
        <p:spPr>
          <a:xfrm>
            <a:off x="539640" y="6206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1042920" y="25653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5"/>
          <a:stretch/>
        </p:blipFill>
        <p:spPr>
          <a:xfrm>
            <a:off x="8388360" y="2781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3995640" y="544500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7"/>
          <a:stretch/>
        </p:blipFill>
        <p:spPr>
          <a:xfrm flipH="1" rot="10800000">
            <a:off x="6012000" y="5949720"/>
            <a:ext cx="523800" cy="50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8"/>
          <a:stretch/>
        </p:blipFill>
        <p:spPr>
          <a:xfrm>
            <a:off x="7596360" y="5661000"/>
            <a:ext cx="523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4000" y="2379600"/>
            <a:ext cx="36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звени-ка, др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Голосист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еремену ждут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оиграть, попрыгать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11640" y="1341360"/>
            <a:ext cx="4176720" cy="352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 rot="19685400">
            <a:off x="1042560" y="404640"/>
            <a:ext cx="1944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105696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1076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492360" y="907920"/>
            <a:ext cx="1587600" cy="134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692360" y="522936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0920" y="522936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26920" y="90792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156360" y="5084640"/>
            <a:ext cx="136692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236000" y="476280"/>
            <a:ext cx="965160" cy="190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26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4210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640" y="249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2656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227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6360" y="2541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44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64000" y="2133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2133720"/>
            <a:ext cx="287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720" y="2541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42100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0000" y="24922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9640" y="39276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76720" y="227664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234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4575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42920" y="443700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443700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4508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4920" y="39466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80000" y="443700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43700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8160" y="4502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2160" y="465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4720" y="392760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76720" y="4437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443700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4581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508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4508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242100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242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2421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09480" y="26028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гра «Лучший счет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936720" cy="925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63640" cy="99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960480" cy="100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268360" y="530064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451640" y="836640"/>
            <a:ext cx="936720" cy="100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1440" y="31773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 – 4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596360" y="5516640"/>
            <a:ext cx="936360" cy="100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6360" y="2817000"/>
            <a:ext cx="208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 –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720" y="440856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+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080" y="31114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 +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62040" y="433548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 –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508720" y="4941720"/>
            <a:ext cx="863640" cy="99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907920"/>
            <a:ext cx="863640" cy="99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33800" y="429264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9 – 4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1253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5157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551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10526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566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162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1916280"/>
            <a:ext cx="3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http://s4.rimg.info/06bda9bd896c26e0cc2feaaaa2232d33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170028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d2cb88548b80da1cbb645576ccc50fd8"/>
          <p:cNvPicPr/>
          <p:nvPr/>
        </p:nvPicPr>
        <p:blipFill>
          <a:blip r:embed="rId11"/>
          <a:stretch/>
        </p:blipFill>
        <p:spPr>
          <a:xfrm>
            <a:off x="1332000" y="23493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http://s4.rimg.info/06bda9bd896c26e0cc2feaaaa2232d33.gif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0920" y="36450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d2cb88548b80da1cbb645576ccc50fd8"/>
          <p:cNvPicPr/>
          <p:nvPr/>
        </p:nvPicPr>
        <p:blipFill>
          <a:blip r:embed="rId14"/>
          <a:stretch/>
        </p:blipFill>
        <p:spPr>
          <a:xfrm>
            <a:off x="539640" y="55166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http://s4.rimg.info/06bda9bd896c26e0cc2feaaaa2232d33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187280" y="609300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http://s4.rimg.info/06bda9bd896c26e0cc2feaaaa2232d33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427640" y="2349360"/>
            <a:ext cx="57132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d2cb88548b80da1cbb645576ccc50fd8"/>
          <p:cNvPicPr/>
          <p:nvPr/>
        </p:nvPicPr>
        <p:blipFill>
          <a:blip r:embed="rId19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d2cb88548b80da1cbb645576ccc50fd8"/>
          <p:cNvPicPr/>
          <p:nvPr/>
        </p:nvPicPr>
        <p:blipFill>
          <a:blip r:embed="rId20"/>
          <a:stretch/>
        </p:blipFill>
        <p:spPr>
          <a:xfrm>
            <a:off x="1835280" y="2602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http://s4.rimg.info/06bda9bd896c26e0cc2feaaaa2232d33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164360" y="2133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d2cb88548b80da1cbb645576ccc50fd8"/>
          <p:cNvPicPr/>
          <p:nvPr/>
        </p:nvPicPr>
        <p:blipFill>
          <a:blip r:embed="rId23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6381 L -0.21267 0.28416 E">
                                      <p:cBhvr>
                                        <p:cTn id="6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04162 L -0.22448 0.28301 E">
                                      <p:cBhvr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2035 L -0.35434 -0.09364 E">
                                      <p:cBhvr>
                                        <p:cTn id="7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21387E-006 L -0.36232 -0.10497 E">
                                      <p:cBhvr>
                                        <p:cTn id="7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4 0.03214 L 0.48837 0.34682 E">
                                      <p:cBhvr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024 L 0.49202 0.3563 E">
                                      <p:cBhvr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-0.02081 L 0.31093 -0.16763 E"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8.67052E-007 L 0.32292 -0.1889 E">
                                      <p:cBhvr>
                                        <p:cTn id="8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7353 L 0.07482 0.29388 E">
                                      <p:cBhvr>
                                        <p:cTn id="8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27746E-006 L 0.07604 0.29364 E">
                                      <p:cBhvr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7329 L 0.07466 -0.22011 E">
                                      <p:cBhvr>
                                        <p:cTn id="9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3145 L 0.06666 -0.19931 E">
                                      <p:cBhvr>
                                        <p:cTn id="9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097440" cy="1716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43400" y="907920"/>
            <a:ext cx="4405320" cy="338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4437000"/>
            <a:ext cx="70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Задач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Посылка весила 8 кг, а бандероль 3 кг. На сколько килограммов посылка тяжелее бандеро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587920"/>
            <a:ext cx="24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8 – 3 = 5 ( кг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560" y="609300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Ответ: на 5 кг тяже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1371600" cy="1325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0560" y="279360"/>
            <a:ext cx="78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«Первоклассники, запомните состав чисел до 20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20200" y="56844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Дядя Фёд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04920"/>
            <a:ext cx="8370720" cy="6310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752480" y="-609480"/>
            <a:ext cx="6336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9999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Bookman Old Style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9999"/>
                  </a:gs>
                  <a:gs pos="100000">
                    <a:srgbClr val="ff0000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9999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Bookman Old Style"/>
              </a:rPr>
              <a:t>ЧИСЛ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9999"/>
                  </a:gs>
                  <a:gs pos="100000">
                    <a:srgbClr val="ff0000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9999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Bookman Old Style"/>
              </a:rPr>
              <a:t>ВТОРОГО ДЕСЯТ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9999"/>
                  </a:gs>
                  <a:gs pos="100000">
                    <a:srgbClr val="ff0000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99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2200" y="25146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1000" y="25146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2080" y="25146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99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9200" y="38098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11680" y="38098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6800" y="38098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cc"/>
                </a:solidFill>
                <a:latin typeface="Times New Roman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0292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6600"/>
                </a:solidFill>
                <a:latin typeface="Times New Roman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5880" y="5029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31000" y="5029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a50021"/>
                </a:solidFill>
                <a:latin typeface="Times New Roman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5760" y="5029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990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5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395280" y="333360"/>
            <a:ext cx="8424720" cy="6248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529080" cy="2146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6781680" y="4495680"/>
            <a:ext cx="1295640" cy="90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5 из 5">
            <a:hlinkClick r:id="rId5"/>
          </p:cNvPr>
          <p:cNvPicPr/>
          <p:nvPr/>
        </p:nvPicPr>
        <p:blipFill>
          <a:blip r:embed="rId6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201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049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ОД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>
            <a:lum contrast="-18000"/>
          </a:blip>
          <a:srcRect l="40957" t="16667" r="30035" b="47068"/>
          <a:stretch/>
        </p:blipFill>
        <p:spPr>
          <a:xfrm>
            <a:off x="4788000" y="1052640"/>
            <a:ext cx="2663640" cy="25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rcRect l="0" t="3397" r="0" b="6369"/>
          <a:stretch/>
        </p:blipFill>
        <p:spPr>
          <a:xfrm>
            <a:off x="6659640" y="1413000"/>
            <a:ext cx="16761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19653 -0.00416 E">
                                      <p:cBhvr>
                                        <p:cTn id="23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7407E-006 L -0.24115 0.00186 E">
                                      <p:cBhvr>
                                        <p:cTn id="23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09680" y="333360"/>
            <a:ext cx="839772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35240" y="304920"/>
            <a:ext cx="54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ДВ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89440" cy="2146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1600" y="1981080"/>
            <a:ext cx="78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7107120" y="4495680"/>
            <a:ext cx="1427400" cy="906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5735520" y="4495680"/>
            <a:ext cx="1427400" cy="906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Картинка 5 из 5">
            <a:hlinkClick r:id="rId7"/>
          </p:cNvPr>
          <p:cNvPicPr/>
          <p:nvPr/>
        </p:nvPicPr>
        <p:blipFill>
          <a:blip r:embed="rId8"/>
          <a:srcRect l="0" t="0" r="0" b="15957"/>
          <a:stretch/>
        </p:blipFill>
        <p:spPr>
          <a:xfrm>
            <a:off x="485640" y="3429000"/>
            <a:ext cx="461988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4026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9">
            <a:lum contrast="-18000"/>
          </a:blip>
          <a:srcRect l="38605" t="16667" r="30035" b="47068"/>
          <a:stretch/>
        </p:blipFill>
        <p:spPr>
          <a:xfrm>
            <a:off x="4349880" y="1052640"/>
            <a:ext cx="3173400" cy="2520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6278400" y="1600200"/>
            <a:ext cx="214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0.24028 0.00115 E">
                                      <p:cBhvr>
                                        <p:cTn id="25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20434 -0.00093 E">
                                      <p:cBhvr>
                                        <p:cTn id="25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>
            <a:lum contrast="-18000"/>
          </a:blip>
          <a:srcRect l="964" t="6318" r="16048" b="3780"/>
          <a:stretch/>
        </p:blipFill>
        <p:spPr>
          <a:xfrm>
            <a:off x="468360" y="333360"/>
            <a:ext cx="8339040" cy="6248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71800" y="3049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ТР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3384720" cy="2146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12600" y="1981080"/>
            <a:ext cx="78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3"/>
          </p:cNvPr>
          <p:cNvPicPr/>
          <p:nvPr/>
        </p:nvPicPr>
        <p:blipFill>
          <a:blip r:embed="rId4"/>
          <a:srcRect l="17687" t="41295" r="23357" b="17461"/>
          <a:stretch/>
        </p:blipFill>
        <p:spPr>
          <a:xfrm>
            <a:off x="5486400" y="4038480"/>
            <a:ext cx="1295280" cy="906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rcRect l="17687" t="41295" r="23357" b="17461"/>
          <a:stretch/>
        </p:blipFill>
        <p:spPr>
          <a:xfrm>
            <a:off x="6477120" y="4724280"/>
            <a:ext cx="1295280" cy="906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7"/>
          </p:cNvPr>
          <p:cNvPicPr/>
          <p:nvPr/>
        </p:nvPicPr>
        <p:blipFill>
          <a:blip r:embed="rId8"/>
          <a:srcRect l="17687" t="41295" r="23357" b="17461"/>
          <a:stretch/>
        </p:blipFill>
        <p:spPr>
          <a:xfrm>
            <a:off x="7467480" y="5486400"/>
            <a:ext cx="1295640" cy="906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Картинка 5 из 5">
            <a:hlinkClick r:id="rId9"/>
          </p:cNvPr>
          <p:cNvPicPr/>
          <p:nvPr/>
        </p:nvPicPr>
        <p:blipFill>
          <a:blip r:embed="rId10"/>
          <a:srcRect l="0" t="0" r="0" b="15957"/>
          <a:stretch/>
        </p:blipFill>
        <p:spPr>
          <a:xfrm>
            <a:off x="914400" y="3429000"/>
            <a:ext cx="4191120" cy="2913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>
            <a:lum contrast="-18000"/>
          </a:blip>
          <a:srcRect l="38605" t="16667" r="30035" b="47068"/>
          <a:stretch/>
        </p:blipFill>
        <p:spPr>
          <a:xfrm>
            <a:off x="4643280" y="1052640"/>
            <a:ext cx="2880000" cy="25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6400800" y="1447920"/>
            <a:ext cx="19400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55112E-017 L 0.22448 0.00093 E">
                                      <p:cBhvr>
                                        <p:cTn id="27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-0.19584 -0.00532 E">
                                      <p:cBhvr>
                                        <p:cTn id="27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55:09Z</dcterms:created>
  <dc:creator>Лавринова</dc:creator>
  <dc:description/>
  <dc:language>en-US</dc:language>
  <cp:lastModifiedBy>Лавринова</cp:lastModifiedBy>
  <dcterms:modified xsi:type="dcterms:W3CDTF">2010-03-01T14:03:56Z</dcterms:modified>
  <cp:revision>6</cp:revision>
  <dc:subject/>
  <dc:title>Слайд 1</dc:title>
</cp:coreProperties>
</file>