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CD7-715B-4316-9836-68A05BB2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C55-1629-40E1-B6E3-D5FE9DDB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89C-D9E6-4D96-9330-B073BD0F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C98-2885-430D-82FE-8C6DCC38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6BB-BE5F-418F-AEA7-A94F3AB0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8836-A5D6-41DA-8721-29168A09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319-E2D1-4F99-BB27-8D841778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1A8D-2720-4F4E-A4D5-37927873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EDC-40BE-4405-BF0A-3C97D1B7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64A3-4C5B-48D8-9EFE-398827BB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3875-D4B4-45BC-AB04-1482DEA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A73-FFBA-4ADE-A4EA-5DC1621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2824-9E5D-48A8-883C-BED6918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12E0-703F-4421-AB57-3C2F0CCA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372-AE93-44FB-B023-EEAF9697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D591-087B-49EF-BE1B-74FF386A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E5D-41B2-4CAA-B207-E31E494E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AAB-527D-41C3-802A-F518D144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3B9-CCCD-4BC7-BA2E-729A8475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EA9-D177-48C1-A705-47ED59D6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67C-298D-4160-8BAD-43189032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A04-08CD-424F-9689-6B1BFEB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474-BC82-40FF-851E-4441FFA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292-DCA8-4F3D-B2E5-D68DD891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7FD3-63E1-4A9A-81F8-FE1F64D28D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7FD-34B8-4281-B72C-0840306FBBB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«ОСОБЕННОСТИ ПОДГОТОВКИ ШКОЛЬНИКОВ </a:t>
            </a:r>
            <a:br>
              <a:rPr sz="3600"/>
            </a:b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К ЕГЭ ПО ИНФОРМАТИКЕ»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У «Мочиль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итина О.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Методические рекомендации по подготовке школьников к ЕГЭ по информатике и ИКТ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ть уровень соответствия оценки ученика требованиям стандар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ярно проводить проверочные работы по отдельным темам и по всем темам вме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ение тренировочных тестов в формате ЕГ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пробное тестирование учащих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дборе задач и заданий учитывать особенности тестовых формулиро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Типы заданий, вызывающие наибольшее число ошибок по теме «Кодирование и измерение информации»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, проверяющее умение выполнять арифметические операции в двоичной и кратных системах счис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, проверяющее умение подсчитывать информационный объем сообщения путем последовательного определения количества бит, необходимого для записи одного сигнала, умножения полученного числа на число записываемых сигналов, а затем перевод результата в требуемые единицы (байт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на знание математических основ записи чисел в позиционных системах счисления В1, которое предполагает применение знаний в новой ситу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на перечисление не всех чисел, отвечающих заданным требования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на определение пропускной способности канала связ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Примерный план работы по подготовке к ЕГЭ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яб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бор заданий по теме «Информация и ее кодирование» А2, А3, А11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 В3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бор заданий по теме «Алгоритмизация и программирование» А12, А18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, В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екабрь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бор заданий по теме «Основы логики» А7, А8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бор задания по теме «Моделирование и компьютерный эксперимент» А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Январь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р задания по теме «Программные средства информационных и коммуникационных технологий» А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ные алгоритмы для отработки навыков по решению задач типа С1, С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р задания по теме «Технология программирования» С1, С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ирование учащихся по отработанным заданиям частей А и В за прошедший пери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Февраль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р задания по теме «Технология обработки графической и звуковой информации» А15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ехнология обработки информации в электронных таблицах» А16, А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ные алгоритмы для отработки навыков по решению задач типа С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р задания по теме «Технология программирования» С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ирование учащихся по отработанным заданиям частей А, В, С за прошедший пери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рт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р задания по теме «Технология хранения, поиска и сортировки информации в БД» А1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елекоммуникационные технологии» В9, В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ные алгоритмы для отработки навыков по решению задач типа С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р задания по теме «Технология программирования» С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ирование учащихся по отработанным заданиям частей А, В, С за прошедший пери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Апрель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ление навыков по теме «Технология программировани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тестирование учащихся по отработанным заданиям частей А, В, С за прошедши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ческая помощь учащимся в самостоятельной работе по обобщающему повтор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й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ление навыков по теме «Технология программировани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тестирование учащихся по отработанным заданиям частей А, В, С за прошедши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ческая помощь учащимся в самостоятельной работе по обобщающему повтор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юнь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результатов ЕГЭ по информа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ъект исследов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ка обучения информатике и информационным коммуникационным технологиям в средней школ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342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дмет исслед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68360" y="4221000"/>
            <a:ext cx="822960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сти подготовки школьников к единому государственному экзамену по информа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 течение го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проверочных тестовых работ (может быть в форме пятиминуток в начале каждого уро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банка учебно-методической информации по ЕГЭ (КИМы, тесты, справочники, методические пособия), постоянное пополнение данного информационного ба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116000" y="2852640"/>
            <a:ext cx="748836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Актуальность исследов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ствование и модернизация образов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номерная и целенаправленная подготовка школьников к ЕГ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ка учащихся к реальной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исследов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методические рекомендации по организации подготовки  школьников к единому государственному экзаме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дачи исследов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ть характеристику ЕГЭ по информатике и И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сти анализ содержания государственного образовательного стандарта, программ, учебников и единого государственного экзамена по информати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место ЕГЭ в системе контроля знаний и умений учащихся по информати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244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явить и собрать группу. На первом занятии необходимо провести объяснение специфики технологии проведения ЕГЭ по информати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55640" y="620640"/>
            <a:ext cx="741672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Методические рекомендации по подготовке школьников к ЕГЭ по информатике и И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Методические рекомендации по подготовке школьников к ЕГЭ по информатике и ИКТ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 в 1 или 2 недели проводится занятие для повторения теоретических вопросов и решения тестовых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Методические рекомендации по подготовке школьников к ЕГЭ по информатике и ИКТ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еский тренинг по части «С» экзам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Методические рекомендации по подготовке школьников к ЕГЭ по информатике и ИКТ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284640"/>
            <a:ext cx="822960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овать в кабинете стенд “Готовимся к ЕГЭ по информатике и ИКТ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8:00:46Z</dcterms:created>
  <dc:creator>Admin</dc:creator>
  <dc:description/>
  <dc:language>en-US</dc:language>
  <cp:lastModifiedBy>Ольга</cp:lastModifiedBy>
  <dcterms:modified xsi:type="dcterms:W3CDTF">2013-09-20T16:05:40Z</dcterms:modified>
  <cp:revision>5</cp:revision>
  <dc:subject/>
  <dc:title>«ОСОБЕННОСТИ ПОДГОТОВКИ ШКОЛЬНИКОВ  К ЕГЭ ПО ИНФОРМАТИКЕ»</dc:title>
</cp:coreProperties>
</file>