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lick.wav" ContentType="audio/x-wav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11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6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5B01-E1F7-4D49-8622-364989DB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C0F6-E203-42AF-876A-52E064E7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F73A-AC1B-4A12-AF45-F835846A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E1D1-C403-41F4-B971-3EBBF9AF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3DFF-9046-48DF-8134-D0F2A3BB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25F8-9F23-45E8-8377-6DEDA14F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4306-917D-408E-AED0-06144A1C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A486-16AF-4778-BF4F-57ECF63C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D3C9-373B-4973-85AF-79780AFD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09C2-2643-4DF3-AEA6-6D12F4DE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20C9-F2CB-4740-86B5-2DB306AA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112C-3E32-4459-AC1E-4EB94B21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6E5E-EF2B-4AD2-86A4-B92F382567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dic.academic.ru/pictures/enc_literature/i_285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БОУ «СРЕДНЯЯ ОБЩЕОБРАЗОВАТЕЛЬНАЯ ШКОЛА№18»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.о. Балащиха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157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 – иг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математ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Повторение и закрепление пройденного материа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«В»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К «Школа Росс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428920" y="578628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 Кияновская Наталья Михай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1" descr=""/>
          <p:cNvPicPr/>
          <p:nvPr/>
        </p:nvPicPr>
        <p:blipFill>
          <a:blip r:embed="rId1"/>
          <a:stretch/>
        </p:blipFill>
        <p:spPr>
          <a:xfrm>
            <a:off x="214200" y="1357200"/>
            <a:ext cx="2857680" cy="4629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8" descr=""/>
          <p:cNvPicPr/>
          <p:nvPr/>
        </p:nvPicPr>
        <p:blipFill>
          <a:blip r:embed="rId2"/>
          <a:stretch/>
        </p:blipFill>
        <p:spPr>
          <a:xfrm>
            <a:off x="3214800" y="1413000"/>
            <a:ext cx="2857320" cy="459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7" descr=""/>
          <p:cNvPicPr/>
          <p:nvPr/>
        </p:nvPicPr>
        <p:blipFill>
          <a:blip r:embed="rId3"/>
          <a:stretch/>
        </p:blipFill>
        <p:spPr>
          <a:xfrm>
            <a:off x="6286680" y="1428840"/>
            <a:ext cx="2571480" cy="45529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32"/>
          <p:cNvSpPr/>
          <p:nvPr/>
        </p:nvSpPr>
        <p:spPr>
          <a:xfrm>
            <a:off x="1357200" y="2500200"/>
            <a:ext cx="857520" cy="771480"/>
          </a:xfrm>
          <a:custGeom>
            <a:avLst/>
            <a:gdLst>
              <a:gd name="textAreaLeft" fmla="*/ 322560 w 857520"/>
              <a:gd name="textAreaRight" fmla="*/ 534960 w 857520"/>
              <a:gd name="textAreaTop" fmla="*/ 290160 h 771480"/>
              <a:gd name="textAreaBottom" fmla="*/ 481320 h 771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9"/>
          <p:cNvSpPr/>
          <p:nvPr/>
        </p:nvSpPr>
        <p:spPr>
          <a:xfrm rot="1047600">
            <a:off x="4608000" y="1630080"/>
            <a:ext cx="1028880" cy="831600"/>
          </a:xfrm>
          <a:custGeom>
            <a:avLst/>
            <a:gdLst>
              <a:gd name="textAreaLeft" fmla="*/ 387000 w 1028880"/>
              <a:gd name="textAreaRight" fmla="*/ 641880 w 1028880"/>
              <a:gd name="textAreaTop" fmla="*/ 312840 h 831600"/>
              <a:gd name="textAreaBottom" fmla="*/ 518760 h 83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8"/>
          <p:cNvSpPr/>
          <p:nvPr/>
        </p:nvSpPr>
        <p:spPr>
          <a:xfrm rot="1869600">
            <a:off x="7348320" y="1965240"/>
            <a:ext cx="911160" cy="771480"/>
          </a:xfrm>
          <a:custGeom>
            <a:avLst/>
            <a:gdLst>
              <a:gd name="textAreaLeft" fmla="*/ 342720 w 911160"/>
              <a:gd name="textAreaRight" fmla="*/ 568440 w 911160"/>
              <a:gd name="textAreaTop" fmla="*/ 290160 h 771480"/>
              <a:gd name="textAreaBottom" fmla="*/ 481320 h 771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Motion origin="layout" path="M -0.00191 -0.00463 L 0.0007 -0.04189 L 0.00521 -0.0699 L 0.01424 -0.09305 L 0.02396 -0.11064 L 0.03282 -0.11944 L 0.04462 -0.12245 L 0.05764 -0.12245 L 0.06754 -0.12245 L 0.07743 -0.11527 L 0.08611 -0.10231 L 0.09497 -0.08055 L 0.10191 -0.05902 L 0.10695 -0.04352 L 0.10972 -0.01782 L 0.10695 0.0125 L 0.10382 0.03658 L -0.00243 0.37315 L 0.02518 0.33311 L 0.0408 0.32014 L 0.05174 0.32176 L 0.07413 0.37315 L 0.08941 0.35648 L 0.10972 0.32014 E">
                                      <p:cBhvr>
                                        <p:cTn id="49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Motion origin="layout" path="M 8.33333E-007 -4.07407E-006 L -0.05903 0.27871 L 0.0434 0.27871 E">
                                      <p:cBhvr>
                                        <p:cTn id="63" dur="5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500"/>
                            </p:stCondLst>
                            <p:childTnLst>
                              <p:par>
                                <p:cTn id="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Motion origin="layout" path="M 0.0658 0.10718 L -0.00503 0.50602 E">
                                      <p:cBhvr>
                                        <p:cTn id="66" dur="5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Motion origin="layout" path="M 2.77778E-006 -4.81481E-006 L 0.00781 -0.02916 L 0.01562 -0.05185 L 0.03264 -0.06967 L 0.04132 -0.07546 L 0.05451 -0.06967 L 0.06718 -0.05393 L 0.07708 -0.02916 L 0.08194 -0.00648 L 0.08298 0.01852 L 0.08437 0.03588 L 0.08194 0.05394 L 0.08003 0.07454 L 0.07604 0.10116 L 0.06927 0.11899 L 0.0592 0.13704 L 0.04531 0.15047 L 0.03455 0.15301 L 0.02569 0.15301 L 0.01771 0.15301 L 0.00694 0.15301 L -0.00504 0.15741 L -0.01597 0.17315 L -0.02483 0.18866 L -0.03368 0.21343 L -0.04236 0.26042 L -0.04514 0.29931 L -0.04514 0.32593 L -0.04063 0.36227 L -0.03472 0.3845 L -0.0257 0.4044 L -0.01268 0.4294 C -0.00018 0.43635 -0.00278 0.44561 2.77778E-006 0.43149 L 0.01267 0.43588 L 0.02569 0.41783 L 0.04132 0.39769 L 0.04635 0.38218 L 0.05451 0.35487 L 0.06128 0.31922 L 0.06423 0.28519 L 0.06423 0.25649 L 0.06232 0.22894 L 0.05538 0.20255 L 0.0493 0.18403 L 0.04045 0.16644 L 0.02968 0.15047 L 0.01875 0.14144 L 0.00694 0.11899 L 0.00191 0.09676 L -0.004 0.07454 L -0.004 0.05625 L -0.00295 0.01551 E">
                                      <p:cBhvr>
                                        <p:cTn id="80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Verdana"/>
              </a:rPr>
              <a:t>Арифметически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http://im2-tub-ru.yandex.net/i?id=205050995-33-72"/>
          <p:cNvPicPr/>
          <p:nvPr/>
        </p:nvPicPr>
        <p:blipFill>
          <a:blip r:embed="rId1"/>
          <a:stretch/>
        </p:blipFill>
        <p:spPr>
          <a:xfrm>
            <a:off x="155520" y="1785960"/>
            <a:ext cx="83455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0" y="27720"/>
            <a:ext cx="9144000" cy="55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  <a:ea typeface="Times New Roman"/>
              </a:rPr>
              <a:t>1.Первый множитель   5,  второй множитель 2, найдите произвед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6bcf"/>
                </a:solidFill>
                <a:latin typeface="Arial"/>
                <a:ea typeface="Times New Roman"/>
              </a:rPr>
              <a:t>2.Из числа 80  вычесть сумму чисел 6 и 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c8c93"/>
                </a:solidFill>
                <a:latin typeface="Arial"/>
                <a:ea typeface="Times New Roman"/>
              </a:rPr>
              <a:t>3.По 2 взять  3 раза;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Arial"/>
                <a:ea typeface="Times New Roman"/>
              </a:rPr>
              <a:t>4.Найти сумму чисел 65 и 7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5.Найти произведение чисел 56 и 0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Verdana"/>
              </a:rPr>
              <a:t>Работай по учебнику </a:t>
            </a:r>
            <a:br>
              <a:rPr sz="4400"/>
            </a:br>
            <a:r>
              <a:rPr b="1" i="1" lang="ru-RU" sz="4400" spc="-1" strike="noStrike">
                <a:solidFill>
                  <a:srgbClr val="00b0f0"/>
                </a:solidFill>
                <a:latin typeface="Verdana"/>
              </a:rPr>
              <a:t>стр. 56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http://im2-tub-ru.yandex.net/i?id=205050995-33-72"/>
          <p:cNvPicPr/>
          <p:nvPr/>
        </p:nvPicPr>
        <p:blipFill>
          <a:blip r:embed="rId1"/>
          <a:stretch/>
        </p:blipFill>
        <p:spPr>
          <a:xfrm>
            <a:off x="155520" y="1785960"/>
            <a:ext cx="83455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Verdana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://im2-tub-ru.yandex.net/i?id=205050995-33-72"/>
          <p:cNvPicPr/>
          <p:nvPr/>
        </p:nvPicPr>
        <p:blipFill>
          <a:blip r:embed="rId1"/>
          <a:stretch/>
        </p:blipFill>
        <p:spPr>
          <a:xfrm>
            <a:off x="571680" y="1785960"/>
            <a:ext cx="8572320" cy="23875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0" y="41529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Говорит цветку цвето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ними-ка свой лист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Выйди на дорожку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Да, притопни ножк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Verdana"/>
              </a:rPr>
              <a:t>Отгадай сл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://im2-tub-ru.yandex.net/i?id=205050995-33-72"/>
          <p:cNvPicPr/>
          <p:nvPr/>
        </p:nvPicPr>
        <p:blipFill>
          <a:blip r:embed="rId1"/>
          <a:stretch/>
        </p:blipFill>
        <p:spPr>
          <a:xfrm>
            <a:off x="155520" y="1785960"/>
            <a:ext cx="83455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Решите урав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http://im2-tub-ru.yandex.net/i?id=205050995-33-72"/>
          <p:cNvPicPr/>
          <p:nvPr/>
        </p:nvPicPr>
        <p:blipFill>
          <a:blip r:embed="rId1"/>
          <a:stretch/>
        </p:blipFill>
        <p:spPr>
          <a:xfrm>
            <a:off x="357120" y="1571760"/>
            <a:ext cx="8429760" cy="26017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"/>
          <p:cNvSpPr/>
          <p:nvPr/>
        </p:nvSpPr>
        <p:spPr>
          <a:xfrm>
            <a:off x="0" y="3977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  <a:ea typeface="Times New Roman"/>
              </a:rPr>
              <a:t>Х + 12 = 20            Х – 7 =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Verdana"/>
              </a:rPr>
              <a:t>Геоме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http://im2-tub-ru.yandex.net/i?id=205050995-33-72"/>
          <p:cNvPicPr/>
          <p:nvPr/>
        </p:nvPicPr>
        <p:blipFill>
          <a:blip r:embed="rId1"/>
          <a:stretch/>
        </p:blipFill>
        <p:spPr>
          <a:xfrm>
            <a:off x="155520" y="1785960"/>
            <a:ext cx="83455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Безымянный"/>
          <p:cNvPicPr/>
          <p:nvPr/>
        </p:nvPicPr>
        <p:blipFill>
          <a:blip r:embed="rId1"/>
          <a:stretch/>
        </p:blipFill>
        <p:spPr>
          <a:xfrm>
            <a:off x="857160" y="2000160"/>
            <a:ext cx="1809720" cy="1228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Безымянный3"/>
          <p:cNvPicPr/>
          <p:nvPr/>
        </p:nvPicPr>
        <p:blipFill>
          <a:blip r:embed="rId2"/>
          <a:stretch/>
        </p:blipFill>
        <p:spPr>
          <a:xfrm>
            <a:off x="1857240" y="4572000"/>
            <a:ext cx="1952640" cy="228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Безымянный1"/>
          <p:cNvPicPr/>
          <p:nvPr/>
        </p:nvPicPr>
        <p:blipFill>
          <a:blip r:embed="rId3"/>
          <a:stretch/>
        </p:blipFill>
        <p:spPr>
          <a:xfrm>
            <a:off x="4429080" y="3929040"/>
            <a:ext cx="2357640" cy="2428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" descr="Безымянный2"/>
          <p:cNvPicPr/>
          <p:nvPr/>
        </p:nvPicPr>
        <p:blipFill>
          <a:blip r:embed="rId4"/>
          <a:stretch/>
        </p:blipFill>
        <p:spPr>
          <a:xfrm>
            <a:off x="6286680" y="1857240"/>
            <a:ext cx="2643120" cy="18716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603320" y="154800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896560" y="5234400"/>
            <a:ext cx="380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058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Заливистый школьный зво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Позвал опять нас на 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Будем сегодня задачи решать,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Будем складывать и выч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Будьте все вниматель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А еще старатель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www.cartoonclipartworld.com/wedding/images/wedding_bells_01.gif"/>
          <p:cNvPicPr/>
          <p:nvPr/>
        </p:nvPicPr>
        <p:blipFill>
          <a:blip r:embed="rId1"/>
          <a:stretch/>
        </p:blipFill>
        <p:spPr>
          <a:xfrm>
            <a:off x="3929040" y="3786120"/>
            <a:ext cx="5214960" cy="278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cs9820.vkontakte.ru/u5546309/-7/x_18c850a4.jpg"/>
          <p:cNvPicPr/>
          <p:nvPr/>
        </p:nvPicPr>
        <p:blipFill>
          <a:blip r:embed="rId2"/>
          <a:stretch/>
        </p:blipFill>
        <p:spPr>
          <a:xfrm>
            <a:off x="63360" y="-136440"/>
            <a:ext cx="379440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1214280" y="2357280"/>
            <a:ext cx="52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6" descr="уч.png"/>
          <p:cNvPicPr/>
          <p:nvPr/>
        </p:nvPicPr>
        <p:blipFill>
          <a:blip r:embed="rId1"/>
          <a:stretch/>
        </p:blipFill>
        <p:spPr>
          <a:xfrm>
            <a:off x="6286680" y="1477800"/>
            <a:ext cx="1928520" cy="2003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cc"/>
                </a:solidFill>
                <a:latin typeface="Monotype Corsiva"/>
              </a:rPr>
              <a:t>Умницы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одержимое 2"/>
          <p:cNvSpPr/>
          <p:nvPr/>
        </p:nvSpPr>
        <p:spPr>
          <a:xfrm>
            <a:off x="500040" y="3357720"/>
            <a:ext cx="82296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Спасибо  за работ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исок использованной литера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йлова З.А. Игровые занимательные задачи для школьников. «Просвещение» Москва 1990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ткина Н.И. Материалы к урокам математики. «Просвещение» Москва 1980г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Валентин Катаев </a:t>
            </a:r>
            <a:br>
              <a:rPr sz="4400"/>
            </a:br>
            <a:r>
              <a:rPr b="1" i="1" lang="ru-RU" sz="4400" spc="-1" strike="noStrike">
                <a:solidFill>
                  <a:srgbClr val="a7abf7"/>
                </a:solidFill>
                <a:latin typeface="Arial"/>
              </a:rPr>
              <a:t>«Цветик-семицвети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www.kupi-v-seti.ru/published/publicdata/KUPVSETSHOP/attachments/SC/products_pictures/LK_Tsvetik_semitsvetik.jpg"/>
          <p:cNvPicPr/>
          <p:nvPr/>
        </p:nvPicPr>
        <p:blipFill>
          <a:blip r:embed="rId1"/>
          <a:stretch/>
        </p:blipFill>
        <p:spPr>
          <a:xfrm>
            <a:off x="63360" y="1428840"/>
            <a:ext cx="2936880" cy="5286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Картинка 13 из 110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57920" y="1643040"/>
            <a:ext cx="3071880" cy="5214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alexgetti.narod.ru/imag502.jpg"/>
          <p:cNvPicPr/>
          <p:nvPr/>
        </p:nvPicPr>
        <p:blipFill>
          <a:blip r:embed="rId4"/>
          <a:stretch/>
        </p:blipFill>
        <p:spPr>
          <a:xfrm>
            <a:off x="2928960" y="2214720"/>
            <a:ext cx="2857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im3-tub-ru.yandex.net/i?id=272039687-69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Verdana"/>
              </a:rPr>
              <a:t>Устный счё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im2-tub-ru.yandex.net/i?id=205050995-33-72"/>
          <p:cNvPicPr/>
          <p:nvPr/>
        </p:nvPicPr>
        <p:blipFill>
          <a:blip r:embed="rId1"/>
          <a:stretch/>
        </p:blipFill>
        <p:spPr>
          <a:xfrm>
            <a:off x="155520" y="1785960"/>
            <a:ext cx="83455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5589360"/>
            <a:ext cx="40402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зебра"/>
          <p:cNvPicPr/>
          <p:nvPr/>
        </p:nvPicPr>
        <p:blipFill>
          <a:blip r:embed="rId1"/>
          <a:stretch/>
        </p:blipFill>
        <p:spPr>
          <a:xfrm>
            <a:off x="250920" y="1700280"/>
            <a:ext cx="4392360" cy="3432240"/>
          </a:xfrm>
          <a:prstGeom prst="rect">
            <a:avLst/>
          </a:prstGeom>
          <a:ln w="0">
            <a:noFill/>
          </a:ln>
        </p:spPr>
      </p:pic>
      <p:sp>
        <p:nvSpPr>
          <p:cNvPr id="59" name="WordArt 5"/>
          <p:cNvSpPr txBox="1"/>
          <p:nvPr/>
        </p:nvSpPr>
        <p:spPr>
          <a:xfrm>
            <a:off x="1619280" y="0"/>
            <a:ext cx="561672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ешеходный переход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4859280" y="1700280"/>
            <a:ext cx="338472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+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4859280" y="2421000"/>
            <a:ext cx="3384720" cy="71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3+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4859280" y="3860640"/>
            <a:ext cx="3384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0+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4859280" y="4581360"/>
            <a:ext cx="3384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4859280" y="5300640"/>
            <a:ext cx="3384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8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4859280" y="5950080"/>
            <a:ext cx="338472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4859280" y="3141720"/>
            <a:ext cx="33829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0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6012000" y="4005360"/>
            <a:ext cx="10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0+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6158880" y="5445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8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6158880" y="5373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8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477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Добро пожалова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8"/>
          <p:cNvSpPr/>
          <p:nvPr/>
        </p:nvSpPr>
        <p:spPr>
          <a:xfrm>
            <a:off x="1908000" y="1268280"/>
            <a:ext cx="5616720" cy="1079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9"/>
          <p:cNvSpPr/>
          <p:nvPr/>
        </p:nvSpPr>
        <p:spPr>
          <a:xfrm>
            <a:off x="2916360" y="1413000"/>
            <a:ext cx="863640" cy="7920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0"/>
          <p:cNvSpPr/>
          <p:nvPr/>
        </p:nvSpPr>
        <p:spPr>
          <a:xfrm>
            <a:off x="4284720" y="1413000"/>
            <a:ext cx="863640" cy="7920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1"/>
          <p:cNvSpPr/>
          <p:nvPr/>
        </p:nvSpPr>
        <p:spPr>
          <a:xfrm>
            <a:off x="5508720" y="1413000"/>
            <a:ext cx="863640" cy="7920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5"/>
          <p:cNvSpPr/>
          <p:nvPr/>
        </p:nvSpPr>
        <p:spPr>
          <a:xfrm>
            <a:off x="2340000" y="2565360"/>
            <a:ext cx="2089080" cy="2016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6"/>
          <p:cNvSpPr/>
          <p:nvPr/>
        </p:nvSpPr>
        <p:spPr>
          <a:xfrm>
            <a:off x="4500720" y="2565360"/>
            <a:ext cx="2089080" cy="2016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7"/>
          <p:cNvSpPr/>
          <p:nvPr/>
        </p:nvSpPr>
        <p:spPr>
          <a:xfrm>
            <a:off x="2340000" y="4581360"/>
            <a:ext cx="208908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8"/>
          <p:cNvSpPr/>
          <p:nvPr/>
        </p:nvSpPr>
        <p:spPr>
          <a:xfrm>
            <a:off x="4500720" y="4581360"/>
            <a:ext cx="208908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9"/>
          <p:cNvSpPr/>
          <p:nvPr/>
        </p:nvSpPr>
        <p:spPr>
          <a:xfrm flipH="1">
            <a:off x="2339640" y="2565360"/>
            <a:ext cx="208764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0"/>
          <p:cNvSpPr/>
          <p:nvPr/>
        </p:nvSpPr>
        <p:spPr>
          <a:xfrm>
            <a:off x="4572000" y="2565360"/>
            <a:ext cx="208764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1"/>
          <p:cNvSpPr/>
          <p:nvPr/>
        </p:nvSpPr>
        <p:spPr>
          <a:xfrm>
            <a:off x="4788000" y="350028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2"/>
          <p:cNvSpPr/>
          <p:nvPr/>
        </p:nvSpPr>
        <p:spPr>
          <a:xfrm>
            <a:off x="507672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3"/>
          <p:cNvSpPr/>
          <p:nvPr/>
        </p:nvSpPr>
        <p:spPr>
          <a:xfrm flipH="1">
            <a:off x="4788000" y="4076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Четырёхугольн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 rot="1885200">
            <a:off x="1115640" y="2060280"/>
            <a:ext cx="1150920" cy="2305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195640" y="4365720"/>
            <a:ext cx="1728720" cy="16556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 rot="19330800">
            <a:off x="3419280" y="2060640"/>
            <a:ext cx="2016000" cy="1928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1"/>
          <p:cNvSpPr/>
          <p:nvPr/>
        </p:nvSpPr>
        <p:spPr>
          <a:xfrm>
            <a:off x="5076720" y="3933720"/>
            <a:ext cx="79056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7740720" y="3860640"/>
            <a:ext cx="8636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 flipV="1">
            <a:off x="5867280" y="5300280"/>
            <a:ext cx="2737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 flipH="1">
            <a:off x="5076720" y="3860640"/>
            <a:ext cx="26640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92200" y="380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698400" y="3706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684360" y="2349360"/>
            <a:ext cx="27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1549440" y="5300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5489640" y="1884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7002720" y="5484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Чистопис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://im2-tub-ru.yandex.net/i?id=205050995-33-72"/>
          <p:cNvPicPr/>
          <p:nvPr/>
        </p:nvPicPr>
        <p:blipFill>
          <a:blip r:embed="rId1"/>
          <a:stretch/>
        </p:blipFill>
        <p:spPr>
          <a:xfrm>
            <a:off x="155520" y="1785960"/>
            <a:ext cx="83455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1:56:45Z</dcterms:created>
  <dc:creator>student</dc:creator>
  <dc:description/>
  <dc:language>en-US</dc:language>
  <cp:lastModifiedBy>Admin</cp:lastModifiedBy>
  <dcterms:modified xsi:type="dcterms:W3CDTF">2012-05-23T16:26:51Z</dcterms:modified>
  <cp:revision>20</cp:revision>
  <dc:subject/>
  <dc:title>Слайд 1</dc:title>
</cp:coreProperties>
</file>