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332-CD7C-494E-8C2C-2383B5D6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4D36-6E69-4355-9E8F-A5E94336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9787F-9621-47E0-B1B4-6D6B3C8B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F388C-FE6C-4494-AF56-036DD01C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438C5-A58A-4D5F-9A03-99DAA1EA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88F07-0E69-4941-9ABB-605F29F1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A6FF3-C14F-4A17-B5EE-3941DCC7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49FF0-A475-4255-95DD-327280F5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F58F7-76A5-4490-B6D6-65E08824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2F075-349E-4092-B41A-60AF8829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EAFFE-DC16-4C85-8C16-BD1C2B55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FD652-2D8B-45BA-9217-1340DBBD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C76-A5F9-4EC6-8024-AAD7F75D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2A262-7ED2-4322-B143-44354DC0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72232-0F5F-474E-A717-B7B6990B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D9D4E-7999-4621-979C-DA02E165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A16BA-19FB-48BB-BB0F-57C4CAA7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DCE94-3093-45C9-ACEA-E79CE43A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CB1A4-FF42-40FC-AB06-37D3146B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7CF3F-47B5-48A1-AAA9-6A8BDBFE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C4E21-4845-41D2-A17D-79497A30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A4027-8402-42AE-BF80-25ED0B17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8F57C-68BF-4315-9D7E-29698724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70EC-19B0-45C1-A820-CB3569DB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1CBAE-3A10-457D-B17A-E2745DF7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9B92B-BE21-4C21-B71A-5B99CF36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6EBDA-1E2A-46FB-BFF6-7086BD34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3A0E2-C5BF-4675-BFE5-7EC07065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698F8-8AD6-427B-B1E8-9F7EBD2C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9E422-B8CF-4D9D-9D14-331817EC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BAEE6-36C3-4E6E-A9EB-B9F50DD5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791CD-1B33-428A-B5BE-D2C1665E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ED60C-5CD4-4B8F-9E9E-9D2CB7F9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1034E-D5AD-44A5-AA31-07646E1A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A7DA-10C3-4590-8601-E3D696DA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A324E-FC9A-4E83-9F09-6CD3AC62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A41CA-3211-4051-BE80-BC4FBA84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F344B-4121-4B98-B107-FD4DB594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26DB6-B58D-44FF-A9B6-7FD6DBB6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1A9E8-1813-4BEB-8BD8-F05AC759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5D3CE-BAFF-4487-87ED-1434B0D2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167A9-F76C-475A-9C82-AAB73528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F9111-86FA-4716-9703-C8339765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46B5C-4BDB-4FEF-859F-77655D6F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60363-3A06-414F-8C05-FF017133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9BF0-9FFD-4C9F-AECF-2E1C34B9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A74E1-5804-4FCD-A731-139E5395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E9F08-8F32-4519-9758-D7BCBB93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90F52-55EE-40C2-9275-0CCD46BE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07B31-C9C7-4942-A23F-9AD8CBC2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1A364-9B18-441B-9F22-378AF0B4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937C-8FE0-43F8-A5F0-EB2DB625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B76A-2DE4-4806-8ACB-B748FFE5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3890-124F-47BD-BAE3-EEAD621D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B279-FECD-479B-B3F0-72970AA7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35F8-F755-4D10-8414-9D5663A5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5363-AEB2-453E-8E9F-A2B85FD9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D23C-9B4C-4510-8666-82671426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25E6-D19E-43CA-8296-0B6F0CF9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2563-D13B-4227-8007-BEFAF176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4F0E-2B7D-45D0-8681-CFEFD423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B02E-3FCD-4C97-8832-7D237291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B43EF-EB62-4F0B-AE1A-01964968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59855-59E6-428B-91CC-2408F393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3E046-7775-409A-AD9B-86642D99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6417C-2394-4859-AEFF-A24BE34E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B5C34-577C-4E34-AFDC-B6D38BB9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6C89-7AA1-4007-A181-439AC129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97E24-009A-42EA-AB36-D9832AE9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038F7-5E38-485D-B86B-A4E602DF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3EE8B-1CF6-4E90-86BB-2DA3E919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BA035-E9CE-4933-A9AA-AB5325D8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2CD03-1FBE-4865-8FAF-4B3627C0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6F973-0251-4F75-934A-4C9138E8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33345-746A-408B-8985-27EB8735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D83AB-9487-4A3A-AF7B-E238C661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545CA-3358-486A-BA21-9D14A6BE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64F19-694E-47D5-976A-EE32A1DB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ABB-D18C-4420-9D97-4355A959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B4FCA-33B5-4D59-9A10-591CD960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02D38-029B-4FBA-8438-9D4B28EE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9D5DB-705D-406B-B792-8E7EE915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05D39-F4EE-481F-9162-2F62647B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AD2C1-130E-4350-BBC8-98B07204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81400-BCE4-48FE-A9FD-77BABB8C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FF727-2D7A-42AC-BC55-6893E1F9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59E58-A734-41C3-A3A3-6F806F0C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76D0C-38A6-458A-BBCB-7C8233E9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0BC9E-0FCF-4020-8E9D-D3307170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9A0-92C4-4A64-8C1E-88BA457B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C83B6-96D2-4AF7-8764-39EA5B02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8737E-E737-46AD-A678-3B04C1ED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6C79F-8EB0-44F8-A30F-286F48D2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AC805-51D3-42A9-A95C-42E5C50F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20FA1-0742-42FA-89F2-B10C419B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E2EC9-A990-4B49-ACA1-20A755B2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1B116-F93A-4D8E-9B17-904E31C8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C31CE-4A3C-47DA-AEE6-F97703C7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E1D4F-99E5-457E-B88B-1FBF27F1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CF9DD-C7BD-465E-A1A2-0F48671D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5688-7218-4321-AFDF-6AC2F4D0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A183D-70D9-4486-9836-9DC69588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18D72-E364-443C-B3AD-642354C5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FCC52-191A-4C62-9821-19E8C605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2CEEF-FBC6-429C-A805-C6626EC5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C9D5B-FA77-4E4D-9020-D62955F3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A7258-30FE-4071-B366-715D79F6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BD369-C8BF-490D-8C1D-C7499DCF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76E1A-BFE5-461A-B6E1-CCB9E28D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299BC-0E73-4261-9EF7-F23516DA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CCD43-9456-40C5-84B2-3C72D297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358-5A80-42D8-8CBD-543CC641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BCC03-DC47-4B4B-B737-B32B6652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B4C14-7E5C-41E0-B723-910A8E03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B6576-EFE5-4B5B-89A9-8957F743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E9627-448F-4408-A39C-87C59327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5A896-D29B-44D9-8609-BD1C404E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23351-EB41-40C8-BB3F-839D2D28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845AE-0EAD-45C0-9CD8-05D16A30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7F19E-897E-4997-8C48-3C2D5D2F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E03B4-A21B-4896-A957-FC5FA6BF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16EBD-8D0D-43AA-8448-556AF895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D1C6-B5BB-4DC8-ABE4-B23C0F23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065B9-4422-43DF-B5F5-13C619EA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EFC43-C2DC-4F79-BD0B-856D1181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1270B-DC06-4051-827A-FCF688D0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EEE03-67E2-470E-A77E-E6331E8A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B714C-0619-4EDF-A230-CCE75E45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628F1-D9CC-4A1C-8E97-521AA61E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1188F-6608-423F-B2DC-554AFB7F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CFAEF-87B7-4C31-83D4-2E676A1A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9A6A5-2105-4C48-ACA3-EDBAC09F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57685-F2F2-4B42-A988-630B5845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8486-2547-467F-9829-8A5A9B1E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F8E24-42F4-4C09-AE61-BDCCA9E4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96DCC-B5AC-4A4C-ACD5-1475C230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2E7A3-09C7-4EE1-A872-2FFB2C39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673E4-65F0-4ED1-AFEC-0E5D2E1D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3A629-219A-42A3-ADEB-5117D58B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16D7E-6941-42E7-BCA8-07F1409A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160FB-36CB-417E-B0E1-5EA50EB3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5BC1E-C1EE-4CA2-B6BA-89D1C8B3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0ACA8-D3D9-4679-9E30-A6824ECC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F8032-0A2F-4F42-83E0-2624FAAD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4500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32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82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EFC0-1863-43FC-B09C-15AEAADC3F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7F8F-AC1F-46AC-865E-4BE8894FDC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FBBA-04AD-4B7D-8365-D369FBA0A7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7EE0-3047-472A-A14B-23BD591A8E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960"/>
              <a:ext cx="8078760" cy="22428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8080"/>
              <a:ext cx="8078760" cy="19908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8080"/>
              <a:ext cx="1203120" cy="68295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2240"/>
              <a:chOff x="7848720" y="-360"/>
              <a:chExt cx="1295280" cy="631224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90320"/>
                <a:chOff x="8381880" y="-360"/>
                <a:chExt cx="762120" cy="229032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32880" y="-360"/>
                  <a:ext cx="279360" cy="274680"/>
                  <a:chOff x="8732880" y="-360"/>
                  <a:chExt cx="279360" cy="2746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32880" y="-360"/>
                    <a:ext cx="279360" cy="274680"/>
                    <a:chOff x="8732880" y="-360"/>
                    <a:chExt cx="279360" cy="2746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72120" y="-39600"/>
                      <a:ext cx="20052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81480" y="91440"/>
                      <a:ext cx="14040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52400" y="1551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86160" y="7128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57080" y="5868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26560" y="1083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52400" y="217080"/>
                    <a:ext cx="6300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800920" y="1922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5560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5560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5944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3852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6256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4236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2144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200088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21800"/>
                <a:ext cx="828720" cy="4690080"/>
                <a:chOff x="7848720" y="1621800"/>
                <a:chExt cx="828720" cy="469008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2180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2528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3224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5976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1132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1516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9112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4652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864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808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2560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2840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5312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8448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392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548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300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280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7088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6520"/>
              <a:ext cx="1190520" cy="19317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6120"/>
              <a:ext cx="1219320" cy="199188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34280"/>
              <a:ext cx="1231920" cy="402012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52120"/>
              <a:ext cx="979560" cy="217512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53240"/>
              <a:ext cx="914400" cy="50274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89080"/>
              <a:ext cx="909720" cy="30585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8080"/>
              <a:ext cx="576360" cy="33386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9520"/>
              <a:ext cx="300240" cy="333900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9520"/>
              <a:ext cx="88920" cy="6829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1960"/>
              <a:ext cx="1165320" cy="6163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38360" y="3330000"/>
              <a:ext cx="682956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A1F0-06B2-46E8-AFBA-22524B5E27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56D0-19BC-4AC6-B964-05C09207E5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DF9C-765A-48C6-9A60-062BE9F623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A0B0-58CB-4AFC-B06B-B7BB1FBEA1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D2AA-3413-4B4A-A4DE-C57EC983C2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1153-8F43-442A-BA31-FA4B6E53D9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3AD8-5C4A-4D9A-8CF5-DEAB366550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E663-BC98-421C-8DCB-B6B41D1312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4"/>
          <p:cNvSpPr/>
          <p:nvPr/>
        </p:nvSpPr>
        <p:spPr>
          <a:xfrm>
            <a:off x="395280" y="3560760"/>
            <a:ext cx="78487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Образование: высшее—Ленинградский Государственный Институт культуры им. Н. К. Крупской, 1979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пециальность: библиотекарь-библиограф технических библиот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таж работы: 36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В данной школе—2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5" descr="Без-имени-92"/>
          <p:cNvPicPr/>
          <p:nvPr/>
        </p:nvPicPr>
        <p:blipFill>
          <a:blip r:embed="rId1"/>
          <a:stretch/>
        </p:blipFill>
        <p:spPr>
          <a:xfrm rot="21000000">
            <a:off x="324000" y="404280"/>
            <a:ext cx="4319280" cy="281340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6"/>
          <p:cNvSpPr/>
          <p:nvPr/>
        </p:nvSpPr>
        <p:spPr>
          <a:xfrm>
            <a:off x="4932360" y="620640"/>
            <a:ext cx="2521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Забегаевская Наталья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Зав.библиотекой школы №5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5289120" y="306864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8 марта 1957 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4"/>
          <p:cNvSpPr/>
          <p:nvPr/>
        </p:nvSpPr>
        <p:spPr>
          <a:xfrm>
            <a:off x="108000" y="1357200"/>
            <a:ext cx="7704000" cy="49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Школьная библиотека принимает активное участие в общеобразовательном процессе. В библиотеке проводятся семинары, круглые столы, ведется работа с группами продленного дня и детскими кружками, осуществляется текущее информирование (обзоры новых поступлений), идут занятия по основам библиотечно - библиографических и информационных зн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6699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6" descr="PA280118"/>
          <p:cNvPicPr/>
          <p:nvPr/>
        </p:nvPicPr>
        <p:blipFill>
          <a:blip r:embed="rId1"/>
          <a:stretch/>
        </p:blipFill>
        <p:spPr>
          <a:xfrm>
            <a:off x="3000240" y="4071960"/>
            <a:ext cx="3036960" cy="2278080"/>
          </a:xfrm>
          <a:prstGeom prst="rect">
            <a:avLst/>
          </a:prstGeom>
          <a:ln w="0">
            <a:noFill/>
          </a:ln>
        </p:spPr>
      </p:pic>
      <p:sp>
        <p:nvSpPr>
          <p:cNvPr id="608" name="Прямоугольник 4"/>
          <p:cNvSpPr/>
          <p:nvPr/>
        </p:nvSpPr>
        <p:spPr>
          <a:xfrm>
            <a:off x="1428840" y="35712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«Величайшее сокровище – хорошая библиот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В.Г.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4"/>
          <p:cNvSpPr/>
          <p:nvPr/>
        </p:nvSpPr>
        <p:spPr>
          <a:xfrm>
            <a:off x="34920" y="209520"/>
            <a:ext cx="7848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Ежегодно (в марте) в школе проходит Неделя Детской Книги, в рамках которой проводятся различные беседы, игры, викторины, конкурсы, театрализованные представления, круглые столы и другие мероприятия, основным организатором которых  является заведующая библиоте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Забегаевская Наталья Михайло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6" descr="Сканировать10003"/>
          <p:cNvPicPr/>
          <p:nvPr/>
        </p:nvPicPr>
        <p:blipFill>
          <a:blip r:embed="rId1"/>
          <a:stretch/>
        </p:blipFill>
        <p:spPr>
          <a:xfrm>
            <a:off x="2428920" y="3143160"/>
            <a:ext cx="3722760" cy="25369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сказки-урок в нач"/>
          <p:cNvPicPr/>
          <p:nvPr/>
        </p:nvPicPr>
        <p:blipFill>
          <a:blip r:embed="rId2"/>
          <a:stretch/>
        </p:blipFill>
        <p:spPr>
          <a:xfrm rot="1200000">
            <a:off x="4982760" y="439884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8" descr="P3120254"/>
          <p:cNvPicPr/>
          <p:nvPr/>
        </p:nvPicPr>
        <p:blipFill>
          <a:blip r:embed="rId3"/>
          <a:stretch/>
        </p:blipFill>
        <p:spPr>
          <a:xfrm rot="20400000">
            <a:off x="696600" y="4327200"/>
            <a:ext cx="2736720" cy="205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WordArt 4"/>
          <p:cNvSpPr txBox="1"/>
          <p:nvPr/>
        </p:nvSpPr>
        <p:spPr>
          <a:xfrm>
            <a:off x="1116000" y="115920"/>
            <a:ext cx="56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вуки и краски ми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142920" y="142884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В рамках Недели детской книги был проведен фестиваль  «Звуки и краски мира»,организатором и руководителем которого  также была заведующая библиотекой школы Забегаевская Наталья Михайло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4" descr="Сканировать1"/>
          <p:cNvPicPr/>
          <p:nvPr/>
        </p:nvPicPr>
        <p:blipFill>
          <a:blip r:embed="rId1"/>
          <a:stretch/>
        </p:blipFill>
        <p:spPr>
          <a:xfrm rot="20635200">
            <a:off x="1089000" y="3457080"/>
            <a:ext cx="3089160" cy="21114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100_0278"/>
          <p:cNvPicPr/>
          <p:nvPr/>
        </p:nvPicPr>
        <p:blipFill>
          <a:blip r:embed="rId2"/>
          <a:stretch/>
        </p:blipFill>
        <p:spPr>
          <a:xfrm rot="820200">
            <a:off x="3997440" y="3427200"/>
            <a:ext cx="3273480" cy="218124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5"/>
          <p:cNvSpPr/>
          <p:nvPr/>
        </p:nvSpPr>
        <p:spPr>
          <a:xfrm>
            <a:off x="785880" y="585792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В фестивале участвовали не только учащиеся, но и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WordArt 4"/>
          <p:cNvSpPr txBox="1"/>
          <p:nvPr/>
        </p:nvSpPr>
        <p:spPr>
          <a:xfrm>
            <a:off x="900000" y="333360"/>
            <a:ext cx="648036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В царстве муз"</a:t>
            </a:r>
            <a:endParaRPr b="0" lang="en-US" sz="2800" spc="1" strike="noStrike">
              <a:ln w="0">
                <a:noFill/>
              </a:ln>
              <a:solidFill>
                <a:srgbClr val="cc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итературно-музыкальная гостиная</a:t>
            </a:r>
            <a:endParaRPr b="0" lang="en-US" sz="2800" spc="1" strike="noStrike">
              <a:ln w="0">
                <a:noFill/>
              </a:ln>
              <a:solidFill>
                <a:srgbClr val="cc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9" name="Picture 6" descr="100_1122"/>
          <p:cNvPicPr/>
          <p:nvPr/>
        </p:nvPicPr>
        <p:blipFill>
          <a:blip r:embed="rId1"/>
          <a:stretch/>
        </p:blipFill>
        <p:spPr>
          <a:xfrm rot="831000">
            <a:off x="4127040" y="2747520"/>
            <a:ext cx="3589560" cy="26924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" descr="100_1120"/>
          <p:cNvPicPr/>
          <p:nvPr/>
        </p:nvPicPr>
        <p:blipFill>
          <a:blip r:embed="rId2"/>
          <a:stretch/>
        </p:blipFill>
        <p:spPr>
          <a:xfrm rot="20794200">
            <a:off x="555120" y="2746080"/>
            <a:ext cx="3675240" cy="27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4"/>
          <p:cNvSpPr/>
          <p:nvPr/>
        </p:nvSpPr>
        <p:spPr>
          <a:xfrm>
            <a:off x="1643040" y="428760"/>
            <a:ext cx="59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Круглые столы для детей и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7" descr="100_1066"/>
          <p:cNvPicPr/>
          <p:nvPr/>
        </p:nvPicPr>
        <p:blipFill>
          <a:blip r:embed="rId1"/>
          <a:stretch/>
        </p:blipFill>
        <p:spPr>
          <a:xfrm>
            <a:off x="4286160" y="3357720"/>
            <a:ext cx="3438720" cy="25779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" descr="E:\Толерантность фото(3)\100_0763.jpg"/>
          <p:cNvPicPr/>
          <p:nvPr/>
        </p:nvPicPr>
        <p:blipFill>
          <a:blip r:embed="rId2"/>
          <a:stretch/>
        </p:blipFill>
        <p:spPr>
          <a:xfrm>
            <a:off x="1143000" y="1643040"/>
            <a:ext cx="3544920" cy="23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4"/>
          <p:cNvSpPr/>
          <p:nvPr/>
        </p:nvSpPr>
        <p:spPr>
          <a:xfrm>
            <a:off x="-181080" y="108000"/>
            <a:ext cx="8353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Учащиеся 7 классов участвовали в городском конкурсе ТВИНК-2007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(</a:t>
            </a:r>
            <a:r>
              <a:rPr b="0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ТВоя ИНформационная Культура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«Вместе—целая страна»,</a:t>
            </a:r>
            <a:r>
              <a:rPr b="0" lang="ru-RU" sz="28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где заняли 1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Сканировать10005"/>
          <p:cNvPicPr/>
          <p:nvPr/>
        </p:nvPicPr>
        <p:blipFill>
          <a:blip r:embed="rId1"/>
          <a:stretch/>
        </p:blipFill>
        <p:spPr>
          <a:xfrm>
            <a:off x="250920" y="1900080"/>
            <a:ext cx="3797280" cy="482472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6"/>
          <p:cNvSpPr/>
          <p:nvPr/>
        </p:nvSpPr>
        <p:spPr>
          <a:xfrm>
            <a:off x="4286160" y="1857240"/>
            <a:ext cx="4573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Цели и задачи конкур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Воспитание уважения к личности человека, к традициям, обычаям, культуре народо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овышение уровня информационной культуры учащихся школ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робуждение творческой актив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4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2010 – 2011 год</a:t>
            </a:r>
            <a:br>
              <a:rPr sz="4000"/>
            </a:b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Литературные праздники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утешествие в страну Марктв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оэты Серебряного ве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Читаем и рисуем. Агния Львовна Барто» (к 105-летию со дня рожд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71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риходите в библиотеки, </a:t>
            </a:r>
            <a:br>
              <a:rPr sz="3600"/>
            </a:br>
            <a:r>
              <a:rPr b="0" lang="ru-RU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обиталища знания.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630" name="Picture 4" descr="Изображение0013"/>
          <p:cNvPicPr/>
          <p:nvPr/>
        </p:nvPicPr>
        <p:blipFill>
          <a:blip r:embed="rId1"/>
          <a:stretch/>
        </p:blipFill>
        <p:spPr>
          <a:xfrm>
            <a:off x="857160" y="1857240"/>
            <a:ext cx="3167280" cy="23529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6" descr="DSCN7489"/>
          <p:cNvPicPr/>
          <p:nvPr/>
        </p:nvPicPr>
        <p:blipFill>
          <a:blip r:embed="rId2"/>
          <a:stretch/>
        </p:blipFill>
        <p:spPr>
          <a:xfrm>
            <a:off x="4071960" y="38577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8:12:05Z</dcterms:created>
  <dc:creator>User</dc:creator>
  <dc:description/>
  <dc:language>en-US</dc:language>
  <cp:lastModifiedBy>byblioteka</cp:lastModifiedBy>
  <dcterms:modified xsi:type="dcterms:W3CDTF">2013-09-27T12:53:46Z</dcterms:modified>
  <cp:revision>67</cp:revision>
  <dc:subject/>
  <dc:title>Слайд 1</dc:title>
</cp:coreProperties>
</file>