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62CA-0396-4107-8A8F-0E9B18986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7CB1-7C8D-4B17-A88D-345A13BCE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F147-BB24-46C1-BAF9-5768A19C5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B1D3-1598-4A59-8D94-F4DB45571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2506-C61A-480A-B140-27E5237366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929D-0F93-43CC-A0CB-64563C21DF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4BB1-87DF-451C-B3C7-B2DF5AD8D9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9824-48C5-4C6E-B99E-05C25CB5EC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00AB-BAEE-46D1-9282-59751DC60D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6989-B905-4AA6-9E0F-BDA74A31F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E61C-86DD-43A3-B09B-D74E5D5AF7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D9F1-1FDA-4A4B-A7FB-B7F74955C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39B4-91B9-49D9-AFEB-42CCD25854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48DE-041A-4F4B-83EF-0A2EAE8B65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C201-F63C-44ED-9707-415D7B4E8A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2E7D-079C-4BDF-A993-30099BE81C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39CE-149E-497D-AAA7-A3CD972E8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4EE4-29D1-496B-9D6F-60AF3BC13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3B15-76B1-4BAC-B134-B61B0953D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9978-0C67-48E8-AC56-CF1FC5282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04DF-C182-4BC2-BA8F-E407B4D33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7B17-44A4-45A0-8D14-8F838E007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C6A2-0592-4BB5-AC9F-6DF943375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D675-6F00-45F0-B725-1EE4C314E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DEAA25-950A-488B-A2EA-215D7F6944E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5A6D03-19D4-4D19-BF5E-014772A051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722600"/>
            <a:ext cx="77724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Презентация</a:t>
            </a:r>
            <a:br>
              <a:rPr sz="7000"/>
            </a:br>
            <a:r>
              <a:rPr b="1" i="1" lang="ru-RU" sz="7000" spc="-1" strike="noStrike">
                <a:solidFill>
                  <a:srgbClr val="ffffff"/>
                </a:solidFill>
                <a:latin typeface="Tahoma"/>
              </a:rPr>
              <a:t>«Река Волга»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886200"/>
            <a:ext cx="8640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втор работы:  Лавров Андрей,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ученик 4 класса  ЦО №18 г.Йошкар — Ола (ГАОУ РМЭ «Лицей Баумански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учный руководитель — Очиева Раиса Александровна, учитель начальных классов ГАОУ РМЭ «Лицей Баумански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. Йошкар - Ола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то не верит, что Волга - великая река, смотрит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68360" y="1844640"/>
            <a:ext cx="3959280" cy="2106720"/>
            <a:chOff x="468360" y="1844640"/>
            <a:chExt cx="3959280" cy="210672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468360" y="1844640"/>
              <a:ext cx="3959280" cy="21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68360" y="1844640"/>
              <a:ext cx="3959280" cy="21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43280" y="1844640"/>
            <a:ext cx="4032360" cy="2089080"/>
            <a:chOff x="4643280" y="1844640"/>
            <a:chExt cx="4032360" cy="208908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643280" y="1844640"/>
              <a:ext cx="403236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43280" y="1844640"/>
              <a:ext cx="403236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68360" y="4051440"/>
            <a:ext cx="3959280" cy="2484360"/>
            <a:chOff x="468360" y="4051440"/>
            <a:chExt cx="3959280" cy="248436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468360" y="4051440"/>
              <a:ext cx="3959280" cy="24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68360" y="4051440"/>
              <a:ext cx="3959280" cy="24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716360" y="4076640"/>
            <a:ext cx="3959280" cy="2476440"/>
            <a:chOff x="4716360" y="4076640"/>
            <a:chExt cx="3959280" cy="2476440"/>
          </a:xfrm>
        </p:grpSpPr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4716360" y="4076640"/>
              <a:ext cx="395928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716360" y="4076640"/>
              <a:ext cx="395928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905120"/>
            <a:ext cx="82296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хотел узнать какие реки втекают в Волгу.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ая рыба водится.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длинны река и площадь бассейна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пользу приносит река.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рупнейшая река Европ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га - это крупнейшая река в Европе. Её длинна 3530 км, площадь бассейна 1360000 кв.км. Берёт начало на Валдайской возвышенности, впадает в Каспийское море, образует дельту 19000 кв.км. В Волгу впадает около 200 притоков, наиболее крупные Кама и Ока. Волга судоходная река, регулярное судоходство от г. Ржева (3256км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82803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рта реки Волг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1052640"/>
            <a:ext cx="9144000" cy="5805360"/>
            <a:chOff x="0" y="1052640"/>
            <a:chExt cx="9144000" cy="58053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0" y="1052640"/>
              <a:ext cx="9144000" cy="58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1052640"/>
              <a:ext cx="9144000" cy="58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итатели речных глуб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05120"/>
            <a:ext cx="476244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ке Волге обитает много разной рыбы , но не только её. Других плавающих под водой и по воде. Ондатры ловят рыбу. Бобры строят платины. Ужи ловят лягушек. А среди камышей бегают дикие утки и дикие куриц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64000" y="2060640"/>
            <a:ext cx="3610080" cy="3022560"/>
            <a:chOff x="5364000" y="2060640"/>
            <a:chExt cx="3610080" cy="302256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5364000" y="2060640"/>
              <a:ext cx="361008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64000" y="2060640"/>
              <a:ext cx="3610080" cy="30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ая рыба водится в ре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ке водится много хищной рыбы такие как: окунь, щука, сазан, стерлядь, язь. Рыбы осетровых пород остается мало. Но кроме хищной рыбы в реке есть и другая рыба такая как сорожка, лещ, линь, башклейка, карп. Некоторые питаются подводными растениями, а некоторые червя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лга судоходная ре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403848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дут по Волге большие теплоходы, огромные баржи и нефтеналивные танкеры. Раздается шум моторок - течение сильное, на веслах не пойдешь. Правый берег обрывистый, в полном соответствии с законами физики: из-за вращения планеты вода сильнее действует на правый берег (в северном полушарии). Левый берег хоть и не такой высокий, но все же дает о себе знать, когда, отправившись на турбазу, то и дело приходится взбираться навер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64000" y="1916280"/>
            <a:ext cx="3095640" cy="2011320"/>
            <a:chOff x="5364000" y="1916280"/>
            <a:chExt cx="3095640" cy="201132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364000" y="1916280"/>
              <a:ext cx="309564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364000" y="1916280"/>
              <a:ext cx="309564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364000" y="4292640"/>
            <a:ext cx="3095640" cy="2144520"/>
            <a:chOff x="5364000" y="4292640"/>
            <a:chExt cx="3095640" cy="214452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5364000" y="4292640"/>
              <a:ext cx="3095640" cy="21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364000" y="4292640"/>
              <a:ext cx="3095640" cy="21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еликий  Волжский  каска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905120"/>
            <a:ext cx="822960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Сегодняшняя  Волга  -  труженица,   движущая  турбины  крупнейших  в  Европе  электростанций,  почти вся  превращенная    гигантскую  лестницу  плотин  и  водохранилищ. Гидростанция,  построенная  возле  бывшей  деревни  Иваньково  (гор.  Дубна)  и  поднявшая  воду  Московского  моря,  есть  первая  гидростанция  Большой  Волги.  Вторым - Угличское,  не  широкое,  но  довольно  длинное,  третье – Рыбинское.Весь  Великий  Волжский  Каскад  -  восемь  гидростанций  и  искусственных  морей. Остальные  -  Горьковское, Чебоксарское,  Куйбышевское,  Саратовское,  Волгоградское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Общая  мощность  Волжских  ГЭС  -  около  10  миллионов  киловатт,  а  вы­рабатывают  они  свыше  40  миллиардов  киловатт - часов  электроэнергии  в  год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ыть  Волге  чист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  всем  мире  за  последнее  десятилетие  особенно  сильно  загрязняются  воды  рек  и  оз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 их  берегам  растут  берега  города,  фабрики,  заводы,  распахивается  все  больше  земель,  редеют  леса.  И  прежде  дожди  уносили  в  реки  всяческий  мусор  и  хлам.  Теперь  особенно  вредные  отходы  попадают  туда  с  промыш­ленных  предприят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 развитием  индустрии  Поволжья,  с  ростом  речных  перевозок  нефти  начала  загрязнятся  и  Волга.  На  поверхности  воды  расплываются  радужные  нефтяные  пятна,  рыбаки  жалуются  на  сильное  оскудение  рыбных  запасов.  Во  всем  Поволжье  десятки,  сотни  тысяч  людей  начали  действовать  под  лозунгом:   «БЫТЬ  ВОЛГЕ  ЧИСТОЙ!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3:48:41Z</dcterms:created>
  <dc:creator>дом</dc:creator>
  <dc:description/>
  <dc:language>en-US</dc:language>
  <cp:lastModifiedBy>SCHOOL</cp:lastModifiedBy>
  <dcterms:modified xsi:type="dcterms:W3CDTF">2009-12-30T06:59:11Z</dcterms:modified>
  <cp:revision>17</cp:revision>
  <dc:subject/>
  <dc:title>Река Волга</dc:title>
</cp:coreProperties>
</file>