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E8F-0520-4149-A9AC-0499C56D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21F-F99D-4CCC-8176-2D3C302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8F5EA-CCD7-4A72-9DD8-0D961F1A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76359-AE80-498D-8DA9-C2F9778E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A3DD7-2D69-4288-8E84-AFB30734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F446F-28B7-4762-BEB2-F0AA1B4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7D90C-4437-49AF-B14F-CE755CA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F0E48-A54F-43DF-97A7-257D9EC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197C1-ABED-4E5D-AEBA-526DD13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04F19-B57E-4812-BCEB-86B2FBB0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BAFB1-1BCE-4778-93E9-0900AC11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69832-4AD9-4D05-998E-2BDB3540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C03-53A5-4E04-91A1-6D4FE11B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29BA7-686B-4D44-8526-39CD52A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BA828-6EF6-430F-B2AC-869C33AC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CDCF9-616E-4318-8C81-6232A1D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C22B8-614C-4D27-B618-D4B8B293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05AE0-4149-4CE6-82D7-9E9DBE3E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91DCD-FE46-4558-BE2F-181C511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2A6E6-71F4-4893-B362-6842002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104D1-9137-4C20-BF94-BB42FC4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9ADB4-21DA-4B55-B4C7-83349E64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C8A16-660F-4741-AF98-40A3E0CC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5D9-EA61-4BF3-B7DE-F9604C6C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7CAC4-52DB-49B0-BBD8-70E11E13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4CADC-948A-4DEB-B78D-6CFA62C3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93D90-7309-49AF-9F05-75C61153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48DB2-7826-487C-AC13-C5F0531F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75723-D3FF-4F27-895B-0B911AA7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D5194-F006-41FF-A85F-2818F85C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AF8CA-5D49-4862-A516-C0C05A5E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9348F-6339-47BC-BA23-6AFA840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4588C-4A2E-4698-A20A-6480C03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27F00-5CCA-4AC2-BD5D-BB90766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7E00-A7C5-4F91-BD2B-B1C81AC3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D0C0D-8944-4F7B-929D-61E6734F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C555-0D7E-400A-92FC-5CBF8763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768F8-4CB8-472E-8398-3656C6AE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72930-01FD-4646-B604-38A0813C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325C2-9C9F-4817-89D9-2D2F4C0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FBAD0-7DA4-4070-AE29-459B3F1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E4DAA-0AE4-4BFC-AB1B-7AE723CF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511C9-5E49-43CC-836F-04E11B6C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5F95E-81AB-401C-B941-C9CDE18C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20038-7156-4C4A-9792-5F954B6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E0F2-E6B2-4AF9-A9ED-ED116AA1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1F4C9-68E4-4304-91BB-D6872F9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CAAA7-70A3-4AB8-91B6-6251A2F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3C718-5CDC-4573-91E9-ACDE46D0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456C0-2FF1-43FB-8904-E2A52891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39F16-C298-42B3-B134-4EC29C64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BCB36-7640-4C9B-A730-B05BEB04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CD2A7-07DD-4974-8802-5C7672A1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7613A-AA84-482D-8E73-1EF7CDC2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2DE3D-8C6B-43C8-BC5F-C948DA4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ACFC2-F6AA-442D-90BC-F5EA1207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18C-1A4D-4507-B0C5-CF655317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B947C-36EB-45FC-BAFB-28274DBC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1094C-B21E-429F-90A7-FED4459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5BBC8-A332-4453-BC13-970A881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390AE-3996-460D-A6D1-8274579D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D424D-C779-473B-9E66-C4684CCA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E82DA-102D-4488-847F-11E1B4F9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B8097-53D1-4B99-8C98-A55B4634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DBCCE-526E-4184-9F71-C5320159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F7F5A-7695-4FE8-96B1-751A923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44659-7943-4769-936B-DF318ED7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557F-30F2-4E9E-8B14-FB00A56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B0AB2-D77B-409B-B660-A7FEEF8E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15A02-90EF-4D5C-9E3E-E7BACB4A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6D156-7A32-4019-99D6-D23CCEB2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55ABC-C490-43C2-87D4-E58066DC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89DC5-E107-4421-A3F6-F35FB3E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BD3E0-15FD-4B14-85B9-815C182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597F1-179F-4243-9C9B-FE408767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89DC2-4CD2-471F-A2B1-5D04EA1B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C5238-4CC7-469A-B80B-CDB02568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51F49-6F43-4B5F-97C4-C0A97C0D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837-6A38-45FE-8C17-1085959A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6C144-9EA3-4DCE-90AE-0AE7C022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00A5B-5BCC-42AD-B466-AA4609AE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F62FC-26FD-4897-8B2E-53890CA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38009-9C34-4109-8156-BE2B1C1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D3976-FE58-438D-8098-A4985AE4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8E0B3-5CA7-48F7-BF38-75EEEC4A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FFB27-9086-41C9-B46B-E47161B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A2456-46FA-4A1B-8FC3-59391B7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2EEF3-9FDC-423A-A0BB-5E0AA11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8B3C8-C8C2-4C49-9784-E9D04EFD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4DB-BDEA-47CA-9933-347F6AF8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6105B-7C82-4BA0-AE0D-4C7EA718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C1BC0-EA9A-423F-9505-085F45C9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D7703-30DB-4C22-9A2A-08F72F71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45F50-C4FF-4153-8E91-DFFD8252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876F7-81D9-4C77-AE82-D23D90AD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F5D52-D279-438C-88D5-6A87C39B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E9099-C41B-45FE-8175-8E1EA760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5F057-E6D6-4D46-B377-51717FE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0FFBA-899E-43D3-8440-23595EBB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51A49-111C-427E-A2A1-C25D494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4F1-8EC9-4A53-86DE-AD84F45B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6203B-95F9-4724-AE28-33C01D38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EFA30-55CF-45E0-ABF2-07BDFC7E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EF521-D8A9-4FA8-9576-D4FD452D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4D764-5C28-426C-B28B-9D294C67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252AB-819A-4BB7-9AA8-4915A379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81601-D1FC-451D-9C5F-E4628A8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B9A29-F6EB-4021-A729-6288CE07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D3418-B1CD-4468-84B3-4AAE36C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A0F9D-D434-43D1-8786-9E556C78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A0D0B-0A56-4232-ADD9-BC3768D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49D-9D33-4DF1-A35E-3A817D7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EA0B-3814-4B6C-BBC6-A85F8AB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A4A5B-3861-4658-BA59-4048C903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61FEF-620F-4992-8E29-A4AF4A9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1B3A2-1165-480E-B6D7-57886D6A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FC44A-86B1-457B-9347-9F999DD5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C1232-B223-4002-A7D1-459BDC33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2AF8-6420-4FFB-96B1-0D3822F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2E9-BE0A-4125-BFC4-2A18F69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DAF2-09E2-49ED-A254-1BD01222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E463-A2D3-47FC-AC37-FAAA0762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5BD5-5D44-485B-982C-308B2DDA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ED8D-B57C-4B58-8293-2845A75A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4A44-6E35-4CB4-8BB9-E2C8500B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2B66-EFF6-4B0B-BCAB-C74EBF7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063B-383A-4323-9C3D-0800FB35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1A7-31BE-4EFF-880F-B62B63F7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3755-B87A-40AF-B320-83CC7AC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11B7-F00A-4834-8418-52235DE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B97F-5E92-4E9E-A2FF-8D84E21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B00E-E595-476A-96E2-13BD95FD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413A-27E9-4FD5-96D8-06A0AF2B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3F49-4F53-468A-8AE9-547159F8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B5DB-B6BB-4059-9685-D4232AE5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1C9F-C38F-465B-8EF1-D3AEEF02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CD16-90A8-4D54-A91A-9CFCB338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29A0E-F848-43A6-A928-FB3ECA19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ECC-AAA2-4BB9-B0C8-B3E8CF06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4A52-D95B-484B-B107-E7BC5649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047E-175F-4269-BA12-379B8838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21AC-CEB2-40E2-8B6D-1404E757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E2EA-6D22-4B2D-A611-80E02326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A0A3-7328-4761-BD9C-60489E0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7C3C-BCB4-4064-B29D-EAD4FC3A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94EE-A90F-480C-B88E-B4CF84F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0B70-EC93-498D-AF3D-55E31C82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A660-5FE9-4FEF-B5D3-49A54E1A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F0116-1009-4BE1-9F78-20CAF8FB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1DF-1299-450B-B91F-CFC52A19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039B-EDBA-4417-B827-279B53D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5C0C-F710-47E5-B9E6-AB74D517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D42BE-1B64-4CD1-BC20-1522DB8E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00A1-CA2D-4991-9C72-BEB896F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C2D3-6C10-4304-84EC-ACD5FC65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191C-DBB7-41C4-ADC8-45CD71B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D7F03-E9A8-47E3-99F4-E72F002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B59D-7380-4560-AB60-E8C941D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8AB5-5ADF-487E-A190-0CC4B344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69CB-9B4D-45EA-91F8-465E92D8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8DC-9AB0-4B4E-A6E7-0C35FA66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613C-34D5-4EFA-8FBB-E9001D7C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A0C0-8052-4608-871B-0E8679F4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CE1B-7DB7-460E-962C-7D0F9FC4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F512-780C-430F-9431-48BFE3CC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D5556-F748-43C5-A890-8F857002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0630-0162-45E6-963E-47131503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33A6-C21B-4875-A857-F9971D55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D882-FCFF-46CC-B793-D9FE456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8A108-2EAB-4F3D-A400-ED80C27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C4E9-ABC2-4478-988C-EBC4127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080-2BD9-4354-AEA5-659AE192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F14BA-1DE4-42F1-B683-5A8CD7AF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3EDB-9B2A-4DB3-BAFE-B4BC2A6C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D751-8DC3-43D2-A12B-9DC9CE90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7B620-8FCB-4505-B225-AB522563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A6B4D-CD48-4707-BA61-2675AA5A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85DED-764C-438F-AFBC-AC213C2D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56330-24BC-4F14-B6E0-977D2990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B8D8-AF14-44AC-9C96-AE91CA82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86571-8150-4823-9D09-445DC18A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34AE-4C95-4B87-B481-CC5AEBF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B62-0AB9-4DC5-80BB-1DDC1735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F6856-7D81-4829-BAA0-188CB0E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AFB5-F0B5-4609-91B0-EE239DA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2DEE1-BAEB-42F5-B31B-FE0A1F02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51129-1FB5-49A3-BD92-37D8C2DC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AEE1A-2F8F-4B11-9E30-16B771F6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FAF98-866F-43BB-8E78-F06AAC33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E043-D897-4216-93AA-E7283888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B867-B717-4837-ABB4-B19DA3D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3428F-4F1C-4774-BF74-F20CA2B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7C50-79F1-4D27-8D25-A010515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F9F-6AB8-48CA-80E1-FA79343C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7BF5-C881-4240-8727-885C14BB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15D63-74F1-43D9-B92E-2C641B0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A2A3C-FF7B-434B-BBF3-67DE860A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069E5-CE34-4B0F-A8E1-2931371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206E0-0AC4-43CC-B7C2-9C0F1E35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0454E-E8E6-4F73-A275-ABB86CC7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B0A99-4D14-405C-BE7E-82BA37D3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01EC1-0604-44EC-83E7-D559D40F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E51BD-77A0-4773-8847-545C7F7D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CB33F-3E34-4035-BD75-87AB1E4F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060D-0E62-437A-98E2-9B71C514F2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0C5A-BE38-465B-826D-E170303EFA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40EB-DED6-4C01-99BB-FB874FFBD6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F42D-0B7D-4106-9F6F-20F734A5BA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043C-E906-46A4-BB03-9323E74B19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CA75-DE14-4981-BBB7-1A095C4BCB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E217-832A-4A76-92C7-00A624C29B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5198-669C-403A-9BC5-63052C7E75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6C4-346C-4A07-9F3A-78A48383DB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F9E-D8FA-4035-B53A-3B3FD2ECEC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6A60-903A-492E-85D9-73E034151E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2998-8721-4B88-B030-80FC8B1654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4A47-8880-44B5-ADB0-E7D38F5E85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6B3B-148F-44CA-86B5-DB26A17D52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5DE8-BF84-440C-AB93-C63660B1D7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3C3-145A-4B69-94F2-FC71C218F8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7EE-C8F0-4157-928B-13C6F242DB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Заголовок 1" descr=""/>
          <p:cNvPicPr/>
          <p:nvPr/>
        </p:nvPicPr>
        <p:blipFill>
          <a:blip r:embed="rId1"/>
          <a:stretch/>
        </p:blipFill>
        <p:spPr>
          <a:xfrm>
            <a:off x="324000" y="969840"/>
            <a:ext cx="8270640" cy="3011760"/>
          </a:xfrm>
          <a:prstGeom prst="rect">
            <a:avLst/>
          </a:prstGeom>
          <a:ln w="0">
            <a:noFill/>
          </a:ln>
        </p:spPr>
      </p:pic>
      <p:sp>
        <p:nvSpPr>
          <p:cNvPr id="1177" name="Прямоугольник 4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2771640" y="5157720"/>
            <a:ext cx="61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езентацию для учащихся 2-3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одготовил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ГБОУ СОШ 1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трочкова Лидия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357720" y="357120"/>
            <a:ext cx="50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9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                          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относится к группе …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26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2719080" cy="3214440"/>
          </a:xfrm>
          <a:prstGeom prst="rect">
            <a:avLst/>
          </a:prstGeom>
          <a:ln w="0">
            <a:noFill/>
          </a:ln>
        </p:spPr>
      </p:pic>
      <p:sp>
        <p:nvSpPr>
          <p:cNvPr id="1228" name="TextBox 4"/>
          <p:cNvSpPr/>
          <p:nvPr/>
        </p:nvSpPr>
        <p:spPr>
          <a:xfrm>
            <a:off x="3286080" y="30002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Box 6"/>
          <p:cNvSpPr/>
          <p:nvPr/>
        </p:nvSpPr>
        <p:spPr>
          <a:xfrm>
            <a:off x="3286080" y="36432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)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7"/>
          <p:cNvSpPr/>
          <p:nvPr/>
        </p:nvSpPr>
        <p:spPr>
          <a:xfrm>
            <a:off x="3286080" y="1857240"/>
            <a:ext cx="25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3286080" y="242892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Пресмы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9"/>
          <p:cNvSpPr/>
          <p:nvPr/>
        </p:nvSpPr>
        <p:spPr>
          <a:xfrm>
            <a:off x="3357720" y="428616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) Земно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10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Земноводные –это…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4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Box 3"/>
          <p:cNvSpPr/>
          <p:nvPr/>
        </p:nvSpPr>
        <p:spPr>
          <a:xfrm>
            <a:off x="214200" y="214308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Это группа животных, которая живет на суше, но часть времени проводит в воде. Тело покрыто роговыми чешуй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4"/>
          <p:cNvSpPr/>
          <p:nvPr/>
        </p:nvSpPr>
        <p:spPr>
          <a:xfrm>
            <a:off x="357120" y="364320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Это группа животных, которая потомство выводит в воде, развивается детеныш в воде, а взрослое животное живет на суше. Тело покрыто тонкой влажной ко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6"/>
          <p:cNvSpPr/>
          <p:nvPr/>
        </p:nvSpPr>
        <p:spPr>
          <a:xfrm>
            <a:off x="285840" y="55008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Это группа животных, тело которой покрыто пер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11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то из этих животных относится к земноводным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9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" descr=""/>
          <p:cNvPicPr/>
          <p:nvPr/>
        </p:nvPicPr>
        <p:blipFill>
          <a:blip r:embed="rId1"/>
          <a:stretch/>
        </p:blipFill>
        <p:spPr>
          <a:xfrm>
            <a:off x="3214800" y="1928880"/>
            <a:ext cx="3162240" cy="20718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3" descr=""/>
          <p:cNvPicPr/>
          <p:nvPr/>
        </p:nvPicPr>
        <p:blipFill>
          <a:blip r:embed="rId2"/>
          <a:stretch/>
        </p:blipFill>
        <p:spPr>
          <a:xfrm>
            <a:off x="5000760" y="405432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4" descr=""/>
          <p:cNvPicPr/>
          <p:nvPr/>
        </p:nvPicPr>
        <p:blipFill>
          <a:blip r:embed="rId3"/>
          <a:stretch/>
        </p:blipFill>
        <p:spPr>
          <a:xfrm>
            <a:off x="1071720" y="4089240"/>
            <a:ext cx="2928960" cy="219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12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Насекомые –…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44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3"/>
          <p:cNvSpPr/>
          <p:nvPr/>
        </p:nvSpPr>
        <p:spPr>
          <a:xfrm>
            <a:off x="357120" y="185724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Это группа животных, у которой 8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4"/>
          <p:cNvSpPr/>
          <p:nvPr/>
        </p:nvSpPr>
        <p:spPr>
          <a:xfrm>
            <a:off x="428760" y="2786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Это группа животных, у которой 4 ноги и жестки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6"/>
          <p:cNvSpPr/>
          <p:nvPr/>
        </p:nvSpPr>
        <p:spPr>
          <a:xfrm>
            <a:off x="428760" y="385776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Это группа животных, тело которой покрыто шерстью, их называют млекопитающ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7"/>
          <p:cNvSpPr/>
          <p:nvPr/>
        </p:nvSpPr>
        <p:spPr>
          <a:xfrm>
            <a:off x="428760" y="51436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) Это группа животных, у которой 6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05636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7900" spc="-1" strike="noStrike">
                <a:solidFill>
                  <a:srgbClr val="00ff00"/>
                </a:solidFill>
                <a:latin typeface="Georgia"/>
              </a:rPr>
              <a:t>Спасибо!!!</a:t>
            </a:r>
            <a:br>
              <a:rPr sz="7900"/>
            </a:br>
            <a:r>
              <a:rPr b="1" i="1" lang="ru-RU" sz="7900" spc="-1" strike="noStrike">
                <a:solidFill>
                  <a:srgbClr val="00ff00"/>
                </a:solidFill>
                <a:latin typeface="Georgia"/>
              </a:rPr>
              <a:t>Молодцы!</a:t>
            </a:r>
            <a:endParaRPr b="0" lang="en-US" sz="79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1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то из этих животных относится к группе пресмыкающиеся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0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5" descr=""/>
          <p:cNvPicPr/>
          <p:nvPr/>
        </p:nvPicPr>
        <p:blipFill>
          <a:blip r:embed="rId1"/>
          <a:stretch/>
        </p:blipFill>
        <p:spPr>
          <a:xfrm>
            <a:off x="3106800" y="4389480"/>
            <a:ext cx="2928960" cy="2141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6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2571840" cy="19191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8" descr=""/>
          <p:cNvPicPr/>
          <p:nvPr/>
        </p:nvPicPr>
        <p:blipFill>
          <a:blip r:embed="rId3"/>
          <a:stretch/>
        </p:blipFill>
        <p:spPr>
          <a:xfrm>
            <a:off x="5072040" y="202716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2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то из этих животных относится к группе рыбы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5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2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3" descr=""/>
          <p:cNvPicPr/>
          <p:nvPr/>
        </p:nvPicPr>
        <p:blipFill>
          <a:blip r:embed="rId2"/>
          <a:stretch/>
        </p:blipFill>
        <p:spPr>
          <a:xfrm>
            <a:off x="714240" y="20718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5" descr=""/>
          <p:cNvPicPr/>
          <p:nvPr/>
        </p:nvPicPr>
        <p:blipFill>
          <a:blip r:embed="rId3"/>
          <a:stretch/>
        </p:blipFill>
        <p:spPr>
          <a:xfrm>
            <a:off x="2771640" y="4398840"/>
            <a:ext cx="2667240" cy="200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3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 какой группе животных относится                           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0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2" descr=""/>
          <p:cNvPicPr/>
          <p:nvPr/>
        </p:nvPicPr>
        <p:blipFill>
          <a:blip r:embed="rId1"/>
          <a:stretch/>
        </p:blipFill>
        <p:spPr>
          <a:xfrm>
            <a:off x="2500200" y="1357200"/>
            <a:ext cx="2762280" cy="2071800"/>
          </a:xfrm>
          <a:prstGeom prst="rect">
            <a:avLst/>
          </a:prstGeom>
          <a:ln w="0">
            <a:noFill/>
          </a:ln>
        </p:spPr>
      </p:pic>
      <p:sp>
        <p:nvSpPr>
          <p:cNvPr id="1192" name="TextBox 4"/>
          <p:cNvSpPr/>
          <p:nvPr/>
        </p:nvSpPr>
        <p:spPr>
          <a:xfrm>
            <a:off x="500040" y="36432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6"/>
          <p:cNvSpPr/>
          <p:nvPr/>
        </p:nvSpPr>
        <p:spPr>
          <a:xfrm>
            <a:off x="500040" y="4143240"/>
            <a:ext cx="200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7"/>
          <p:cNvSpPr/>
          <p:nvPr/>
        </p:nvSpPr>
        <p:spPr>
          <a:xfrm>
            <a:off x="500040" y="464328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Земно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8"/>
          <p:cNvSpPr/>
          <p:nvPr/>
        </p:nvSpPr>
        <p:spPr>
          <a:xfrm>
            <a:off x="500040" y="51436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) 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9"/>
          <p:cNvSpPr/>
          <p:nvPr/>
        </p:nvSpPr>
        <p:spPr>
          <a:xfrm>
            <a:off x="500040" y="56437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) 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4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Пресмыкающиеся – это…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8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Box 3"/>
          <p:cNvSpPr/>
          <p:nvPr/>
        </p:nvSpPr>
        <p:spPr>
          <a:xfrm>
            <a:off x="357120" y="200016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Это группа животных, которая потомство выводит в воде, развивается детеныш в воде, а взрослое животное живет на суше. Тело покрыто тонкой влажной ко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4"/>
          <p:cNvSpPr/>
          <p:nvPr/>
        </p:nvSpPr>
        <p:spPr>
          <a:xfrm>
            <a:off x="357120" y="464328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Это группа животных, которая живет на суше, но часть времени проводит в воде. Тело покрыто роговыми чешуй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6"/>
          <p:cNvSpPr/>
          <p:nvPr/>
        </p:nvSpPr>
        <p:spPr>
          <a:xfrm>
            <a:off x="357120" y="35719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Это группа животных, тело которой покрыто шерстью, их называют млекопитающ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5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 какой группе животных относится                           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3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2681280" cy="1995480"/>
          </a:xfrm>
          <a:prstGeom prst="rect">
            <a:avLst/>
          </a:prstGeom>
          <a:ln w="0">
            <a:noFill/>
          </a:ln>
        </p:spPr>
      </p:pic>
      <p:sp>
        <p:nvSpPr>
          <p:cNvPr id="1205" name="TextBox 4"/>
          <p:cNvSpPr/>
          <p:nvPr/>
        </p:nvSpPr>
        <p:spPr>
          <a:xfrm>
            <a:off x="285840" y="31431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Box 6"/>
          <p:cNvSpPr/>
          <p:nvPr/>
        </p:nvSpPr>
        <p:spPr>
          <a:xfrm>
            <a:off x="357120" y="4357800"/>
            <a:ext cx="30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Пресмы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7"/>
          <p:cNvSpPr/>
          <p:nvPr/>
        </p:nvSpPr>
        <p:spPr>
          <a:xfrm>
            <a:off x="285840" y="37861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Box 8"/>
          <p:cNvSpPr/>
          <p:nvPr/>
        </p:nvSpPr>
        <p:spPr>
          <a:xfrm>
            <a:off x="357120" y="49291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) 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Box 9"/>
          <p:cNvSpPr/>
          <p:nvPr/>
        </p:nvSpPr>
        <p:spPr>
          <a:xfrm>
            <a:off x="428760" y="5500800"/>
            <a:ext cx="235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) Земно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6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Птицы – это…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1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3"/>
          <p:cNvSpPr/>
          <p:nvPr/>
        </p:nvSpPr>
        <p:spPr>
          <a:xfrm>
            <a:off x="571680" y="292896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Это группа животных, тело которой покрыто шерстью, их называют млекопитающ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4"/>
          <p:cNvSpPr/>
          <p:nvPr/>
        </p:nvSpPr>
        <p:spPr>
          <a:xfrm>
            <a:off x="500040" y="20718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Это группа животных, тело которой покрыто пер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6"/>
          <p:cNvSpPr/>
          <p:nvPr/>
        </p:nvSpPr>
        <p:spPr>
          <a:xfrm>
            <a:off x="571680" y="41432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Это группа животных, тело которой покрыто перьями, и они умеют ле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7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то из этих животных не относится к группе насекомые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6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2" descr=""/>
          <p:cNvPicPr/>
          <p:nvPr/>
        </p:nvPicPr>
        <p:blipFill>
          <a:blip r:embed="rId1"/>
          <a:srcRect l="3334" t="0" r="4997" b="5001"/>
          <a:stretch/>
        </p:blipFill>
        <p:spPr>
          <a:xfrm>
            <a:off x="5407200" y="1928880"/>
            <a:ext cx="3308040" cy="22860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3" descr=""/>
          <p:cNvPicPr/>
          <p:nvPr/>
        </p:nvPicPr>
        <p:blipFill>
          <a:blip r:embed="rId2"/>
          <a:srcRect l="0" t="0" r="1425" b="8751"/>
          <a:stretch/>
        </p:blipFill>
        <p:spPr>
          <a:xfrm>
            <a:off x="500040" y="185724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4" descr=""/>
          <p:cNvPicPr/>
          <p:nvPr/>
        </p:nvPicPr>
        <p:blipFill>
          <a:blip r:embed="rId3"/>
          <a:srcRect l="3334" t="0" r="4997" b="4410"/>
          <a:stretch/>
        </p:blipFill>
        <p:spPr>
          <a:xfrm>
            <a:off x="2714760" y="4245120"/>
            <a:ext cx="3357360" cy="238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прос 8.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Почему зверей называют млекопитающими?</a:t>
            </a: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21" name="Прямоугольник 5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cap="rnd" w="15840">
            <a:solidFill>
              <a:srgbClr val="158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3"/>
          <p:cNvSpPr/>
          <p:nvPr/>
        </p:nvSpPr>
        <p:spPr>
          <a:xfrm>
            <a:off x="428760" y="207180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Они пьют 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4"/>
          <p:cNvSpPr/>
          <p:nvPr/>
        </p:nvSpPr>
        <p:spPr>
          <a:xfrm>
            <a:off x="500040" y="464328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Они выкармливают своих детенышей моло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6"/>
          <p:cNvSpPr/>
          <p:nvPr/>
        </p:nvSpPr>
        <p:spPr>
          <a:xfrm>
            <a:off x="428760" y="321480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Они рождают детены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5:08:25Z</dcterms:created>
  <dc:creator>Олеся</dc:creator>
  <dc:description/>
  <dc:language>en-US</dc:language>
  <cp:lastModifiedBy>Лидия Строчкова</cp:lastModifiedBy>
  <dcterms:modified xsi:type="dcterms:W3CDTF">2013-09-27T18:57:42Z</dcterms:modified>
  <cp:revision>25</cp:revision>
  <dc:subject/>
  <dc:title>ТЕСТ  по математике</dc:title>
</cp:coreProperties>
</file>