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F0D-33B3-4339-B453-447AC9D1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D9A-20B9-466F-961E-FB816D4D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CEC-882F-4BFB-848F-D715EF68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056-8DC6-4A94-AF3F-099214CA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069-2CE8-45F8-9856-A36BE4F1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084-7AC6-4D83-917D-947B3959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95B-FAD0-43DA-BE10-8C78A250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6C4-2C3E-4CBC-B077-A73648CE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AA3-A8C5-4375-9976-FA43D5E0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BE2-EB30-4BEB-9084-BD5C850C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FC0-07DA-4E86-94F9-8E95ED84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713-483A-462E-BFD2-338DADE8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34E4-1EEE-49BA-9F0E-F0C26BAF4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72400" cy="1774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The world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Arial"/>
              </a:rPr>
              <a:t>’s Best Friend Is You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666880"/>
          </a:xfrm>
          <a:prstGeom prst="rect">
            <a:avLst/>
          </a:prstGeom>
          <a:solidFill>
            <a:srgbClr val="f6f60a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e818"/>
                </a:solidFill>
                <a:latin typeface="Arial"/>
                <a:ea typeface="Arial"/>
              </a:rPr>
              <a:t>Author: V. Togulev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e818"/>
                </a:solidFill>
                <a:latin typeface="Arial"/>
                <a:ea typeface="Arial"/>
              </a:rPr>
              <a:t>Grade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e818"/>
                </a:solidFill>
                <a:latin typeface="Arial"/>
                <a:ea typeface="Arial"/>
              </a:rPr>
              <a:t>Karmaly seconda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e818"/>
                </a:solidFill>
                <a:latin typeface="Arial"/>
                <a:ea typeface="Arial"/>
              </a:rPr>
              <a:t>Teacher</a:t>
            </a:r>
            <a:r>
              <a:rPr b="0" lang="ru-RU" sz="3200" spc="-1" strike="noStrike">
                <a:solidFill>
                  <a:srgbClr val="5de818"/>
                </a:solidFill>
                <a:latin typeface="Arial"/>
                <a:ea typeface="Arial"/>
              </a:rPr>
              <a:t>: </a:t>
            </a:r>
            <a:r>
              <a:rPr b="0" lang="en-US" sz="3200" spc="-1" strike="noStrike">
                <a:solidFill>
                  <a:srgbClr val="5de818"/>
                </a:solidFill>
                <a:latin typeface="Arial"/>
                <a:ea typeface="Arial"/>
              </a:rPr>
              <a:t>T.Belyk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estroy the sources of oxy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495680" cy="5257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495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s are convenient, but not healt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95680" cy="533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4495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ature is our home, save the nature!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his is what should be d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tre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solidFill>
            <a:srgbClr val="f3ff5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00ff00"/>
                </a:solidFill>
                <a:latin typeface="Arial"/>
              </a:rPr>
              <a:t>Thank you for attention!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ting is the great problem of modern wor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ople destroy the environment with their own ha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s are often at factories. People die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often leads to bad consequ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garettes is a great problem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people smo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у то нравится выпускать д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то дума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то это делает его взросл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то это делает просто та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сейчас не об э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НЕ НАЧИНАЙТЕ КУРИТЬ, сохраните прир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y countries, people do not destroy the wastes but take it away to landf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495680" cy="5257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495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not only destroy places where they live but also pollute rivers and kill its inhabit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495680" cy="5257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495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13-09-27T13:05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