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A76-D9E7-4C68-B815-FBD5F342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D89-93C8-4B0D-89C6-88FF7BD2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40A-37DB-41F1-ACB9-3CC81E06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15A-EB33-4836-924E-A7F47DC2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5ADE-877E-4833-9E69-4580DB47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8733-E576-4962-9874-D2BA41F1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BC91-744E-44BF-94C8-CBAD3048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3E79-80BF-429C-978D-516F83A3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B0F0-8EB5-43BD-ACD5-A0A82472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7942-4BE3-420A-AA45-E7165C6D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2E07-3EC1-4CF1-B7A8-1F2A993F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FA3-AEB5-463A-99F2-E33B7081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870C-9B8B-4A04-AD07-277662CC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6151-2B7D-42B8-AA39-FFCD0601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15C1-94B7-49FF-8B76-CB3723D9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9658-B46E-40B8-AAC5-52E12E8B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CE88-3A7D-47BE-85E9-00788AF9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B13-C230-47CF-A530-A8A7B4CC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0E3-4868-4B38-A535-F2437291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61A-99C0-4187-A1B4-404889DA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D8D-8F3A-402B-89E7-B1BE572E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17E-24A3-466D-AA11-BF55ED51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9B2-DAE7-4048-8F49-E8DF14EC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6D5-EF58-4365-BC1D-5F37D96B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6E9E-62B1-4FE7-8E33-97237E0FCBB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F9DC-9E89-4923-A336-541C519FA53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32280" y="1413000"/>
            <a:ext cx="4311720" cy="5445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284280"/>
            <a:ext cx="5616720" cy="2158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Твои права, ребенок!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86040" y="6216120"/>
            <a:ext cx="560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боту выполнила: Куртукова Кс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уководитель: Кибальникова Любовь Пет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0"/>
            <a:ext cx="7308720" cy="73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14 л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тырнадцатилетний гражданин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ает письменное согласие для выхода из гражданства РФ вместе с родителям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жет выбирать место жительства (с согласия родителей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праве с согласия родителей вступать в любые сделк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праве самостоятельно распоряжаться своим доходом, зарплатой, стипендие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уществлять свои авторские права, как результат своей интеллектуальной деятельност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носить вклады в кредитные учреждения и распоряжаться им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еет право на получение паспорта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жет быть разрешено вступать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рак в виде исключения с учето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ых обстоятельств (при этом наступает полная дееспособность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32767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2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7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2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7960" cy="1855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8101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пускается поступление на работу с согласия родителей (на легкий труд не более 4 часов в день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меет право требовать отмены усыновления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ет обучаться вождению мотоцикла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меет право управлять велосипедом при движении по дорогам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лежит уголовной ответственности за некоторые преступления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лежит имущественной ответственности по заключенным сделкам, а также за причиненный имущественный вред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ет быть исключен из школы за наруш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4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9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15 ле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ятнадцатилет-ний гражданин имеет право поступить на работу (24 часовая рабочая неделя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16 л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естнадцатилетний гражданин имеет право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тупать в брак при наличии уважительных причин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меет право управлять мопедом при езде по дорогам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меет право обучаться вождению автомобиля на дорогах в присутствии инструктора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меет право заключать трудовой договор (контракт), рабочая неделя не должна превышать 36 часов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лежит административной и уголовной ответственности за правонарушен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95280" y="404640"/>
            <a:ext cx="4824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17 ле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емнадцатилетний гражданин подлежит первоначальной постановке на воинский учет (выдается приписное свидетельство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1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 18 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аступает полная дееспособность гражданина. Приобретает любые права и налагает на себя любые обязанности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748720" cy="4175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Но помни!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У тебя есть не только права, но и </a:t>
            </a:r>
            <a:r>
              <a:rPr b="0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обязанности.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учить документ, о  «права ребенк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авление  информационного буклета по правам ребен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Выяснить для чего нужны права ребенк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Получить информацию о том, кто должен защищать и представлять права ребен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7042" t="8937" r="6062" b="5607"/>
          <a:stretch/>
        </p:blipFill>
        <p:spPr>
          <a:xfrm>
            <a:off x="0" y="981000"/>
            <a:ext cx="3097080" cy="5085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151920"/>
            <a:ext cx="5760720" cy="63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рганизация Объединенных Наций во Всеобщей декларации прав человека провозгласила, что дети имеют право на особую защиту, заботу и помощь, "ребенок, ввиду его физической и умственной незрелости, нуждается в специальной охране и заботе, включая надлежащую правовую защиту, как до, так и после рождения".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(Нью-Йорк, 20 ноября 1989 г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Ребенком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является каждое человеческое существо до достижения 18-летнего возраста. Все дети, родившиеся в браке или вне брака, должны пользоваться одинаковой социальной защитой. (Всеобщая декларация прав человека. Статья 25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820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вои пра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бенок имеет право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на жизнь. Право на им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на гражданство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тсутствие дискриминац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на свободу совести и религиозных убеждени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на жизнь с родителям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на труд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на отды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на защиту жизни и здоровь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на образовани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на отсутствие рабств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на жилищ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на свободу слов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на получение информац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пользоваться достижениями культур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создавать семью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 участвовать в научно-техничес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удожественном творчеств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27640" y="2205000"/>
            <a:ext cx="2916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" dur="500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" dur="500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500"/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500"/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6417" t="0" r="7143" b="13365"/>
          <a:stretch/>
        </p:blipFill>
        <p:spPr>
          <a:xfrm>
            <a:off x="0" y="3716280"/>
            <a:ext cx="4356000" cy="3141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972036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 рожд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одившись, ребенок приобретает право на гражданство, обладает правоспособностью по гражданскому праву, имеет право на имя, отчество, фамилию; имеет право жить 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4427640" y="3309840"/>
            <a:ext cx="50403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ываться в семье, знать своих родителей, получать от них защиту своих прав и законных интересов. На имя ребенка может быть открыт счет в бан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68389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 1,5 ле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луторагодовалый гражданин имеет право посещать ясл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899320" y="1989000"/>
            <a:ext cx="3244680" cy="4869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92360" y="2708280"/>
            <a:ext cx="388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3 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рехлетний гражданин вправе посещать детский са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708000" y="333360"/>
            <a:ext cx="5435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6 ле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Шестилетний гражданин в праве: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 посещать школу;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 вправе самостоятельно заключать мелкие бытовые сделки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19280" y="259920"/>
            <a:ext cx="720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0 л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илетний гражданин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ет согласие на изменение своего имени и (или) фамилии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ет согласие на свое усыновление или передачу в приемную семью, либо восстановление родительских прав своих родителей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ражает свое мнение о том, с кем из его родителей, после расторжения брака, он хотел бы проживать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праве быть заслушанным в ходе любого судебного или административного разбирательства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ет вступать в детские общественные объединен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4464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7-04-17T10:37:59Z</dcterms:modified>
  <cp:revision>12</cp:revision>
  <dc:subject/>
  <dc:title>PowerPoint Presentation</dc:title>
</cp:coreProperties>
</file>