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559675" cy="10691813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2-10-20T21:58:07.750000000" idx="1">
    <p:pos x="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850-1893-445D-90EA-2F8A7199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344-D4F2-400D-A9B8-81FDFFC9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1F3-78FE-4874-A56A-839F7D6E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398-787F-4595-9304-9B018282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1684-2B7A-4FC1-872A-91D3C191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2B81-73F4-4264-A177-BF62B338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1517-E63D-457B-AFB7-A6538E76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7DB7-3DCD-44D9-AE34-4EFD910D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A698-335F-4C44-B955-DFC50CEA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AF3F-C36B-4341-887F-A705C2AA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2657-0139-471F-8052-57D1D18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FAC-064A-43A1-A4D4-C6C8C86C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E4E6-CA36-4B4A-9E8D-DD9077E2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E826-3391-4CB9-8CA5-E726A3ED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E99A-7915-4A6A-BD02-C87F25FF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DA33-CC13-4C2F-BBA6-F416BEC3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A10C-E6C6-4C1E-878C-2A8B1FAE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DA0E-00C5-4BD9-AFB9-32E268E6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BBE0-0292-455D-854F-EE52836F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FD30-3D6C-4877-86D1-0C05889D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D573-8C38-418E-8F0C-4A952A7E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9DE4-29ED-43A3-8211-E84E4AE3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E78-1597-4526-943A-AC2C466E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EE23-DB3A-413E-9891-07B3E46C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9CACB-B80C-4133-A879-82D05C9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82B9-5C14-48B6-A2D3-4C1BB534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B37D-4622-4EE8-A940-DA78F642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CBDC-7784-43D6-9FEA-168D8EF5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A71A-F5DC-416D-8740-5D3335F1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A9F3-4E27-4599-9698-279C9713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DB14A-A4AD-45BC-A80E-9AA19CFD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3F0AF-C71C-4B24-8771-B76E52A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347F-BEDF-4D32-BE1F-9EACB156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CE5-64CE-4858-B6B4-54658265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F61C-4793-430F-9611-BFBF3B05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D423-69FC-4470-BA42-42ABFD0C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4DD1-06F5-4236-95DB-8A4E1EF4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53F59-5B71-437D-A9EC-A1AC0B5D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E804-6766-4C1C-9707-1BC0D24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6BCC-F8F9-4B28-8F74-C790B6B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8B99-2201-4F6F-8F64-6AFA853E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E5F9-C3B5-4412-91FD-2FBDFCD6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1C20F-1245-4DE2-ABE6-183B78FF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66B-2EE6-4BBB-9E70-082220C3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DA0-2918-4E80-9F88-23B0D3F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50D-1D21-4881-8A1C-98305E28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677-FBEB-43DF-827C-44B5E11C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72A-4EB6-4991-921E-4A058E8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7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A915B24-4106-4322-9221-34CE65DBDB5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Прямоугольник 3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" name="Прямоугольник 38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4" name="Прямоугольник 39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" name="Прямоугольник 40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6" name="Прямоугольник 4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0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Прямоугольник 55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" name="Прямоугольник 64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" name="Прямоугольник 65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1" name="Прямоугольник 66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367920" y="0"/>
            <a:ext cx="8777880" cy="187776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cxnSp>
        <p:nvCxnSpPr>
          <p:cNvPr id="69" name="Прямая соединительная линия 8"/>
          <p:cNvCxnSpPr/>
          <p:nvPr/>
        </p:nvCxnSpPr>
        <p:spPr>
          <a:xfrm>
            <a:off x="362880" y="1884960"/>
            <a:ext cx="8783280" cy="360"/>
          </a:xfrm>
          <a:prstGeom prst="straightConnector1">
            <a:avLst/>
          </a:prstGeom>
          <a:ln>
            <a:solidFill>
              <a:srgbClr val="ffffff"/>
            </a:solidFill>
            <a:miter/>
          </a:ln>
        </p:spPr>
      </p:cxnSp>
      <p:grpSp>
        <p:nvGrpSpPr>
          <p:cNvPr id="70" name="Группа 9"/>
          <p:cNvGrpSpPr/>
          <p:nvPr/>
        </p:nvGrpSpPr>
        <p:grpSpPr>
          <a:xfrm>
            <a:off x="8516520" y="1216800"/>
            <a:ext cx="128520" cy="132840"/>
            <a:chOff x="8516520" y="1216800"/>
            <a:chExt cx="128520" cy="132840"/>
          </a:xfrm>
        </p:grpSpPr>
        <p:cxnSp>
          <p:nvCxnSpPr>
            <p:cNvPr id="71" name="Прямая соединительная линия 14"/>
            <p:cNvCxnSpPr/>
            <p:nvPr/>
          </p:nvCxnSpPr>
          <p:spPr>
            <a:xfrm>
              <a:off x="8572320" y="1216800"/>
              <a:ext cx="73080" cy="66600"/>
            </a:xfrm>
            <a:prstGeom prst="straightConnector1">
              <a:avLst/>
            </a:prstGeom>
            <a:ln cap="rnd" w="25400">
              <a:solidFill>
                <a:srgbClr val="ffffff"/>
              </a:solidFill>
              <a:round/>
            </a:ln>
          </p:spPr>
        </p:cxnSp>
        <p:cxnSp>
          <p:nvCxnSpPr>
            <p:cNvPr id="72" name="Прямая соединительная линия 15"/>
            <p:cNvCxnSpPr/>
            <p:nvPr/>
          </p:nvCxnSpPr>
          <p:spPr>
            <a:xfrm flipV="1">
              <a:off x="8516520" y="1283040"/>
              <a:ext cx="103680" cy="720"/>
            </a:xfrm>
            <a:prstGeom prst="straightConnector1">
              <a:avLst/>
            </a:prstGeom>
            <a:ln cap="rnd" w="25400">
              <a:solidFill>
                <a:srgbClr val="ffffff"/>
              </a:solidFill>
              <a:round/>
            </a:ln>
          </p:spPr>
        </p:cxnSp>
        <p:cxnSp>
          <p:nvCxnSpPr>
            <p:cNvPr id="73" name="Прямая соединительная линия 16"/>
            <p:cNvCxnSpPr/>
            <p:nvPr/>
          </p:nvCxnSpPr>
          <p:spPr>
            <a:xfrm flipV="1">
              <a:off x="8572320" y="1281960"/>
              <a:ext cx="73080" cy="68040"/>
            </a:xfrm>
            <a:prstGeom prst="straightConnector1">
              <a:avLst/>
            </a:prstGeom>
            <a:ln cap="rnd" w="25400">
              <a:solidFill>
                <a:srgbClr val="ffffff"/>
              </a:solidFill>
              <a:round/>
            </a:ln>
          </p:spPr>
        </p:cxn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441360"/>
            <a:ext cx="685764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1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367920" y="1893960"/>
            <a:ext cx="8777880" cy="495972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Вставка рисунка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body"/>
          </p:nvPr>
        </p:nvSpPr>
        <p:spPr>
          <a:xfrm>
            <a:off x="914400" y="1150200"/>
            <a:ext cx="68576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77" name="Группа 13"/>
          <p:cNvGrpSpPr/>
          <p:nvPr/>
        </p:nvGrpSpPr>
        <p:grpSpPr>
          <a:xfrm>
            <a:off x="8668800" y="1369440"/>
            <a:ext cx="128520" cy="132480"/>
            <a:chOff x="8668800" y="1369440"/>
            <a:chExt cx="128520" cy="132480"/>
          </a:xfrm>
        </p:grpSpPr>
        <p:cxnSp>
          <p:nvCxnSpPr>
            <p:cNvPr id="78" name="Прямая соединительная линия 10"/>
            <p:cNvCxnSpPr/>
            <p:nvPr/>
          </p:nvCxnSpPr>
          <p:spPr>
            <a:xfrm>
              <a:off x="8724960" y="1369440"/>
              <a:ext cx="72720" cy="66240"/>
            </a:xfrm>
            <a:prstGeom prst="straightConnector1">
              <a:avLst/>
            </a:prstGeom>
            <a:ln cap="rnd" w="25400">
              <a:solidFill>
                <a:srgbClr val="ffffff"/>
              </a:solidFill>
              <a:round/>
            </a:ln>
          </p:spPr>
        </p:cxnSp>
        <p:cxnSp>
          <p:nvCxnSpPr>
            <p:cNvPr id="79" name="Прямая соединительная линия 11"/>
            <p:cNvCxnSpPr/>
            <p:nvPr/>
          </p:nvCxnSpPr>
          <p:spPr>
            <a:xfrm flipV="1">
              <a:off x="8668800" y="1435320"/>
              <a:ext cx="103680" cy="720"/>
            </a:xfrm>
            <a:prstGeom prst="straightConnector1">
              <a:avLst/>
            </a:prstGeom>
            <a:ln cap="rnd" w="25400">
              <a:solidFill>
                <a:srgbClr val="ffffff"/>
              </a:solidFill>
              <a:round/>
            </a:ln>
          </p:spPr>
        </p:cxnSp>
        <p:cxnSp>
          <p:nvCxnSpPr>
            <p:cNvPr id="80" name="Прямая соединительная линия 12"/>
            <p:cNvCxnSpPr/>
            <p:nvPr/>
          </p:nvCxnSpPr>
          <p:spPr>
            <a:xfrm flipV="1">
              <a:off x="8724960" y="1434600"/>
              <a:ext cx="72720" cy="67680"/>
            </a:xfrm>
            <a:prstGeom prst="straightConnector1">
              <a:avLst/>
            </a:prstGeom>
            <a:ln cap="rnd" w="25400">
              <a:solidFill>
                <a:srgbClr val="ffffff"/>
              </a:solidFill>
              <a:round/>
            </a:ln>
          </p:spPr>
        </p:cxnSp>
      </p:grpSp>
      <p:grpSp>
        <p:nvGrpSpPr>
          <p:cNvPr id="81" name="Группа 17"/>
          <p:cNvGrpSpPr/>
          <p:nvPr/>
        </p:nvGrpSpPr>
        <p:grpSpPr>
          <a:xfrm>
            <a:off x="8322120" y="1472400"/>
            <a:ext cx="128520" cy="132840"/>
            <a:chOff x="8322120" y="1472400"/>
            <a:chExt cx="128520" cy="132840"/>
          </a:xfrm>
        </p:grpSpPr>
        <p:cxnSp>
          <p:nvCxnSpPr>
            <p:cNvPr id="82" name="Прямая соединительная линия 18"/>
            <p:cNvCxnSpPr/>
            <p:nvPr/>
          </p:nvCxnSpPr>
          <p:spPr>
            <a:xfrm>
              <a:off x="8377920" y="1472400"/>
              <a:ext cx="73080" cy="66240"/>
            </a:xfrm>
            <a:prstGeom prst="straightConnector1">
              <a:avLst/>
            </a:prstGeom>
            <a:ln cap="rnd" w="25400">
              <a:solidFill>
                <a:srgbClr val="ffffff"/>
              </a:solidFill>
              <a:round/>
            </a:ln>
          </p:spPr>
        </p:cxnSp>
        <p:cxnSp>
          <p:nvCxnSpPr>
            <p:cNvPr id="83" name="Прямая соединительная линия 19"/>
            <p:cNvCxnSpPr/>
            <p:nvPr/>
          </p:nvCxnSpPr>
          <p:spPr>
            <a:xfrm flipV="1">
              <a:off x="8322120" y="1538280"/>
              <a:ext cx="103320" cy="720"/>
            </a:xfrm>
            <a:prstGeom prst="straightConnector1">
              <a:avLst/>
            </a:prstGeom>
            <a:ln cap="rnd" w="25400">
              <a:solidFill>
                <a:srgbClr val="ffffff"/>
              </a:solidFill>
              <a:round/>
            </a:ln>
          </p:spPr>
        </p:cxnSp>
        <p:cxnSp>
          <p:nvCxnSpPr>
            <p:cNvPr id="84" name="Прямая соединительная линия 20"/>
            <p:cNvCxnSpPr/>
            <p:nvPr/>
          </p:nvCxnSpPr>
          <p:spPr>
            <a:xfrm flipV="1">
              <a:off x="8377920" y="1537560"/>
              <a:ext cx="73080" cy="68040"/>
            </a:xfrm>
            <a:prstGeom prst="straightConnector1">
              <a:avLst/>
            </a:prstGeom>
            <a:ln cap="rnd" w="25400">
              <a:solidFill>
                <a:srgbClr val="ffffff"/>
              </a:solidFill>
              <a:round/>
            </a:ln>
          </p:spPr>
        </p:cxnSp>
      </p:grp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6477120" y="554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914400" y="554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8610480" y="554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B624E1E-2C95-48B4-985C-B7C7CDE4280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3" name="Полилиния 13"/>
          <p:cNvSpPr/>
          <p:nvPr/>
        </p:nvSpPr>
        <p:spPr>
          <a:xfrm>
            <a:off x="4829040" y="1073880"/>
            <a:ext cx="4321800" cy="5790960"/>
          </a:xfrm>
          <a:custGeom>
            <a:avLst/>
            <a:gdLst/>
            <a:ahLst/>
            <a:rect l="l" t="t" r="r" b="b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175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Полилиния 14"/>
          <p:cNvSpPr/>
          <p:nvPr/>
        </p:nvSpPr>
        <p:spPr>
          <a:xfrm>
            <a:off x="374040" y="0"/>
            <a:ext cx="5514120" cy="6615000"/>
          </a:xfrm>
          <a:custGeom>
            <a:avLst/>
            <a:gdLst/>
            <a:ahLst/>
            <a:rect l="l" t="t" r="r" b="b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175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Полилиния 12"/>
          <p:cNvSpPr/>
          <p:nvPr/>
        </p:nvSpPr>
        <p:spPr>
          <a:xfrm rot="5236200">
            <a:off x="4462560" y="1483560"/>
            <a:ext cx="4114440" cy="1188360"/>
          </a:xfrm>
          <a:custGeom>
            <a:avLst/>
            <a:gdLst/>
            <a:ahLst/>
            <a:rect l="l" t="t" r="r" b="b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tint val="95000"/>
              <a:satMod val="18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Полилиния 15"/>
          <p:cNvSpPr/>
          <p:nvPr/>
        </p:nvSpPr>
        <p:spPr>
          <a:xfrm>
            <a:off x="5943600" y="0"/>
            <a:ext cx="2742840" cy="4266720"/>
          </a:xfrm>
          <a:custGeom>
            <a:avLst/>
            <a:gdLst/>
            <a:ahLst/>
            <a:rect l="l" t="t" r="r" b="b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Полилиния 16"/>
          <p:cNvSpPr/>
          <p:nvPr/>
        </p:nvSpPr>
        <p:spPr>
          <a:xfrm>
            <a:off x="5943600" y="4267080"/>
            <a:ext cx="3200040" cy="1142640"/>
          </a:xfrm>
          <a:custGeom>
            <a:avLst/>
            <a:gdLst/>
            <a:ahLst/>
            <a:rect l="l" t="t" r="r" b="b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Полилиния 17"/>
          <p:cNvSpPr/>
          <p:nvPr/>
        </p:nvSpPr>
        <p:spPr>
          <a:xfrm>
            <a:off x="5943600" y="0"/>
            <a:ext cx="1371240" cy="4266720"/>
          </a:xfrm>
          <a:custGeom>
            <a:avLst/>
            <a:gdLst/>
            <a:ahLst/>
            <a:rect l="l" t="t" r="r" b="b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Полилиния 18"/>
          <p:cNvSpPr/>
          <p:nvPr/>
        </p:nvSpPr>
        <p:spPr>
          <a:xfrm>
            <a:off x="5948280" y="4246560"/>
            <a:ext cx="2090520" cy="2611080"/>
          </a:xfrm>
          <a:custGeom>
            <a:avLst/>
            <a:gdLst/>
            <a:ahLst/>
            <a:rect l="l" t="t" r="r" b="b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Полилиния 19"/>
          <p:cNvSpPr/>
          <p:nvPr/>
        </p:nvSpPr>
        <p:spPr>
          <a:xfrm>
            <a:off x="5943600" y="4267080"/>
            <a:ext cx="159984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Полилиния 20"/>
          <p:cNvSpPr/>
          <p:nvPr/>
        </p:nvSpPr>
        <p:spPr>
          <a:xfrm>
            <a:off x="5943600" y="1371600"/>
            <a:ext cx="3200040" cy="2895120"/>
          </a:xfrm>
          <a:custGeom>
            <a:avLst/>
            <a:gdLst/>
            <a:ahLst/>
            <a:rect l="l" t="t" r="r" b="b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Полилиния 21"/>
          <p:cNvSpPr/>
          <p:nvPr/>
        </p:nvSpPr>
        <p:spPr>
          <a:xfrm>
            <a:off x="5943600" y="1752480"/>
            <a:ext cx="3200040" cy="2514240"/>
          </a:xfrm>
          <a:custGeom>
            <a:avLst/>
            <a:gdLst/>
            <a:ahLst/>
            <a:rect l="l" t="t" r="r" b="b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Полилиния 22"/>
          <p:cNvSpPr/>
          <p:nvPr/>
        </p:nvSpPr>
        <p:spPr>
          <a:xfrm>
            <a:off x="990720" y="4267080"/>
            <a:ext cx="4952520" cy="259056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Полилиния 23"/>
          <p:cNvSpPr/>
          <p:nvPr/>
        </p:nvSpPr>
        <p:spPr>
          <a:xfrm>
            <a:off x="533520" y="4267080"/>
            <a:ext cx="5333760" cy="2590560"/>
          </a:xfrm>
          <a:custGeom>
            <a:avLst/>
            <a:gdLst/>
            <a:ahLst/>
            <a:rect l="l" t="t" r="r" b="b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Полилиния 24"/>
          <p:cNvSpPr/>
          <p:nvPr/>
        </p:nvSpPr>
        <p:spPr>
          <a:xfrm>
            <a:off x="366840" y="2438280"/>
            <a:ext cx="5638320" cy="1828440"/>
          </a:xfrm>
          <a:custGeom>
            <a:avLst/>
            <a:gdLst/>
            <a:ahLst/>
            <a:rect l="l" t="t" r="r" b="b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Полилиния 25"/>
          <p:cNvSpPr/>
          <p:nvPr/>
        </p:nvSpPr>
        <p:spPr>
          <a:xfrm>
            <a:off x="366840" y="2133720"/>
            <a:ext cx="5638320" cy="2133360"/>
          </a:xfrm>
          <a:custGeom>
            <a:avLst/>
            <a:gdLst/>
            <a:ahLst/>
            <a:rect l="l" t="t" r="r" b="b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tint val="95000"/>
              <a:satMod val="20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Полилиния 26"/>
          <p:cNvSpPr/>
          <p:nvPr/>
        </p:nvSpPr>
        <p:spPr>
          <a:xfrm>
            <a:off x="4572000" y="4267080"/>
            <a:ext cx="1371240" cy="2590560"/>
          </a:xfrm>
          <a:custGeom>
            <a:avLst/>
            <a:gdLst/>
            <a:ahLst/>
            <a:rect l="l" t="t" r="r" b="b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chemeClr val="bg2">
              <a:tint val="95000"/>
              <a:satMod val="180000"/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07040" y="1351800"/>
            <a:ext cx="5717520" cy="97704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Autofit/>
          </a:bodyPr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040F466-9217-4626-B0F8-73CBD04FAD1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363240" y="402120"/>
            <a:ext cx="8503560" cy="885960"/>
          </a:xfrm>
          <a:prstGeom prst="rect">
            <a:avLst/>
          </a:prstGeom>
          <a:solidFill>
            <a:schemeClr val="bg2">
              <a:tint val="95000"/>
              <a:satMod val="180000"/>
              <a:alpha val="4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title"/>
          </p:nvPr>
        </p:nvSpPr>
        <p:spPr>
          <a:xfrm>
            <a:off x="707040" y="511920"/>
            <a:ext cx="81561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800" spc="-151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Прямоугольник 7"/>
          <p:cNvSpPr/>
          <p:nvPr/>
        </p:nvSpPr>
        <p:spPr>
          <a:xfrm flipH="1">
            <a:off x="37080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5" name="Прямоугольник 8"/>
          <p:cNvSpPr/>
          <p:nvPr/>
        </p:nvSpPr>
        <p:spPr>
          <a:xfrm flipH="1">
            <a:off x="41040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6" name="Прямоугольник 9"/>
          <p:cNvSpPr/>
          <p:nvPr/>
        </p:nvSpPr>
        <p:spPr>
          <a:xfrm flipH="1">
            <a:off x="4485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7" name="Прямоугольник 10"/>
          <p:cNvSpPr/>
          <p:nvPr/>
        </p:nvSpPr>
        <p:spPr>
          <a:xfrm flipH="1">
            <a:off x="47664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8" name="Прямоугольник 11"/>
          <p:cNvSpPr/>
          <p:nvPr/>
        </p:nvSpPr>
        <p:spPr>
          <a:xfrm>
            <a:off x="500400" y="680400"/>
            <a:ext cx="36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7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8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9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0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2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3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A5CECFC-CE30-4821-94C4-17AA516B41E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040" cy="9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d6ecff"/>
                </a:solidFill>
                <a:latin typeface="Consolas"/>
              </a:rPr>
              <a:t>Слайд 1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1214280"/>
            <a:ext cx="6400440" cy="4424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500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Вода появляется из руч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Ручьи по пути собирает р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Река полноводно течёт на простор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Пока, наконец, не вливается в м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Моря пополняют запас океа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Над ним формируются клубы тум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Они поднимаются выше, п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Не превращаются в обла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А облака проплывая над н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Дождём проливаются, сыплют снег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Весной соберётся вода в ручей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Они потекут до ближайшей ре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Слайд 10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11480" indent="-34308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Corbel"/>
              </a:rPr>
              <a:t>Спасибо за урок!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Corbel"/>
              </a:rPr>
              <a:t> </a:t>
            </a: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Corbel"/>
              </a:rPr>
              <a:t>Всем хорошего настроения!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41360"/>
            <a:ext cx="685764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2100" spc="-100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150200"/>
            <a:ext cx="68576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Рисунок 2"/>
          <p:cNvSpPr/>
          <p:nvPr/>
        </p:nvSpPr>
        <p:spPr>
          <a:xfrm>
            <a:off x="1714320" y="642960"/>
            <a:ext cx="54860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" descr="File:&amp;Kcy;&amp;rcy;&amp;ucy;&amp;gcy;&amp;ocy;&amp;vcy;&amp;ocy;&amp;rcy;&amp;ocy;&amp;tcy;&amp;vcy;&amp;ocy;&amp;dcy;&amp;ycy;.png"/>
          <p:cNvPicPr/>
          <p:nvPr/>
        </p:nvPicPr>
        <p:blipFill>
          <a:blip r:embed="rId1"/>
          <a:stretch/>
        </p:blipFill>
        <p:spPr>
          <a:xfrm>
            <a:off x="857160" y="642960"/>
            <a:ext cx="7619760" cy="52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42960" y="2286000"/>
            <a:ext cx="7772040" cy="340632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Autofit/>
          </a:bodyPr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rbel"/>
              </a:rPr>
              <a:t>1.Каковы основные  положения молекулярного  строения вещества?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rbel"/>
              </a:rPr>
              <a:t>2. В каких агрегатных состояниях может находиться вещество?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rbel"/>
              </a:rPr>
              <a:t>3. Изменяются ли молекулы при переходе вещества из одного состояния в другое?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rbel"/>
              </a:rPr>
              <a:t>4. Какую энергию называют внутренней? От чего она зависит?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57132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800" spc="-151" strike="noStrike">
                <a:solidFill>
                  <a:srgbClr val="d6ecff"/>
                </a:solidFill>
                <a:latin typeface="Consolas"/>
              </a:rPr>
              <a:t>                        </a:t>
            </a:r>
            <a:r>
              <a:rPr b="0" lang="ru-RU" sz="3800" spc="-151" strike="noStrike">
                <a:solidFill>
                  <a:srgbClr val="d6ecff"/>
                </a:solidFill>
                <a:latin typeface="Consolas"/>
              </a:rPr>
              <a:t>Слайд 3</a:t>
            </a:r>
            <a:endParaRPr b="0" lang="ru-RU" sz="3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Слайд 4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857240" y="4143240"/>
            <a:ext cx="4928760" cy="40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5" name="Picture 2" descr="&amp;Scy;&amp;khcy;&amp;iecy;&amp;mcy;&amp;acy; &amp;fcy;&amp;acy;&amp;zcy;&amp;ocy;&amp;vcy;&amp;ycy;&amp;khcy; &amp;pcy;&amp;iecy;&amp;rcy;&amp;iecy;&amp;khcy;&amp;ocy;&amp;dcy;&amp;ocy;&amp;vcy; &amp;gcy;&amp;acy;&amp;zcy; (&amp;pcy;&amp;acy;&amp;rcy;) &amp;zhcy;&amp;icy;&amp;dcy;&amp;kcy;&amp;ocy;&amp;scy;&amp;tcy;&amp;softcy; &amp;tcy;&amp;vcy;&amp;iecy;&amp;rcy;&amp;dcy;&amp;ocy;&amp;iecy; &amp;tcy;&amp;iecy;&amp;lcy;&amp;ocy; &amp;kcy;&amp;ocy;&amp;ncy;&amp;dcy;&amp;iecy;&amp;ncy;&amp;scy;&amp;acy;&amp;tscy;&amp;icy;&amp;yacy; &amp;pcy;&amp;acy;&amp;rcy;&amp;ocy;&amp;ocy;&amp;bcy;&amp;rcy;&amp;acy;&amp;zcy;&amp;ocy;&amp;vcy;&amp;acy;&amp;ncy;&amp;icy;&amp;iecy; (&amp;icy;&amp;scy;&amp;pcy;&amp;acy;&amp;rcy;&amp;iecy;&amp;ncy;&amp;icy;&amp;iecy;, &amp;kcy;&amp;icy;&amp;pcy;&amp;iecy;&amp;ncy;&amp;icy;&amp;iecy;) &amp;pcy;&amp;lcy;&amp;acy;&amp;vcy;&amp;lcy;&amp;iecy;&amp;ncy;&amp;icy;&amp;iecy; &amp;dcy;&amp;iecy;&amp;scy;&amp;ucy;&amp;bcy;&amp;lcy;&amp;icy;&amp;mcy;&amp;acy;&amp;tscy;&amp;icy;&amp;yacy; &amp;scy;&amp;ucy;&amp;bcy;&amp;lcy;&amp;icy;&amp;mcy;&amp;acy;&amp;tscy;&amp;icy;&amp;yacy; (&amp;vcy;&amp;ocy;&amp;zcy;&amp;gcy;&amp;ocy;&amp;ncy;&amp;kcy;&amp;acy;) "/>
          <p:cNvPicPr/>
          <p:nvPr/>
        </p:nvPicPr>
        <p:blipFill>
          <a:blip r:embed="rId1"/>
          <a:stretch/>
        </p:blipFill>
        <p:spPr>
          <a:xfrm>
            <a:off x="1357200" y="1357200"/>
            <a:ext cx="6286320" cy="41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Слайд 5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2920" y="7572240"/>
            <a:ext cx="764352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8" name="Picture 2" descr="http://www.myshared.ru/preview/58324/slide_3.png"/>
          <p:cNvPicPr/>
          <p:nvPr/>
        </p:nvPicPr>
        <p:blipFill>
          <a:blip r:embed="rId1"/>
          <a:stretch/>
        </p:blipFill>
        <p:spPr>
          <a:xfrm>
            <a:off x="928800" y="1785960"/>
            <a:ext cx="7000560" cy="4571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www.myshared.ru/preview/58324/slide_3.png"/>
          <p:cNvPicPr/>
          <p:nvPr/>
        </p:nvPicPr>
        <p:blipFill>
          <a:blip r:embed="rId2"/>
          <a:stretch/>
        </p:blipFill>
        <p:spPr>
          <a:xfrm>
            <a:off x="785880" y="1714320"/>
            <a:ext cx="7000560" cy="4571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myshared.ru/preview/58324/slide_3.png"/>
          <p:cNvPicPr/>
          <p:nvPr/>
        </p:nvPicPr>
        <p:blipFill>
          <a:blip r:embed="rId3"/>
          <a:stretch/>
        </p:blipFill>
        <p:spPr>
          <a:xfrm>
            <a:off x="785880" y="1714320"/>
            <a:ext cx="70005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Слайд 6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 rot="21142800">
            <a:off x="1558440" y="4939200"/>
            <a:ext cx="5116680" cy="11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3" name="Picture 2" descr="&amp;Icy;&amp;scy;&amp;pcy;&amp;acy;&amp;rcy;&amp;iecy;&amp;ncy;&amp;icy;&amp;iecy; &amp;Icy;&amp;scy;&amp;pcy;&amp;acy;&amp;rcy;&amp;iecy;&amp;ncy;&amp;icy;&amp;iecy; – &amp;pcy;&amp;acy;&amp;rcy;&amp;ocy;&amp;ocy;&amp;bcy;&amp;rcy;&amp;acy;&amp;zcy;&amp;ocy;&amp;vcy;&amp;acy;&amp;ncy;&amp;icy;&amp;iecy;, &amp;pcy;&amp;rcy;&amp;ocy;&amp;icy;&amp;scy;&amp;khcy;&amp;ocy;&amp;dcy;&amp;yacy;&amp;shchcy;&amp;iecy;&amp;iecy; &amp;scy; &amp;pcy;&amp;ocy;&amp;vcy;&amp;iecy;&amp;rcy;&amp;khcy;&amp;ncy;&amp;ocy;&amp;scy;&amp;tcy;&amp;icy; &amp;zhcy;&amp;icy;&amp;dcy;&amp;kcy;&amp;ocy;&amp;scy;&amp;tcy;&amp;icy;. &amp;Scy;&amp;ocy;&amp;pcy;&amp;rcy;&amp;ocy;&amp;vcy;&amp;ocy;&amp;zhcy;&amp;dcy;&amp;acy;&amp;iecy;&amp;tcy;&amp;scy;&amp;yacy; &amp;pcy;&amp;ocy;&amp;gcy;&amp;lcy;&amp;ocy;&amp;shchcy;&amp;iecy;&amp;ncy;&amp;icy;&amp;iecy;&amp;mcy; &amp;tcy;&amp;iecy;&amp;pcy;&amp;lcy;&amp;acy; (&amp;pcy;&amp;rcy;&amp;ocy;&amp;icy;&amp;scy;&amp;khcy;&amp;ocy;&amp;dcy;&amp;icy;&amp;tcy; &amp;pcy;&amp;rcy;&amp;icy; &amp;lcy;&amp;yucy;&amp;bcy;&amp;ocy;&amp;jcy; &amp;tcy;&amp;iecy;&amp;mcy;&amp;pcy;&amp;iecy;&amp;rcy;&amp;acy;&amp;tcy;&amp;ucy;&amp;rcy;&amp;iecy;)"/>
          <p:cNvPicPr/>
          <p:nvPr/>
        </p:nvPicPr>
        <p:blipFill>
          <a:blip r:embed="rId1"/>
          <a:stretch/>
        </p:blipFill>
        <p:spPr>
          <a:xfrm>
            <a:off x="1500120" y="1143000"/>
            <a:ext cx="60717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Слайд 7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71800" y="6643800"/>
            <a:ext cx="8229240" cy="25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6" name="Picture 2" descr="&amp;Icy;&amp;ncy;&amp;tcy;&amp;iecy;&amp;ncy;&amp;scy;&amp;icy;&amp;vcy;&amp;ncy;&amp;ocy;&amp;scy;&amp;tcy;&amp;softcy; (&amp;scy;&amp;kcy;&amp;ocy;&amp;rcy;&amp;ocy;&amp;scy;&amp;tcy;&amp;softcy;) &amp;icy;&amp;scy;&amp;pcy;&amp;acy;&amp;rcy;&amp;iecy;&amp;ncy;&amp;icy;&amp;yacy; &amp;zcy;&amp;acy;&amp;vcy;&amp;icy;&amp;scy;&amp;icy;&amp;tcy; &amp;ocy;&amp;tcy;: &amp;Rcy;&amp;ocy;&amp;dcy;&amp;acy; &amp;zhcy;&amp;icy;&amp;dcy;&amp;kcy;&amp;ocy;&amp;scy;&amp;tcy;&amp;icy; &amp;Tcy;&amp;iecy;&amp;mcy;&amp;pcy;&amp;iecy;&amp;rcy;&amp;acy;&amp;tcy;&amp;ucy;&amp;rcy;&amp;ycy; &amp;zhcy;&amp;icy;&amp;dcy;&amp;kcy;&amp;ocy;&amp;scy;&amp;tcy;&amp;icy; &amp;Pcy;&amp;lcy;&amp;ocy;&amp;shchcy;&amp;acy;&amp;dcy;&amp;icy; &amp;pcy;&amp;ocy;&amp;vcy;&amp;iecy;&amp;rcy;&amp;khcy;&amp;ncy;&amp;ocy;&amp;scy;&amp;tcy;&amp;icy; &amp;zhcy;&amp;icy;&amp;dcy;&amp;kcy;&amp;ocy;&amp;scy;&amp;tcy;&amp;icy; &amp;Ocy;&amp;tcy; &amp;scy;&amp;kcy;&amp;ocy;&amp;rcy;&amp;ocy;&amp;scy;&amp;tcy;&amp;icy; &amp;dcy;&amp;vcy;&amp;icy;&amp;zhcy;&amp;iecy;&amp;ncy;&amp;icy;&amp;yacy; &amp;vcy;&amp;ocy;&amp;zcy;&amp;dcy;&amp;ucy;&amp;khcy;&amp;acy; &amp;ncy;&amp;acy;&amp;dcy; &amp;pcy;&amp;ocy;&amp;vcy;&amp;iecy;&amp;rcy;&amp;khcy;"/>
          <p:cNvPicPr/>
          <p:nvPr/>
        </p:nvPicPr>
        <p:blipFill>
          <a:blip r:embed="rId1"/>
          <a:stretch/>
        </p:blipFill>
        <p:spPr>
          <a:xfrm>
            <a:off x="1571760" y="1643040"/>
            <a:ext cx="650052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Слайд 8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7120" y="5669280"/>
            <a:ext cx="630036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9" name="Picture 2" descr="&amp;Kcy;&amp;ocy;&amp;ncy;&amp;dcy;&amp;iecy;&amp;ncy;&amp;scy;&amp;acy;&amp;tscy;&amp;icy;&amp;yacy; – &amp;Kcy;&amp;ocy;&amp;ncy;&amp;dcy;&amp;iecy;&amp;ncy;&amp;scy;&amp;acy;&amp;tscy;&amp;icy;&amp;yacy; – &amp;yacy;&amp;vcy;&amp;lcy;&amp;iecy;&amp;ncy;&amp;icy;&amp;iecy; &amp;pcy;&amp;rcy;&amp;iecy;&amp;vcy;&amp;rcy;&amp;acy;&amp;shchcy;&amp;iecy;&amp;ncy;&amp;icy;&amp;yacy; &amp;pcy;&amp;acy;&amp;rcy;&amp;acy; &amp;vcy; &amp;zhcy;&amp;icy;&amp;dcy;&amp;kcy;&amp;ocy;&amp;scy;&amp;tcy;&amp;softcy;. &amp;Scy;&amp;ocy;&amp;pcy;&amp;rcy;&amp;ocy;&amp;vcy;&amp;ocy;&amp;zhcy;&amp;dcy;&amp;acy;&amp;iecy;&amp;tcy;&amp;scy;&amp;yacy; &amp;vcy;&amp;ycy;&amp;dcy;&amp;iecy;&amp;lcy;&amp;iecy;&amp;ncy;&amp;icy;&amp;iecy;&amp;mcy; &amp;tcy;&amp;iecy;&amp;pcy;&amp;lcy;&amp;acy;"/>
          <p:cNvPicPr/>
          <p:nvPr/>
        </p:nvPicPr>
        <p:blipFill>
          <a:blip r:embed="rId1"/>
          <a:stretch/>
        </p:blipFill>
        <p:spPr>
          <a:xfrm>
            <a:off x="1071360" y="1143000"/>
            <a:ext cx="66434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Слайд 9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4286160"/>
            <a:ext cx="8229240" cy="18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2" name="Picture 2" descr="http://im8-tub-ru.yandex.net/i?id=21661231-19-72&amp;n=17"/>
          <p:cNvPicPr/>
          <p:nvPr/>
        </p:nvPicPr>
        <p:blipFill>
          <a:blip r:embed="rId1"/>
          <a:stretch/>
        </p:blipFill>
        <p:spPr>
          <a:xfrm>
            <a:off x="1857240" y="1143000"/>
            <a:ext cx="6071760" cy="478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ttp://im8-tub-ru.yandex.net/i?id=21661231-19-72&amp;n=17"/>
          <p:cNvPicPr/>
          <p:nvPr/>
        </p:nvPicPr>
        <p:blipFill>
          <a:blip r:embed="rId2"/>
          <a:stretch/>
        </p:blipFill>
        <p:spPr>
          <a:xfrm>
            <a:off x="-142920" y="642960"/>
            <a:ext cx="3638160" cy="3714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ttp://im8-tub-ru.yandex.net/i?id=21661231-19-72&amp;n=17"/>
          <p:cNvPicPr/>
          <p:nvPr/>
        </p:nvPicPr>
        <p:blipFill>
          <a:blip r:embed="rId3"/>
          <a:stretch/>
        </p:blipFill>
        <p:spPr>
          <a:xfrm>
            <a:off x="5715000" y="357120"/>
            <a:ext cx="320940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tro</Template>
  <TotalTime>150</TotalTime>
  <Application>LibreOffice/7.4.7.2$Linux_X86_64 LibreOffice_project/40$Build-2</Application>
  <AppVersion>15.0000</AppVersion>
  <Words>139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3T12:30:3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