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A8D-2DDC-44B2-8A1A-5B52050A0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722-004A-4AEA-A5D7-3C74B25B9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C96-7C85-4554-A074-155A32FEC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3658-971C-48E1-A5FC-89A59F27C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D7B0-725C-4B59-911E-5067E5AEF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66A-7E98-4B55-B797-3C024D29F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разных районов создавали свою культуру ( в том числе жилища) непохожую на культуру соседей, но тесно связанную с особенностями тех природных условий где они прож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54C-2ACC-44D2-85E3-DC318371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EBB-D929-4320-BD55-2C2F24E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AAD-2CA6-42E6-A952-5C0C93B7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1F4-5B3E-40EA-BA11-3E6D5846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DEE-C9D8-413F-B892-43889B5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D94-852A-4F66-BACA-4A1D2BE5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349-DF0D-4841-A452-6E7FF20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8C6-BC07-477D-81D2-BE34B813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A20-2C04-497B-BECF-B8E6C755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208-97D8-4F95-AB25-8C6626B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D75-6941-4C8F-A787-F7BAA487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F13-DA75-4B2F-999D-CCB8209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FF0-C9D9-4681-B5E3-41C94FE4D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20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 rot="21433800">
            <a:off x="324000" y="4042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гда ли дом – крепость?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843280" y="3716280"/>
            <a:ext cx="63007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Arial Black"/>
              </a:rPr>
              <a:t>Выполнили: Алексеева Анна</a:t>
            </a:r>
            <a:r>
              <a:rPr b="1" lang="en-US" sz="2400" spc="-1" strike="noStrike">
                <a:solidFill>
                  <a:srgbClr val="33ccff"/>
                </a:solidFill>
                <a:latin typeface="Arial Black"/>
              </a:rPr>
              <a:t> 5</a:t>
            </a:r>
            <a:r>
              <a:rPr b="1" lang="ru-RU" sz="2400" spc="-1" strike="noStrike">
                <a:solidFill>
                  <a:srgbClr val="33ccff"/>
                </a:solidFill>
                <a:latin typeface="Arial Black"/>
              </a:rPr>
              <a:t> «А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Arial Black"/>
              </a:rPr>
              <a:t>                        </a:t>
            </a:r>
            <a:r>
              <a:rPr b="1" lang="ru-RU" sz="2400" spc="-1" strike="noStrike">
                <a:solidFill>
                  <a:srgbClr val="33ccff"/>
                </a:solidFill>
                <a:latin typeface="Arial Black"/>
              </a:rPr>
              <a:t>Елин Егор  «5 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Arial Black"/>
              </a:rPr>
              <a:t>                           </a:t>
            </a:r>
            <a:r>
              <a:rPr b="1" lang="ru-RU" sz="2400" spc="-1" strike="noStrike">
                <a:solidFill>
                  <a:srgbClr val="33ccff"/>
                </a:solidFill>
                <a:latin typeface="Arial Black"/>
              </a:rPr>
              <a:t>МБОУ «СОШ № 1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Изображение 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755640" y="2602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Исследовать, как человек приспособился к разным климатическим условиям с помощью жил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39640" y="1916280"/>
            <a:ext cx="777744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литературу, связанную с жилище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внить строительный материал, используемый для строительства жилища в разных климатических услов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исследование среди учащихся 5-х классов по данному вопро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ормить практический материал в занимательной форме по данной теме для использования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$А$О$1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2124000" y="1197000"/>
            <a:ext cx="586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Дом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1640" y="2924280"/>
            <a:ext cx="709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Какие дома строят для себя люди, зависит от климата, а также от того, живут ли они в городе или в сельск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В холодных краях у домов обычно бывает фундамент и двойные оконные ра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В жарких странах дома обеспечивают защиту от солн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Там, где выпадает много дождей, крыши всегда наклонные, чтобы с них легко стекала</a:t>
            </a:r>
            <a:r>
              <a:rPr b="1" lang="ru-RU" sz="1800" spc="-1" strike="noStrike">
                <a:solidFill>
                  <a:srgbClr val="000000"/>
                </a:solidFill>
                <a:latin typeface="Copperplate Gothic Bold"/>
              </a:rPr>
              <a:t>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$О$А1-3"/>
          <p:cNvPicPr/>
          <p:nvPr/>
        </p:nvPicPr>
        <p:blipFill>
          <a:blip r:embed="rId1"/>
          <a:stretch/>
        </p:blipFill>
        <p:spPr>
          <a:xfrm>
            <a:off x="-2484360" y="-1251000"/>
            <a:ext cx="1463040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611280" y="765000"/>
            <a:ext cx="741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оительный материа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95280" y="2924280"/>
            <a:ext cx="96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иродная среда диктует и строительный матери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Камень – в го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Глина, трава утрамбованная земля – в сухих степях, полупустынях и пустын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Стебли бамбука и листья пальм – в тропических зо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рочные породы дерева – в лесных зо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Лёд – в Гренландии (иглу эскимос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rcRect l="0" t="0" r="1012" b="0"/>
          <a:stretch/>
        </p:blipFill>
        <p:spPr>
          <a:xfrm>
            <a:off x="539640" y="1125360"/>
            <a:ext cx="8244000" cy="5472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8"/>
          <p:cNvSpPr txBox="1"/>
          <p:nvPr/>
        </p:nvSpPr>
        <p:spPr>
          <a:xfrm>
            <a:off x="684360" y="189000"/>
            <a:ext cx="7800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 в разных климатических условиях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9" descr="j0250184"/>
          <p:cNvPicPr/>
          <p:nvPr/>
        </p:nvPicPr>
        <p:blipFill>
          <a:blip r:embed="rId2"/>
          <a:stretch/>
        </p:blipFill>
        <p:spPr>
          <a:xfrm>
            <a:off x="6583320" y="4292640"/>
            <a:ext cx="25606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14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73" name="WordArt 6"/>
          <p:cNvSpPr txBox="1"/>
          <p:nvPr/>
        </p:nvSpPr>
        <p:spPr>
          <a:xfrm>
            <a:off x="324000" y="404640"/>
            <a:ext cx="748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ключ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00000" y="234936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Жители разных районов создавали свою культуру ( в том числе жилища) непохожую на культуру соседей, но тесно связанную с особенностями тех природных условий где они прож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я для детей Экология том 19, «Аванта+.» Москва, 2001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познаю мир. Страны и народы. АСТ, Москва, 1999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 в занимательных экспериментах. РОСМЭН, Москва, 2006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урсы Интерн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ик «География материков» 7 класс, 2002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627280" y="0"/>
            <a:ext cx="3971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27:49Z</dcterms:created>
  <dc:creator>home</dc:creator>
  <dc:description/>
  <dc:language>en-US</dc:language>
  <cp:lastModifiedBy>7</cp:lastModifiedBy>
  <dcterms:modified xsi:type="dcterms:W3CDTF">2013-01-27T02:55:31Z</dcterms:modified>
  <cp:revision>14</cp:revision>
  <dc:subject/>
  <dc:title>Слайд 1</dc:title>
</cp:coreProperties>
</file>