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33B4-836D-41E8-AA2D-8EC837F4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4A73-A7A2-4842-8966-7649A81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D5B8-E865-4723-9BD3-D8E8880D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3E11-BFD0-43E9-8213-235C62A4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368-3072-44BE-B1F6-CB9BB322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CB9-0180-4C85-8265-182F629E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6675-355F-4395-9CE7-990B0613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51A5-DE6A-46E0-94DF-86C36757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C924-C233-4F28-BFCC-0B55291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DE5-0E95-42CE-BF9E-3D0A0AA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793A-569D-427E-BFBA-6C15F84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DA5B-69F9-46F7-B951-7F47383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94CB-D6C9-4F75-A316-4BFCD7B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54ED-1E93-422C-BEDF-3D1B0A4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24D-2253-49E5-9DAB-68646892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7DD3-F028-4876-A1CF-86B9C575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06B-72A0-493F-A6F2-C0CC0C12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4B15-90D1-449A-982F-3D2E9C9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A921-BA0D-42F6-8200-9F925C8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5E9C-5705-4489-B37D-B041C528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87A5-2E76-4B32-ACDB-DB0C8A6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9E24-2DE4-4C75-A517-911E7CF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1EDF-D9BF-42D1-AAF5-5DBE599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2333-A633-49EE-85FC-00030AA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415-A9CA-44C4-B2FF-0B25D4410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F33-9C98-4B7E-856D-0FA165F5EB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8;&#1077;" TargetMode="External"/><Relationship Id="rId2" Type="http://schemas.openxmlformats.org/officeDocument/2006/relationships/hyperlink" Target="http://ru.wikipedia.org/wiki/&#1058;&#1080;&#1093;&#1080;&#1081;_&#1086;&#1082;&#1077;&#1072;&#1085;" TargetMode="External"/><Relationship Id="rId3" Type="http://schemas.openxmlformats.org/officeDocument/2006/relationships/hyperlink" Target="http://ru.wikipedia.org/wiki/&#1057;&#1087;&#1080;&#1089;&#1086;&#1082;_&#1086;&#1089;&#1090;&#1088;&#1086;&#1074;&#1086;&#1074;_&#1071;&#1087;&#1086;&#1085;&#1080;&#1080;" TargetMode="External"/><Relationship Id="rId4" Type="http://schemas.openxmlformats.org/officeDocument/2006/relationships/hyperlink" Target="http://ru.wikipedia.org/wiki/&#1057;&#1072;&#1093;&#1072;&#1083;&#1080;&#1085;" TargetMode="External"/><Relationship Id="rId5" Type="http://schemas.openxmlformats.org/officeDocument/2006/relationships/hyperlink" Target="http://ru.wikipedia.org/wiki/&#1050;&#1086;&#1088;&#1077;&#1081;&#1089;&#1082;&#1080;&#1081;_&#1087;&#1088;&#1086;&#1083;&#1080;&#1074;" TargetMode="External"/><Relationship Id="rId6" Type="http://schemas.openxmlformats.org/officeDocument/2006/relationships/hyperlink" Target="http://ru.wikipedia.org/wiki/&#1057;&#1072;&#1085;&#1075;&#1072;&#1088;&#1089;&#1082;&#1080;&#1081;_&#1087;&#1088;&#1086;&#1083;&#1080;&#1074;" TargetMode="External"/><Relationship Id="rId7" Type="http://schemas.openxmlformats.org/officeDocument/2006/relationships/hyperlink" Target="http://ru.wikipedia.org/wiki/&#1055;&#1088;&#1086;&#1083;&#1080;&#1074;_&#1051;&#1072;&#1087;&#1077;&#1088;&#1091;&#1079;&#1072;" TargetMode="External"/><Relationship Id="rId8" Type="http://schemas.openxmlformats.org/officeDocument/2006/relationships/hyperlink" Target="http://ru.wikipedia.org/wiki/&#1055;&#1088;&#1086;&#1083;&#1080;&#1074;_&#1053;&#1077;&#1074;&#1077;&#1083;&#1100;&#1089;&#1082;&#1086;&#1075;&#1086;" TargetMode="External"/><Relationship Id="rId9" Type="http://schemas.openxmlformats.org/officeDocument/2006/relationships/hyperlink" Target="http://ru.wikipedia.org/wiki/&#1056;&#1086;&#1089;&#1089;&#1080;&#1103;" TargetMode="External"/><Relationship Id="rId10" Type="http://schemas.openxmlformats.org/officeDocument/2006/relationships/hyperlink" Target="http://ru.wikipedia.org/wiki/&#1071;&#1087;&#1086;&#1085;&#1080;&#1103;" TargetMode="External"/><Relationship Id="rId11" Type="http://schemas.openxmlformats.org/officeDocument/2006/relationships/hyperlink" Target="http://ru.wikipedia.org/wiki/&#1056;&#1077;&#1089;&#1087;&#1091;&#1073;&#1083;&#1080;&#1082;&#1072;_&#1050;&#1086;&#1088;&#1077;&#1103;" TargetMode="External"/><Relationship Id="rId12" Type="http://schemas.openxmlformats.org/officeDocument/2006/relationships/hyperlink" Target="http://ru.wikipedia.org/wiki/&#1050;&#1053;&#1044;&#1056;" TargetMode="External"/><Relationship Id="rId13" Type="http://schemas.openxmlformats.org/officeDocument/2006/relationships/hyperlink" Target="http://ru.wikipedia.org/wiki/&#1050;&#1091;&#1088;&#1086;&#1089;&#1080;&#1086;" TargetMode="External"/><Relationship Id="rId14" Type="http://schemas.openxmlformats.org/officeDocument/2006/relationships/hyperlink" Target="http://toolserver.org/~geohack/geohack.php?language=ru&amp;pagename=&#1071;&#1087;&#1086;&#1085;&#1089;&#1082;&#1086;&#1077;_&#1084;&#1086;&#1088;&#1077;&amp;params=41.333333334333_N_137.700000001_E" TargetMode="External"/><Relationship Id="rId15" Type="http://schemas.openxmlformats.org/officeDocument/2006/relationships/hyperlink" Target="http://maps.google.com/maps?ll=41.333333334333,137.700000001&amp;q=41.333333334333,137.700000001&amp;spn=0.03,0.03&amp;t=k&amp;hl=ru" TargetMode="External"/><Relationship Id="rId16" Type="http://schemas.openxmlformats.org/officeDocument/2006/relationships/hyperlink" Target="http://www.openstreetmap.org/?mlat=41.333333334333&amp;mlon=137.700000001&amp;zoom=14" TargetMode="Externa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2;&#1091;&#1089;&#1089;&#1086;&#1085;" TargetMode="External"/><Relationship Id="rId3" Type="http://schemas.openxmlformats.org/officeDocument/2006/relationships/hyperlink" Target="http://ru.wikipedia.org/wiki/&#1058;&#1072;&#1081;&#1092;&#1091;&#1085;" TargetMode="External"/><Relationship Id="rId4" Type="http://schemas.openxmlformats.org/officeDocument/2006/relationships/hyperlink" Target="http://ru.wikipedia.org/wiki/&#1058;&#1072;&#1081;&#1092;&#1091;&#1085;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понское мор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1150467"/>
          <p:cNvPicPr/>
          <p:nvPr/>
        </p:nvPicPr>
        <p:blipFill>
          <a:blip r:embed="rId1"/>
          <a:stretch/>
        </p:blipFill>
        <p:spPr>
          <a:xfrm>
            <a:off x="324000" y="981000"/>
            <a:ext cx="4032000" cy="289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7" descr="7"/>
          <p:cNvPicPr/>
          <p:nvPr/>
        </p:nvPicPr>
        <p:blipFill>
          <a:blip r:embed="rId2"/>
          <a:stretch/>
        </p:blipFill>
        <p:spPr>
          <a:xfrm>
            <a:off x="468360" y="3645000"/>
            <a:ext cx="374472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9" descr="gordon_01"/>
          <p:cNvPicPr/>
          <p:nvPr/>
        </p:nvPicPr>
        <p:blipFill>
          <a:blip r:embed="rId3"/>
          <a:stretch/>
        </p:blipFill>
        <p:spPr>
          <a:xfrm>
            <a:off x="4859280" y="981000"/>
            <a:ext cx="4103640" cy="2895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11" descr="288749"/>
          <p:cNvPicPr/>
          <p:nvPr/>
        </p:nvPicPr>
        <p:blipFill>
          <a:blip r:embed="rId4"/>
          <a:stretch/>
        </p:blipFill>
        <p:spPr>
          <a:xfrm>
            <a:off x="5003640" y="3645000"/>
            <a:ext cx="3672000" cy="2477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e5ff"/>
                </a:solidFill>
                <a:uFillTx/>
                <a:latin typeface="Garamond"/>
              </a:rPr>
              <a:t>Цель исследования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: Изучить  данные о географическом расположении, подводном мире северных и южных районов Японского моря и экономическом значении для России.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572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Японское мо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климат, течения, ледовая обстановка, флора и фауна, экономическое значение и экология Японского мор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Японское мор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имеет важное экономическое и экологическое значение для России и стран, берега которых омыв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ческое распо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244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Япо́нское мо́ре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 —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море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в составе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Тихого океана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, отделяется от него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Японскими островам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и островом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Сахали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 Связано с другими морями и Тихим океаном через 4 пролива: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Корейский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(Цусимский)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Сангарский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(Цугару)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Лаперуза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(Соя)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Невельского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(Мамия). Омывает берега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Росси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Япони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Республики Корея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КНДР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 На юге заходит ветвь тёплого течени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Куросио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лощадь — 1062 тыс. км². Наибольшая глубина — 3742 м (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41°20′ с. ш. 137°42′ в. д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(G)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(O)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). Северная часть моря зимой замерзае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Файл:Японское море.jpg"/>
          <p:cNvPicPr/>
          <p:nvPr/>
        </p:nvPicPr>
        <p:blipFill>
          <a:blip r:embed="rId17"/>
          <a:stretch/>
        </p:blipFill>
        <p:spPr>
          <a:xfrm>
            <a:off x="2484360" y="1305000"/>
            <a:ext cx="6197760" cy="505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имат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358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Климат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Японского моря умеренный, муссонный. Северная и западная части моря значительно холоднее южной и восточной. В самые холодные месяцы (январь—февраль) средняя температура воздуха в северной части моря около −20 °C, а на юге около +5 °C. Летний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муссон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приносит с собой тёплый и влажный воздух. Средняя температура воздуха самого тёплого месяца (августа) в северной части примерно +15 °C, в южных районах около +25 °C. Осенью увеличивается количество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тайфунов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, вызываемых ураганными ветрами. Наиболее крупные волны имеют высоту 8—10 м, а при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тайфунах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максимальные волны достигают высоты 12 м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405786"/>
          <p:cNvPicPr/>
          <p:nvPr/>
        </p:nvPicPr>
        <p:blipFill>
          <a:blip r:embed="rId5"/>
          <a:stretch/>
        </p:blipFill>
        <p:spPr>
          <a:xfrm>
            <a:off x="3203640" y="1989000"/>
            <a:ext cx="575928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3" name="Picture 8" descr="1311248090_typhoontokage_2004293"/>
          <p:cNvPicPr/>
          <p:nvPr/>
        </p:nvPicPr>
        <p:blipFill>
          <a:blip r:embed="rId6"/>
          <a:stretch/>
        </p:blipFill>
        <p:spPr>
          <a:xfrm>
            <a:off x="395280" y="1989000"/>
            <a:ext cx="2952720" cy="291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11640" y="475920"/>
            <a:ext cx="2601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оверхностные течения образуют круговорот, который складывается из тёплого Цусимского течения на востоке и холодного Приморского на западе. Зимой температура поверхностных вод от −1—0 °C на севере и северо-западе повышается до +10—+14 °C на юге и юго-востоке. Весенний прогрев влечёт за собой довольно быстрое повышение температуры воды по всему морю. Летом температура воды на поверхности повышается от 18—20 °C на севере до 25—27 °C на юге моря. Вертикальное распределение температуры неодинаково в разные сезоны в разных районах моря. Летом в северных районах моря температура 18—10 °C держится в слое 10—15 м, затем она резко снижается до +4 °C на горизонте 50 м и, начиная с глубин 250 м, температура остаётся постоянной около +1 °C. В центральной и южной частях моря температура воды довольно плавно понижается с глубиной и на горизонте 200 м достигает значений +6 °C, начиная с глубин 250 м температура держится около 0 °C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geog2"/>
          <p:cNvPicPr/>
          <p:nvPr/>
        </p:nvPicPr>
        <p:blipFill>
          <a:blip r:embed="rId1"/>
          <a:stretch/>
        </p:blipFill>
        <p:spPr>
          <a:xfrm>
            <a:off x="1835280" y="907920"/>
            <a:ext cx="3808440" cy="546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ливы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5516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риливы в Японском море выражены отчётливо, в большей или меньшей степени в различных районах. Наибольшие колебания уровня отмечаются в крайних северных и крайних южных районах. Сезонные колебания уровня моря происходят одновременно по всей поверхности моря, максимальный подъем уровня наблюдается лет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17"/>
          <p:cNvPicPr/>
          <p:nvPr/>
        </p:nvPicPr>
        <p:blipFill>
          <a:blip r:embed="rId1"/>
          <a:stretch/>
        </p:blipFill>
        <p:spPr>
          <a:xfrm>
            <a:off x="1332000" y="1125360"/>
            <a:ext cx="6381720" cy="424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3:11:28Z</dcterms:created>
  <dc:creator>Ткачев Юлиан</dc:creator>
  <dc:description/>
  <dc:language>en-US</dc:language>
  <cp:lastModifiedBy>Елена</cp:lastModifiedBy>
  <dcterms:modified xsi:type="dcterms:W3CDTF">2013-09-27T11:32:37Z</dcterms:modified>
  <cp:revision>30</cp:revision>
  <dc:subject>Японское море</dc:subject>
  <dc:title>Японское море</dc:title>
</cp:coreProperties>
</file>