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5287-ECDF-455A-BCA6-9B74626D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CED02-AF6D-4B77-8A98-41665C40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169E-92EF-4F32-BAD8-D369EB29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1FDA-2D55-472B-B044-6A94263B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21FC-02AF-4119-BDEF-D2734720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D0B2-0644-46FC-AA69-A4D2B0E6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9693-454A-4824-9F5D-2B08BA2C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B016-C3DA-49AD-8AF2-EED177D4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7388-CFED-4B67-AA32-09602A53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F2A2-FDB7-43A6-8165-F4AA1024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C93B-5D52-48F0-8CA2-FEF78EBB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2623-F37B-44BA-B7A6-57C9F522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EB5F-5184-45DD-A46D-E82AE0BF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BF33-2545-4100-B2FD-3B9B098A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F570-42FF-43DD-BC20-F4172906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A084-368D-437F-AB24-F62A934E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93A1-43F4-4E88-BA62-D622C7C9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1A91-B08A-4A7E-BE80-F0C05454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82E3C-4FB7-4035-96EB-DC41A48B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CE19-E4EE-4A87-B4E0-521E9EF6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98DB-6323-4325-A127-7F4E8904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CEAD-CD63-4F3A-99FE-0904239D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E1BE-78A1-4B5F-B5E2-6E62D3AC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9358-98A5-4FD2-96D1-604471B2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F04C-148C-431E-B470-DC24D4AC4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6401-A4D1-4DDD-B200-F23BC2ED70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90;&#1072;&#1088;&#1089;&#1082;&#1080;&#1081;_&#1087;&#1088;&#1086;&#1083;&#1080;&#1074;" TargetMode="External"/><Relationship Id="rId2" Type="http://schemas.openxmlformats.org/officeDocument/2006/relationships/hyperlink" Target="http://ru.wikipedia.org/wiki/&#1047;&#1072;&#1083;&#1080;&#1074;_&#1055;&#1077;&#1090;&#1088;&#1072;_&#1042;&#1077;&#1083;&#1080;&#1082;&#1086;&#1075;&#1086;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3;&#1086;&#1088;&#1072;" TargetMode="External"/><Relationship Id="rId2" Type="http://schemas.openxmlformats.org/officeDocument/2006/relationships/hyperlink" Target="http://ru.wikipedia.org/wiki/&#1060;&#1072;&#1091;&#1085;&#1072;" TargetMode="External"/><Relationship Id="rId3" Type="http://schemas.openxmlformats.org/officeDocument/2006/relationships/hyperlink" Target="http://ru.wikipedia.org/wiki/&#1042;&#1083;&#1072;&#1076;&#1080;&#1074;&#1086;&#1089;&#1090;&#1086;&#1082;" TargetMode="External"/><Relationship Id="rId4" Type="http://schemas.openxmlformats.org/officeDocument/2006/relationships/hyperlink" Target="http://ru.wikipedia.org/wiki/&#1044;&#1072;&#1083;&#1100;&#1085;&#1080;&#1081;_&#1042;&#1086;&#1089;&#1090;&#1086;&#1082;" TargetMode="External"/><Relationship Id="rId5" Type="http://schemas.openxmlformats.org/officeDocument/2006/relationships/hyperlink" Target="http://ru.wikipedia.org/wiki/&#1054;&#1089;&#1100;&#1084;&#1080;&#1085;&#1086;&#1075;" TargetMode="External"/><Relationship Id="rId6" Type="http://schemas.openxmlformats.org/officeDocument/2006/relationships/hyperlink" Target="http://ru.wikipedia.org/wiki/&#1050;&#1072;&#1083;&#1100;&#1084;&#1072;&#1088;" TargetMode="External"/><Relationship Id="rId7" Type="http://schemas.openxmlformats.org/officeDocument/2006/relationships/hyperlink" Target="http://ru.wikipedia.org/wiki/&#1040;&#1082;&#1090;&#1080;&#1085;&#1080;&#1103;" TargetMode="External"/><Relationship Id="rId8" Type="http://schemas.openxmlformats.org/officeDocument/2006/relationships/hyperlink" Target="http://ru.wikipedia.org/wiki/&#1041;&#1091;&#1088;&#1099;&#1077;_&#1074;&#1086;&#1076;&#1086;&#1088;&#1086;&#1089;&#1083;&#1080;" TargetMode="External"/><Relationship Id="rId9" Type="http://schemas.openxmlformats.org/officeDocument/2006/relationships/hyperlink" Target="http://ru.wikipedia.org/wiki/&#1051;&#1072;&#1084;&#1080;&#1085;&#1072;&#1088;&#1080;&#1103;" TargetMode="External"/><Relationship Id="rId10" Type="http://schemas.openxmlformats.org/officeDocument/2006/relationships/hyperlink" Target="http://ru.wikipedia.org/wiki/&#1041;&#1077;&#1083;&#1086;&#1077;_&#1084;&#1086;&#1088;&#1077;" TargetMode="External"/><Relationship Id="rId11" Type="http://schemas.openxmlformats.org/officeDocument/2006/relationships/hyperlink" Target="http://ru.wikipedia.org/wiki/&#1041;&#1072;&#1088;&#1077;&#1085;&#1094;&#1077;&#1074;&#1086;_&#1084;&#1086;&#1088;&#1077;" TargetMode="External"/><Relationship Id="rId12" Type="http://schemas.openxmlformats.org/officeDocument/2006/relationships/hyperlink" Target="http://ru.wikipedia.org/wiki/&#1052;&#1086;&#1088;&#1089;&#1082;&#1080;&#1077;_&#1079;&#1074;&#1105;&#1079;&#1076;&#1099;" TargetMode="External"/><Relationship Id="rId13" Type="http://schemas.openxmlformats.org/officeDocument/2006/relationships/hyperlink" Target="http://ru.wikipedia.org/wiki/&#1052;&#1086;&#1088;&#1089;&#1082;&#1080;&#1077;_&#1077;&#1078;&#1080;" TargetMode="External"/><Relationship Id="rId14" Type="http://schemas.openxmlformats.org/officeDocument/2006/relationships/hyperlink" Target="http://ru.wikipedia.org/wiki/&#1054;&#1092;&#1080;&#1091;&#1088;&#1099;" TargetMode="External"/><Relationship Id="rId15" Type="http://schemas.openxmlformats.org/officeDocument/2006/relationships/hyperlink" Target="http://ru.wikipedia.org/wiki/&#1053;&#1072;&#1089;&#1090;&#1086;&#1103;&#1097;&#1080;&#1077;_&#1082;&#1088;&#1077;&#1074;&#1077;&#1090;&#1082;&#1080;" TargetMode="External"/><Relationship Id="rId16" Type="http://schemas.openxmlformats.org/officeDocument/2006/relationships/hyperlink" Target="http://ru.wikipedia.org/wiki/&#1050;&#1088;&#1072;&#1073;&#1099;" TargetMode="External"/><Relationship Id="rId17" Type="http://schemas.openxmlformats.org/officeDocument/2006/relationships/image" Target="../media/image5.jpe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едовая обстано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22683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о ледовым условиям Японское море можно разделить на три района: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Татарский пролив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, район вдоль побережья Приморья от мыса Поворотного до мыса Белкина и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залив Петра Великого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. В зимний период лёд постоянно наблюдается только в Татарском проливе и заливе Петра Великого, на остальной акватории, за исключением закрытых бухт и заливов в северо-западной части моря, он формируется не всегда. Самым холодным районом является Татарский пролив, где в зимний сезон формируется и локализуется более 90 % всего льда, наблюдаемого в море. По многолетним данным продолжительность периода со льдом в заливе Петра Великого составляет 120 дней, а в Татарском проливе — от 40—80 дней в южной части пролива, до 140—170 дней в его северной части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7" descr="tat_prol_28022012"/>
          <p:cNvPicPr/>
          <p:nvPr/>
        </p:nvPicPr>
        <p:blipFill>
          <a:blip r:embed="rId3"/>
          <a:stretch/>
        </p:blipFill>
        <p:spPr>
          <a:xfrm>
            <a:off x="5796000" y="3789360"/>
            <a:ext cx="3211560" cy="2768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Picture 9" descr="yapon_more_02022012"/>
          <p:cNvPicPr/>
          <p:nvPr/>
        </p:nvPicPr>
        <p:blipFill>
          <a:blip r:embed="rId4"/>
          <a:stretch/>
        </p:blipFill>
        <p:spPr>
          <a:xfrm>
            <a:off x="2484360" y="3789360"/>
            <a:ext cx="3281400" cy="2828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Picture 11" descr="294"/>
          <p:cNvPicPr/>
          <p:nvPr/>
        </p:nvPicPr>
        <p:blipFill>
          <a:blip r:embed="rId5"/>
          <a:stretch/>
        </p:blipFill>
        <p:spPr>
          <a:xfrm>
            <a:off x="2340000" y="1413000"/>
            <a:ext cx="3240000" cy="219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5" name="Picture 5" descr="2286917"/>
          <p:cNvPicPr/>
          <p:nvPr/>
        </p:nvPicPr>
        <p:blipFill>
          <a:blip r:embed="rId6"/>
          <a:stretch/>
        </p:blipFill>
        <p:spPr>
          <a:xfrm>
            <a:off x="5003640" y="1197000"/>
            <a:ext cx="3827520" cy="253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лора и фаун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537372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Подводный мир северных и южных районов Японского моря сильно отличается. В холодных северных и северо-западных районах сформировалась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флор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 и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фаун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 умеренных широт, а в южной части моря, к югу от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Владивосток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, преобладает тепловодный фаунистический комплекс. У берегов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Дальнего Восток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 происходит смешение тепловодной и умеренной фауны. Здесь можно встретить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осьминогов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 и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кальмаров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 — типичных представителей тёплых морей. В то же время вертикальные стены, поросшие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актиниями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, сады из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бурых водорослей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 —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ламинарий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, — все это напоминает пейзажи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Белого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 и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Баренцева моря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. В Японском море огромное изобилие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морских звёзд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 и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морских ежей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, различной окраски и разных размеров, встречаются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офиуры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15"/>
              </a:rPr>
              <a:t>креветки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, небольшие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Garamond"/>
                <a:hlinkClick r:id="rId16"/>
              </a:rPr>
              <a:t>крабы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 (камчатские крабы здесь встречаются только в мае, а затем они уходят дальше в море). На скалах и камнях живут ярко-красные асцидии. Из моллюсков наиболее распространены гребешки. Из рыб часто встречаются морские собачки, морские ерши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flora_fauna_beloe3"/>
          <p:cNvPicPr/>
          <p:nvPr/>
        </p:nvPicPr>
        <p:blipFill>
          <a:blip r:embed="rId17"/>
          <a:stretch/>
        </p:blipFill>
        <p:spPr>
          <a:xfrm>
            <a:off x="6156360" y="1052640"/>
            <a:ext cx="2741400" cy="3967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9" name="Picture 7" descr="flora-fauna-pacific8"/>
          <p:cNvPicPr/>
          <p:nvPr/>
        </p:nvPicPr>
        <p:blipFill>
          <a:blip r:embed="rId18"/>
          <a:stretch/>
        </p:blipFill>
        <p:spPr>
          <a:xfrm>
            <a:off x="3276720" y="1052640"/>
            <a:ext cx="2711160" cy="398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0" name="Picture 9" descr="flora-fauna-pacific1"/>
          <p:cNvPicPr/>
          <p:nvPr/>
        </p:nvPicPr>
        <p:blipFill>
          <a:blip r:embed="rId19"/>
          <a:stretch/>
        </p:blipFill>
        <p:spPr>
          <a:xfrm>
            <a:off x="324000" y="1052640"/>
            <a:ext cx="2768400" cy="39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krab"/>
          <p:cNvPicPr/>
          <p:nvPr/>
        </p:nvPicPr>
        <p:blipFill>
          <a:blip r:embed="rId1"/>
          <a:stretch/>
        </p:blipFill>
        <p:spPr>
          <a:xfrm>
            <a:off x="611280" y="620640"/>
            <a:ext cx="3792600" cy="26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2" name="Picture 7" descr="8727"/>
          <p:cNvPicPr/>
          <p:nvPr/>
        </p:nvPicPr>
        <p:blipFill>
          <a:blip r:embed="rId2"/>
          <a:stretch/>
        </p:blipFill>
        <p:spPr>
          <a:xfrm>
            <a:off x="4932360" y="598320"/>
            <a:ext cx="3600360" cy="2768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3" name="Picture 9" descr="zvezda-02"/>
          <p:cNvPicPr/>
          <p:nvPr/>
        </p:nvPicPr>
        <p:blipFill>
          <a:blip r:embed="rId3"/>
          <a:stretch/>
        </p:blipFill>
        <p:spPr>
          <a:xfrm>
            <a:off x="611280" y="3735360"/>
            <a:ext cx="3816360" cy="257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4" name="Picture 11" descr="1854814"/>
          <p:cNvPicPr/>
          <p:nvPr/>
        </p:nvPicPr>
        <p:blipFill>
          <a:blip r:embed="rId4"/>
          <a:stretch/>
        </p:blipFill>
        <p:spPr>
          <a:xfrm>
            <a:off x="4932360" y="3716280"/>
            <a:ext cx="3600360" cy="257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907920"/>
            <a:ext cx="22431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ибрежные птицы  (в основном чистиковые и бакланы) летом в Японском море имеют ограниченное распространение, что связано с узостью шельфа и соответственно неритической зоны. Область их распространения узкой полосой окаймляет Японское море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северной половине моря — это кайры, очковый чистик, рогатый тупик, ипатка, обыкновенный старик, уссурийский и берингов бакланы, а в южной — старики обыкновенный и хохлатый, местами рогатый тупик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кеаническая группировка птиц в Японском море не выражена. Преобладающие в глубоководных районах моря буревестники и чайки более часто встречаются в водах шельф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6" descr="39243351_Cveta_marengo"/>
          <p:cNvPicPr/>
          <p:nvPr/>
        </p:nvPicPr>
        <p:blipFill>
          <a:blip r:embed="rId1"/>
          <a:stretch/>
        </p:blipFill>
        <p:spPr>
          <a:xfrm>
            <a:off x="2411280" y="333360"/>
            <a:ext cx="3184560" cy="3370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7" name="Picture 8" descr="JPG"/>
          <p:cNvPicPr/>
          <p:nvPr/>
        </p:nvPicPr>
        <p:blipFill>
          <a:blip r:embed="rId2"/>
          <a:stretch/>
        </p:blipFill>
        <p:spPr>
          <a:xfrm>
            <a:off x="5580000" y="260280"/>
            <a:ext cx="3033720" cy="2171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10" descr="d8d5321515de"/>
          <p:cNvPicPr/>
          <p:nvPr/>
        </p:nvPicPr>
        <p:blipFill>
          <a:blip r:embed="rId3"/>
          <a:stretch/>
        </p:blipFill>
        <p:spPr>
          <a:xfrm>
            <a:off x="5398920" y="2349360"/>
            <a:ext cx="3745080" cy="2498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9" name="Picture 13" descr="Japanese-Crested-Murrelet-300x181"/>
          <p:cNvPicPr/>
          <p:nvPr/>
        </p:nvPicPr>
        <p:blipFill>
          <a:blip r:embed="rId4"/>
          <a:stretch/>
        </p:blipFill>
        <p:spPr>
          <a:xfrm>
            <a:off x="5867280" y="4724280"/>
            <a:ext cx="2857680" cy="172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0" name="Picture 15" descr="minidemirsitekuslar16ts9"/>
          <p:cNvPicPr/>
          <p:nvPr/>
        </p:nvPicPr>
        <p:blipFill>
          <a:blip r:embed="rId5"/>
          <a:stretch/>
        </p:blipFill>
        <p:spPr>
          <a:xfrm>
            <a:off x="2340000" y="3645000"/>
            <a:ext cx="3598920" cy="27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544500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ля этих мест характерно огромное изобилие трав и водорослей. Только в заливе Петра Великого, насчитывается более 200 их видов. В основном это морская капуста и ламинария. Морская капуста используется в пищевых целях, именно поэтому её не только собирают в естественных угодьях, но и выращивают на специальных плантациях. К высшим видам трав относят филлоспадикс и зостера, которых тоже немало в этих водах. 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vod_lamin"/>
          <p:cNvPicPr/>
          <p:nvPr/>
        </p:nvPicPr>
        <p:blipFill>
          <a:blip r:embed="rId1"/>
          <a:stretch/>
        </p:blipFill>
        <p:spPr>
          <a:xfrm>
            <a:off x="611280" y="260280"/>
            <a:ext cx="3705120" cy="482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3" name="Picture 7" descr="1698425"/>
          <p:cNvPicPr/>
          <p:nvPr/>
        </p:nvPicPr>
        <p:blipFill>
          <a:blip r:embed="rId2"/>
          <a:stretch/>
        </p:blipFill>
        <p:spPr>
          <a:xfrm>
            <a:off x="4788000" y="189000"/>
            <a:ext cx="3887640" cy="291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Picture 9" descr="33"/>
          <p:cNvPicPr/>
          <p:nvPr/>
        </p:nvPicPr>
        <p:blipFill>
          <a:blip r:embed="rId3"/>
          <a:stretch/>
        </p:blipFill>
        <p:spPr>
          <a:xfrm>
            <a:off x="5219640" y="3141720"/>
            <a:ext cx="2857680" cy="22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Морские обитатели Японского мор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5660640"/>
            <a:ext cx="81471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 Японском море обитают где-то 30 видов тюленей, дельфинов и китов. Среди них: сейвал, голубой кит, серый кит, горбатый кит, южный гладкий кит, финвал и малый полосатик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eec8d_istorii3"/>
          <p:cNvPicPr/>
          <p:nvPr/>
        </p:nvPicPr>
        <p:blipFill>
          <a:blip r:embed="rId1"/>
          <a:stretch/>
        </p:blipFill>
        <p:spPr>
          <a:xfrm>
            <a:off x="395280" y="1268280"/>
            <a:ext cx="3168720" cy="179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7" descr="76383664_Kit"/>
          <p:cNvPicPr/>
          <p:nvPr/>
        </p:nvPicPr>
        <p:blipFill>
          <a:blip r:embed="rId2"/>
          <a:stretch/>
        </p:blipFill>
        <p:spPr>
          <a:xfrm>
            <a:off x="3419640" y="1773360"/>
            <a:ext cx="2520720" cy="19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9" descr="animals8"/>
          <p:cNvPicPr/>
          <p:nvPr/>
        </p:nvPicPr>
        <p:blipFill>
          <a:blip r:embed="rId3"/>
          <a:stretch/>
        </p:blipFill>
        <p:spPr>
          <a:xfrm>
            <a:off x="5580000" y="836640"/>
            <a:ext cx="2521080" cy="1671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Picture 11" descr="39"/>
          <p:cNvPicPr/>
          <p:nvPr/>
        </p:nvPicPr>
        <p:blipFill>
          <a:blip r:embed="rId4"/>
          <a:stretch/>
        </p:blipFill>
        <p:spPr>
          <a:xfrm>
            <a:off x="6084720" y="2421000"/>
            <a:ext cx="2772000" cy="18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13" descr="spotted-seal-Lloyd_Lowry"/>
          <p:cNvPicPr/>
          <p:nvPr/>
        </p:nvPicPr>
        <p:blipFill>
          <a:blip r:embed="rId5"/>
          <a:stretch/>
        </p:blipFill>
        <p:spPr>
          <a:xfrm>
            <a:off x="250920" y="3284640"/>
            <a:ext cx="3024000" cy="2238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Picture 15" descr="ch12"/>
          <p:cNvPicPr/>
          <p:nvPr/>
        </p:nvPicPr>
        <p:blipFill>
          <a:blip r:embed="rId6"/>
          <a:stretch/>
        </p:blipFill>
        <p:spPr>
          <a:xfrm>
            <a:off x="3059280" y="3573360"/>
            <a:ext cx="3166920" cy="2046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3" name="Picture 17" descr="0_b857_7b513004_XL"/>
          <p:cNvPicPr/>
          <p:nvPr/>
        </p:nvPicPr>
        <p:blipFill>
          <a:blip r:embed="rId7"/>
          <a:stretch/>
        </p:blipFill>
        <p:spPr>
          <a:xfrm>
            <a:off x="6451560" y="4006800"/>
            <a:ext cx="2584440" cy="1749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3:11:28Z</dcterms:created>
  <dc:creator>Ткачев Юлиан</dc:creator>
  <dc:description/>
  <dc:language>en-US</dc:language>
  <cp:lastModifiedBy>Елена</cp:lastModifiedBy>
  <dcterms:modified xsi:type="dcterms:W3CDTF">2013-09-27T11:33:14Z</dcterms:modified>
  <cp:revision>30</cp:revision>
  <dc:subject>Японское море</dc:subject>
  <dc:title>Японское море</dc:title>
</cp:coreProperties>
</file>