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CE1D-DF21-4A77-BCFD-597D0FB0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05A2-9135-46F6-9E1B-2BEE2A2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9E79-F700-4BBE-BB8E-8978A784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2A04-C356-4C9E-9F97-F9107EFF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8F7-7217-44A9-BB6A-FC24B911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12FE-406F-486B-8FA3-FD30346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ECBF-F139-4CBE-9410-5984DB6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9259-0A69-4C05-87E3-09FD454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22B1-4EE2-4821-9B80-C7A7333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1A94-4367-46E0-81E3-E0B22723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A74-013A-464E-9934-F925FD2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49AE-52CD-4A47-AB18-6C68916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545-E069-48F5-8220-B367F72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0E1A-EDB0-4AF4-B22C-FFB9797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345D-5608-4776-9C8C-09C2F81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E16-B4CF-479A-8A26-D3807E44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D1AE-6061-44DD-B71A-CBB0453F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4FD9-E987-47F1-A68E-593BC09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AD37-3BB6-4CEF-BBBA-B331FE97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6659-DFD2-485F-8C64-02CC0AC2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6382-4B9E-4A11-BA2B-9C3BD62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44C1-9877-456F-84C2-91C6A9A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2B7F-5E4E-48C2-B63D-E9CE0CA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47B5-E783-41FD-BD6D-E5F96CD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24B-2722-4154-8F2B-94B8388B6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8DEB-C30E-4ABD-AD80-017D1D7B33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581616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блема загрязнения моря приобрела глобальный характер. Последствия загрязнения сказываются на всех сторонах жизни моря. Широко известно токсичное действие хлорорганических соединений (типа ДДТ), нефтепродуктов, соединений свинца, ртути, мышьяка и кадмия. 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5961_009"/>
          <p:cNvPicPr/>
          <p:nvPr/>
        </p:nvPicPr>
        <p:blipFill>
          <a:blip r:embed="rId1"/>
          <a:stretch/>
        </p:blipFill>
        <p:spPr>
          <a:xfrm>
            <a:off x="2700360" y="3357720"/>
            <a:ext cx="3672000" cy="244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9" descr="image2you_ru_12744_8deaf_1276702044"/>
          <p:cNvPicPr/>
          <p:nvPr/>
        </p:nvPicPr>
        <p:blipFill>
          <a:blip r:embed="rId2"/>
          <a:stretch/>
        </p:blipFill>
        <p:spPr>
          <a:xfrm>
            <a:off x="324000" y="836640"/>
            <a:ext cx="4249440" cy="267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7" descr="550784_526139"/>
          <p:cNvPicPr/>
          <p:nvPr/>
        </p:nvPicPr>
        <p:blipFill>
          <a:blip r:embed="rId3"/>
          <a:stretch/>
        </p:blipFill>
        <p:spPr>
          <a:xfrm>
            <a:off x="4211640" y="907920"/>
            <a:ext cx="4707000" cy="312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181080" y="476280"/>
            <a:ext cx="1728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Уссурийский залив сбрасываются сточные воды г. Владивостока (северо-западное побережье залива), г. Артема (через реки Шкотовка, Артемовка) в бухту Муравьиную. Сточные воды г. Большой Камень и других населенных пунктов восточного побережья поступают в бухты Суходол, Андреева и Большой Камень. Кроме того, в Уссурийский залив попадают загрязняющие вещества поверхностного стока городских территорий, городской свалки, сельхозугодий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5" descr="info_sewage"/>
          <p:cNvPicPr/>
          <p:nvPr/>
        </p:nvPicPr>
        <p:blipFill>
          <a:blip r:embed="rId1"/>
          <a:stretch/>
        </p:blipFill>
        <p:spPr>
          <a:xfrm>
            <a:off x="1908000" y="692280"/>
            <a:ext cx="3456000" cy="271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7" name="Picture 7" descr="1-2012"/>
          <p:cNvPicPr/>
          <p:nvPr/>
        </p:nvPicPr>
        <p:blipFill>
          <a:blip r:embed="rId2"/>
          <a:stretch/>
        </p:blipFill>
        <p:spPr>
          <a:xfrm>
            <a:off x="5219640" y="1268280"/>
            <a:ext cx="3600360" cy="27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9" descr="testing-waters-press-conference"/>
          <p:cNvPicPr/>
          <p:nvPr/>
        </p:nvPicPr>
        <p:blipFill>
          <a:blip r:embed="rId3"/>
          <a:stretch/>
        </p:blipFill>
        <p:spPr>
          <a:xfrm>
            <a:off x="1763640" y="3284640"/>
            <a:ext cx="3600360" cy="270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Picture 11" descr="1288397171852"/>
          <p:cNvPicPr/>
          <p:nvPr/>
        </p:nvPicPr>
        <p:blipFill>
          <a:blip r:embed="rId4"/>
          <a:stretch/>
        </p:blipFill>
        <p:spPr>
          <a:xfrm>
            <a:off x="4932360" y="3933720"/>
            <a:ext cx="3673440" cy="264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093000"/>
            <a:ext cx="85694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которое время назад Приморье было на грани экологической катастрофы из-за проблем с утилизацией жидких радиоактивных отходов атомных подводных лодок. Проблема была успешно решена при участии японских и российских ученых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374615"/>
          <p:cNvPicPr/>
          <p:nvPr/>
        </p:nvPicPr>
        <p:blipFill>
          <a:blip r:embed="rId1"/>
          <a:stretch/>
        </p:blipFill>
        <p:spPr>
          <a:xfrm>
            <a:off x="4572000" y="476280"/>
            <a:ext cx="3959280" cy="303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Picture 7" descr="o_890"/>
          <p:cNvPicPr/>
          <p:nvPr/>
        </p:nvPicPr>
        <p:blipFill>
          <a:blip r:embed="rId2"/>
          <a:stretch/>
        </p:blipFill>
        <p:spPr>
          <a:xfrm>
            <a:off x="395280" y="476280"/>
            <a:ext cx="3672000" cy="281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Picture 9" descr="hyogb_buyb2"/>
          <p:cNvPicPr/>
          <p:nvPr/>
        </p:nvPicPr>
        <p:blipFill>
          <a:blip r:embed="rId3"/>
          <a:stretch/>
        </p:blipFill>
        <p:spPr>
          <a:xfrm>
            <a:off x="1476360" y="3213000"/>
            <a:ext cx="6026040" cy="285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5589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А после весенней аварии на Фукусиме на базе ДВФУ была создана группа, которая работала на аварийных территориях во главе с членом-корреспондентом Российской академии наук Валентином Авраменко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 японская, и российская стороны обратили внимание на то, что вопросы трансграничного характера загрязнений для наших регионов стоят наиболее остро, ведь, по словам г-на Фурусава Ивао, экологические проблемы не знают границ. Только в Приморском крае за год производится 50 миллионов тонн отходов,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4762146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12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Picture 7" descr="Делегация университета экологии Тоттори в ДВФУ"/>
          <p:cNvPicPr/>
          <p:nvPr/>
        </p:nvPicPr>
        <p:blipFill>
          <a:blip r:embed="rId2"/>
          <a:stretch/>
        </p:blipFill>
        <p:spPr>
          <a:xfrm>
            <a:off x="3348000" y="2133720"/>
            <a:ext cx="5508720" cy="3294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0_6da4d_6b522a45_XL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аким образом Японское море имеет важное экономическое значение для стран, берега которых омывает.  По Японскому морю пролегают трассы, связывающие Россию с Японией, КНДР, Китаем и США. Значительны и разнообразны промысловые богатства Японского моря. Море богато флорой и фаун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нако, биологические богатства Японского моря, как и других морей, испытывают негативное влияние как природных, так и антропогенных фактор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ледовательно,  необходимо объединить усилия разных стран, прежде всего выходящих к Японскому морю, в деле охраны и рационального использования его биологических богатст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714920" y="429264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Презентацию подготовил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Ткачев Юлиан 111 групп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Заярный Павел 111 групп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Руководитель Федорец Е. 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4360" y="928800"/>
            <a:ext cx="4427640" cy="307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643280" y="928800"/>
            <a:ext cx="4192920" cy="3143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214200" y="4071960"/>
            <a:ext cx="4357800" cy="264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3:11:28Z</dcterms:created>
  <dc:creator>Ткачев Юлиан</dc:creator>
  <dc:description/>
  <dc:language>en-US</dc:language>
  <cp:lastModifiedBy>Елена</cp:lastModifiedBy>
  <dcterms:modified xsi:type="dcterms:W3CDTF">2013-09-27T11:34:03Z</dcterms:modified>
  <cp:revision>30</cp:revision>
  <dc:subject>Японское море</dc:subject>
  <dc:title>Японское море</dc:title>
</cp:coreProperties>
</file>