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106-B668-4B6A-A888-2700EDD1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AA7-1199-41CA-B119-B263B197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92C-8F11-4268-A6BD-53201586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884-566D-4F8B-8BBB-0943BAF9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B114-595D-43C7-87E8-7DEF85EB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0AF8-7A9D-46D1-AE04-E8D6EC55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E0D9-BAFE-406C-9772-1671DE37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30B5-B546-457B-9BAC-46ABF029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932D-1543-4873-8134-53D26984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BB21-5F44-40A6-8735-7D027BD6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CD29-54CE-4BF8-9504-21F2A08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C88-FEC5-4B0A-951D-167A1DA5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A3D8-9F5A-4A8D-80A3-E5272ED8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967D-F6CF-477D-A332-08D7A5F7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2C9E-E6F8-4417-8CED-1A38E42E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4077-D954-42A7-8777-C934F4EA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C001-AE4D-4475-8B80-E4C3F77F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36F-D12D-49A7-B614-C8356FE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E8A-2D1E-4E9B-8BE8-EFBC4B03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96E-E575-40CB-9F8B-F987EBEE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056-9AED-4B5C-B0EE-0ADF7ED5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2B9-F53C-472B-8F2B-431870C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A39-F6FD-47D3-81BC-E684079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B58-2FCB-406C-A417-649D0003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ABF7-14B9-4E49-8A1A-D32ED4B010C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2AB3-AB1F-4F3A-ACA9-1D5F888343C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5280" y="304560"/>
            <a:ext cx="835344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684360" y="692280"/>
            <a:ext cx="784836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Жизнь дана</a:t>
            </a:r>
            <a:endParaRPr b="1" lang="en-US" sz="80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на добрые дела</a:t>
            </a:r>
            <a:endParaRPr b="1" lang="en-US" sz="80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5600" y="304560"/>
            <a:ext cx="7358040" cy="20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казки Х.К. Андерсе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720" y="2637000"/>
            <a:ext cx="64674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нежная короле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усалоч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Гадкий утёно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Дюймовоч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i?id=10673545&amp;tov=2"/>
          <p:cNvPicPr/>
          <p:nvPr/>
        </p:nvPicPr>
        <p:blipFill>
          <a:blip r:embed="rId1"/>
          <a:stretch/>
        </p:blipFill>
        <p:spPr>
          <a:xfrm>
            <a:off x="0" y="0"/>
            <a:ext cx="1785960" cy="246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200"/>
                            </p:stCondLst>
                            <p:childTnLst>
                              <p:par>
                                <p:cTn id="2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100"/>
                            </p:stCondLst>
                            <p:childTnLst>
                              <p:par>
                                <p:cTn id="2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150"/>
                            </p:stCondLst>
                            <p:childTnLst>
                              <p:par>
                                <p:cTn id="3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971640" y="2852640"/>
            <a:ext cx="770400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Пятеро </a:t>
            </a:r>
            <a:endParaRPr b="1" lang="en-US" sz="6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из одного стручка</a:t>
            </a:r>
            <a:endParaRPr b="1" lang="en-US" sz="6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900000" y="620640"/>
            <a:ext cx="7488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Х.К.Андерсен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сположи рисунки в соответствии с содержанием текст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419640" y="3933720"/>
            <a:ext cx="2665080" cy="2665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6283440" y="1916280"/>
            <a:ext cx="2512800" cy="338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3097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54000" y="0"/>
            <a:ext cx="3149640" cy="4941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5398920" y="4068720"/>
            <a:ext cx="3745080" cy="278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3"/>
          <a:stretch/>
        </p:blipFill>
        <p:spPr>
          <a:xfrm>
            <a:off x="2556000" y="2781360"/>
            <a:ext cx="2881080" cy="30956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4"/>
          <a:stretch/>
        </p:blipFill>
        <p:spPr>
          <a:xfrm>
            <a:off x="3279600" y="-85680"/>
            <a:ext cx="605340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вес.jpg"/>
          <p:cNvPicPr/>
          <p:nvPr/>
        </p:nvPicPr>
        <p:blipFill>
          <a:blip r:embed="rId1"/>
          <a:stretch/>
        </p:blipFill>
        <p:spPr>
          <a:xfrm>
            <a:off x="6215040" y="357120"/>
            <a:ext cx="1981080" cy="18385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весы.jpg"/>
          <p:cNvPicPr/>
          <p:nvPr/>
        </p:nvPicPr>
        <p:blipFill>
          <a:blip r:embed="rId2"/>
          <a:stretch/>
        </p:blipFill>
        <p:spPr>
          <a:xfrm>
            <a:off x="1428840" y="357120"/>
            <a:ext cx="1974600" cy="1809720"/>
          </a:xfrm>
          <a:prstGeom prst="rect">
            <a:avLst/>
          </a:prstGeom>
          <a:ln w="0">
            <a:noFill/>
          </a:ln>
        </p:spPr>
      </p:pic>
      <p:sp>
        <p:nvSpPr>
          <p:cNvPr id="150" name="Стрелка вправо 5"/>
          <p:cNvSpPr/>
          <p:nvPr/>
        </p:nvSpPr>
        <p:spPr>
          <a:xfrm>
            <a:off x="4143240" y="1143000"/>
            <a:ext cx="142884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045ad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1500120" y="178596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2357280" y="17859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Б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1071720" y="2643120"/>
            <a:ext cx="1571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РУБ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ВИ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ОЖ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ВЕЖЕ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АД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РОВ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Рисунок 10" descr="бабочка.jpg"/>
          <p:cNvPicPr/>
          <p:nvPr/>
        </p:nvPicPr>
        <p:blipFill>
          <a:blip r:embed="rId3"/>
          <a:stretch/>
        </p:blipFill>
        <p:spPr>
          <a:xfrm>
            <a:off x="3429000" y="2643120"/>
            <a:ext cx="1112760" cy="731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бер.jpeg"/>
          <p:cNvPicPr/>
          <p:nvPr/>
        </p:nvPicPr>
        <p:blipFill>
          <a:blip r:embed="rId4"/>
          <a:stretch/>
        </p:blipFill>
        <p:spPr>
          <a:xfrm>
            <a:off x="4643280" y="4214880"/>
            <a:ext cx="1290960" cy="1928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звезда.jpg"/>
          <p:cNvPicPr/>
          <p:nvPr/>
        </p:nvPicPr>
        <p:blipFill>
          <a:blip r:embed="rId5"/>
          <a:stretch/>
        </p:blipFill>
        <p:spPr>
          <a:xfrm>
            <a:off x="3035160" y="3500280"/>
            <a:ext cx="1465560" cy="9763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3" descr="радуга.jpg"/>
          <p:cNvPicPr/>
          <p:nvPr/>
        </p:nvPicPr>
        <p:blipFill>
          <a:blip r:embed="rId6"/>
          <a:stretch/>
        </p:blipFill>
        <p:spPr>
          <a:xfrm>
            <a:off x="6072120" y="4071960"/>
            <a:ext cx="1925640" cy="12812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4" descr="роса.jpg"/>
          <p:cNvPicPr/>
          <p:nvPr/>
        </p:nvPicPr>
        <p:blipFill>
          <a:blip r:embed="rId7"/>
          <a:stretch/>
        </p:blipFill>
        <p:spPr>
          <a:xfrm>
            <a:off x="3357720" y="4572000"/>
            <a:ext cx="1044360" cy="15717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6" descr="цветы.jpg"/>
          <p:cNvPicPr/>
          <p:nvPr/>
        </p:nvPicPr>
        <p:blipFill>
          <a:blip r:embed="rId8"/>
          <a:stretch/>
        </p:blipFill>
        <p:spPr>
          <a:xfrm>
            <a:off x="6143760" y="5500800"/>
            <a:ext cx="1608120" cy="1071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7" descr="чита.jpg"/>
          <p:cNvPicPr/>
          <p:nvPr/>
        </p:nvPicPr>
        <p:blipFill>
          <a:blip r:embed="rId9"/>
          <a:stretch/>
        </p:blipFill>
        <p:spPr>
          <a:xfrm>
            <a:off x="6000840" y="2286000"/>
            <a:ext cx="1143000" cy="170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D:\Резервное хранилище\Даша\картинки\Природа\Солнце\00041729.jpg"/>
          <p:cNvPicPr/>
          <p:nvPr/>
        </p:nvPicPr>
        <p:blipFill>
          <a:blip r:embed="rId10"/>
          <a:stretch/>
        </p:blipFill>
        <p:spPr>
          <a:xfrm>
            <a:off x="4572000" y="1928880"/>
            <a:ext cx="1357200" cy="2017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6286680" y="178596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7143840" y="17859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Б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56800" y="1785600"/>
            <a:ext cx="7720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Будьте всегда вежливыми, добрыми, внимательными друг к другу, помогайте родным и близким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cc00"/>
                </a:solidFill>
                <a:latin typeface="Tahoma"/>
              </a:rPr>
              <a:t>Добрый человек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85880" y="1981080"/>
            <a:ext cx="814392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обрый человек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это тот, кто любит людей и  готов в трудную минуту прийти им на помощ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обрый человек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любит природу и бережёт её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обрый человек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любит птиц и зверей, помогает им выжить в зимнюю стуж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обрый человек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старается быть аккуратно одетым, вежливым и уважительным в общении с товарищами и взросл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1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1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1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1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1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1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1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1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5772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Monotype Corsiva"/>
              </a:rPr>
              <a:t>Пословицы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Доброе слово человеку, что дождь в засух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Не одежда красит человека, а его добрые дел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Начатое дело доводи до конц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42960" y="928440"/>
            <a:ext cx="7858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м зелёный теснова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зкий, длинный, гладкий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доме рядышком сидя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руглые ребят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енью пришла беда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реснул домик гладкий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скакали кто ку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руглые ребят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071800" y="214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i?id=22330038&amp;tov=0"/>
          <p:cNvPicPr/>
          <p:nvPr/>
        </p:nvPicPr>
        <p:blipFill>
          <a:blip r:embed="rId1"/>
          <a:stretch/>
        </p:blipFill>
        <p:spPr>
          <a:xfrm>
            <a:off x="5072040" y="714240"/>
            <a:ext cx="3606840" cy="43912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9"/>
          <p:cNvSpPr txBox="1"/>
          <p:nvPr/>
        </p:nvSpPr>
        <p:spPr>
          <a:xfrm>
            <a:off x="1116000" y="907920"/>
            <a:ext cx="309564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ох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9" name="Picture 10" descr="горох"/>
          <p:cNvPicPr/>
          <p:nvPr/>
        </p:nvPicPr>
        <p:blipFill>
          <a:blip r:embed="rId2"/>
          <a:stretch/>
        </p:blipFill>
        <p:spPr>
          <a:xfrm>
            <a:off x="1643040" y="2357280"/>
            <a:ext cx="2600280" cy="403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9144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он – тон + день – нь + рот - от + сено –о =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ндерсе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071800" y="42876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Monotype Corsiva"/>
              </a:rPr>
              <a:t>РЕБУС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99640" y="620280"/>
            <a:ext cx="38624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Ханс Кристиан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НДЕРСЕ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(1805 – 1875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Ханс Кристиан Андерсен"/>
          <p:cNvPicPr/>
          <p:nvPr/>
        </p:nvPicPr>
        <p:blipFill>
          <a:blip r:embed="rId1"/>
          <a:stretch/>
        </p:blipFill>
        <p:spPr>
          <a:xfrm>
            <a:off x="4788000" y="404640"/>
            <a:ext cx="435600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7999200" cy="820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казки Х.К. Андерсе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196640"/>
            <a:ext cx="754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дкий утёнок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кие лебе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гни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сал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инопа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ле-Лу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нежная короле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олотой мальч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йкий оловянный солда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сные башмач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нцесса на горош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юймов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лов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вое платье коро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утином дв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ис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оровый петух и флюгер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i?id=25226697&amp;tov=7"/>
          <p:cNvPicPr/>
          <p:nvPr/>
        </p:nvPicPr>
        <p:blipFill>
          <a:blip r:embed="rId1"/>
          <a:stretch/>
        </p:blipFill>
        <p:spPr>
          <a:xfrm>
            <a:off x="5072040" y="1428840"/>
            <a:ext cx="1566720" cy="2360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i?id=5004152&amp;tov=6"/>
          <p:cNvPicPr/>
          <p:nvPr/>
        </p:nvPicPr>
        <p:blipFill>
          <a:blip r:embed="rId2"/>
          <a:stretch/>
        </p:blipFill>
        <p:spPr>
          <a:xfrm>
            <a:off x="6429240" y="2286000"/>
            <a:ext cx="1687680" cy="237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7207200" y="4429080"/>
            <a:ext cx="1936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8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85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85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35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25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45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225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45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85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8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66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79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97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85359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i="1" lang="ru-RU" sz="4800" spc="-1" strike="noStrike">
                <a:solidFill>
                  <a:srgbClr val="99cc00"/>
                </a:solidFill>
                <a:latin typeface="Tahoma"/>
              </a:rPr>
              <a:t>Определи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ru-RU" sz="4800" spc="-1" strike="noStrike">
                <a:solidFill>
                  <a:srgbClr val="99cc00"/>
                </a:solidFill>
                <a:latin typeface="Tahoma"/>
              </a:rPr>
              <a:t>сказку </a:t>
            </a:r>
            <a:br>
              <a:rPr sz="4800"/>
            </a:br>
            <a:r>
              <a:rPr b="1" i="1" lang="ru-RU" sz="4800" spc="-1" strike="noStrike">
                <a:solidFill>
                  <a:srgbClr val="99cc00"/>
                </a:solidFill>
                <a:latin typeface="Tahoma"/>
              </a:rPr>
              <a:t>  по опорным словам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320" y="1856880"/>
            <a:ext cx="436068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нце, снег, лампа, стекло, зеркало, утро, роза, ворона, олень, друж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29120" y="1857240"/>
            <a:ext cx="39434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ре, ветер, колдовской напиток, боль, прин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1320" y="411444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бедь, яйцо, мечта, утка, мороз, курица,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14720" y="4114440"/>
            <a:ext cx="369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а, полевая мышь, крыло, эльф, цветок, ласточ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03:35:25Z</dcterms:created>
  <dc:creator>Родичева</dc:creator>
  <dc:description/>
  <dc:language>en-US</dc:language>
  <cp:lastModifiedBy>Алексей Даша</cp:lastModifiedBy>
  <dcterms:modified xsi:type="dcterms:W3CDTF">2010-04-10T03:21:56Z</dcterms:modified>
  <cp:revision>35</cp:revision>
  <dc:subject/>
  <dc:title>Слайд 1</dc:title>
</cp:coreProperties>
</file>