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64D-7847-49C3-84E7-309E4733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3107-C5F6-4BA3-A8C3-931AC4F0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760A-A27F-45FE-8B34-50057643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CC7-55CA-4EBC-BA92-03937FD1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90D-699E-4428-85FA-92725F7D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31DA-A3DF-474A-B3F7-1337961C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6E61-82D3-420A-B799-C23315AB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1271-3FC3-4AE0-A260-87D3E72D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5CF-0E95-4569-85C6-DD75541A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622-AE7E-40E7-80DC-F598F89F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DAB-775C-4CA2-BB9F-386AC2B4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6BD-0ABD-45EA-AADC-729D52C8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AE41-24C4-4188-92C6-7EA62DF7C8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Безударные гласные в корне сло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я начальных кл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овцевой Г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СОШ №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5345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0" spc="-1" strike="noStrike">
                <a:solidFill>
                  <a:srgbClr val="000000"/>
                </a:solidFill>
                <a:latin typeface="Arial"/>
              </a:rPr>
              <a:t>приб  жал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038480" y="1676520"/>
            <a:ext cx="1219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0" spc="-1" strike="noStrike">
                <a:solidFill>
                  <a:srgbClr val="ff9999"/>
                </a:solidFill>
                <a:latin typeface="Arial"/>
              </a:rPr>
              <a:t>е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 flipH="1">
            <a:off x="6781320" y="15238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"/>
          <p:cNvSpPr/>
          <p:nvPr/>
        </p:nvSpPr>
        <p:spPr>
          <a:xfrm>
            <a:off x="3276720" y="1295280"/>
            <a:ext cx="3047760" cy="99072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584" h="440">
                <a:moveTo>
                  <a:pt x="0" y="440"/>
                </a:moveTo>
                <a:cubicBezTo>
                  <a:pt x="96" y="304"/>
                  <a:pt x="192" y="168"/>
                  <a:pt x="384" y="104"/>
                </a:cubicBezTo>
                <a:cubicBezTo>
                  <a:pt x="576" y="40"/>
                  <a:pt x="952" y="0"/>
                  <a:pt x="1152" y="56"/>
                </a:cubicBezTo>
                <a:cubicBezTo>
                  <a:pt x="1352" y="112"/>
                  <a:pt x="1468" y="276"/>
                  <a:pt x="1584" y="4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4267080" y="3657600"/>
            <a:ext cx="762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43200" y="1828440"/>
            <a:ext cx="23623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0" spc="-1" strike="noStrike">
                <a:solidFill>
                  <a:srgbClr val="ff9999"/>
                </a:solidFill>
                <a:latin typeface="Arial"/>
              </a:rPr>
              <a:t>о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0" spc="-1" strike="noStrike">
                <a:solidFill>
                  <a:srgbClr val="000000"/>
                </a:solidFill>
                <a:latin typeface="Arial"/>
              </a:rPr>
              <a:t>ун  сил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"/>
          <p:cNvSpPr/>
          <p:nvPr/>
        </p:nvSpPr>
        <p:spPr>
          <a:xfrm>
            <a:off x="2362320" y="1676520"/>
            <a:ext cx="3047760" cy="99036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1584" h="440">
                <a:moveTo>
                  <a:pt x="0" y="440"/>
                </a:moveTo>
                <a:cubicBezTo>
                  <a:pt x="96" y="304"/>
                  <a:pt x="192" y="168"/>
                  <a:pt x="384" y="104"/>
                </a:cubicBezTo>
                <a:cubicBezTo>
                  <a:pt x="576" y="40"/>
                  <a:pt x="952" y="0"/>
                  <a:pt x="1152" y="56"/>
                </a:cubicBezTo>
                <a:cubicBezTo>
                  <a:pt x="1352" y="112"/>
                  <a:pt x="1468" y="276"/>
                  <a:pt x="1584" y="4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 flipH="1">
            <a:off x="6171840" y="17524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581280" y="4267080"/>
            <a:ext cx="762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д корнями старой сосны была нора ежи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28600" y="2590920"/>
            <a:ext cx="5334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орнями - коре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28600" y="3581280"/>
            <a:ext cx="5334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осны - сос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04920" y="4495680"/>
            <a:ext cx="5333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ора - н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1828440" y="243828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 flipH="1">
            <a:off x="3733560" y="243828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 flipH="1">
            <a:off x="1904760" y="342900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 flipH="1">
            <a:off x="3124080" y="3505320"/>
            <a:ext cx="15264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 flipH="1">
            <a:off x="1599840" y="434340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 flipH="1">
            <a:off x="2819160" y="434340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533520" y="33526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3505320" y="33526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7"/>
          <p:cNvSpPr/>
          <p:nvPr/>
        </p:nvSpPr>
        <p:spPr>
          <a:xfrm>
            <a:off x="3505320" y="34290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8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2895480" y="42670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2895480" y="43434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685800" y="52578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90920" y="52578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2590920" y="53341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7"/>
          <p:cNvSpPr/>
          <p:nvPr/>
        </p:nvSpPr>
        <p:spPr>
          <a:xfrm>
            <a:off x="152280" y="2438280"/>
            <a:ext cx="1524240" cy="45720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584" h="440">
                <a:moveTo>
                  <a:pt x="0" y="440"/>
                </a:moveTo>
                <a:cubicBezTo>
                  <a:pt x="96" y="304"/>
                  <a:pt x="192" y="168"/>
                  <a:pt x="384" y="104"/>
                </a:cubicBezTo>
                <a:cubicBezTo>
                  <a:pt x="576" y="40"/>
                  <a:pt x="952" y="0"/>
                  <a:pt x="1152" y="56"/>
                </a:cubicBezTo>
                <a:cubicBezTo>
                  <a:pt x="1352" y="112"/>
                  <a:pt x="1468" y="276"/>
                  <a:pt x="1584" y="4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8"/>
          <p:cNvSpPr/>
          <p:nvPr/>
        </p:nvSpPr>
        <p:spPr>
          <a:xfrm>
            <a:off x="3276720" y="2438280"/>
            <a:ext cx="1523880" cy="45720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584" h="440">
                <a:moveTo>
                  <a:pt x="0" y="440"/>
                </a:moveTo>
                <a:cubicBezTo>
                  <a:pt x="96" y="304"/>
                  <a:pt x="192" y="168"/>
                  <a:pt x="384" y="104"/>
                </a:cubicBezTo>
                <a:cubicBezTo>
                  <a:pt x="576" y="40"/>
                  <a:pt x="952" y="0"/>
                  <a:pt x="1152" y="56"/>
                </a:cubicBezTo>
                <a:cubicBezTo>
                  <a:pt x="1352" y="112"/>
                  <a:pt x="1468" y="276"/>
                  <a:pt x="1584" y="4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9"/>
          <p:cNvSpPr/>
          <p:nvPr/>
        </p:nvSpPr>
        <p:spPr>
          <a:xfrm>
            <a:off x="457200" y="3429000"/>
            <a:ext cx="1219320" cy="4572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584" h="440">
                <a:moveTo>
                  <a:pt x="0" y="440"/>
                </a:moveTo>
                <a:cubicBezTo>
                  <a:pt x="96" y="304"/>
                  <a:pt x="192" y="168"/>
                  <a:pt x="384" y="104"/>
                </a:cubicBezTo>
                <a:cubicBezTo>
                  <a:pt x="576" y="40"/>
                  <a:pt x="952" y="0"/>
                  <a:pt x="1152" y="56"/>
                </a:cubicBezTo>
                <a:cubicBezTo>
                  <a:pt x="1352" y="112"/>
                  <a:pt x="1468" y="276"/>
                  <a:pt x="1584" y="4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0"/>
          <p:cNvSpPr/>
          <p:nvPr/>
        </p:nvSpPr>
        <p:spPr>
          <a:xfrm>
            <a:off x="2514600" y="3429000"/>
            <a:ext cx="1447920" cy="457200"/>
          </a:xfrm>
          <a:custGeom>
            <a:avLst/>
            <a:gdLst>
              <a:gd name="textAreaLeft" fmla="*/ 0 w 1447920"/>
              <a:gd name="textAreaRight" fmla="*/ 1447920 w 14479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584" h="440">
                <a:moveTo>
                  <a:pt x="0" y="440"/>
                </a:moveTo>
                <a:cubicBezTo>
                  <a:pt x="96" y="304"/>
                  <a:pt x="192" y="168"/>
                  <a:pt x="384" y="104"/>
                </a:cubicBezTo>
                <a:cubicBezTo>
                  <a:pt x="576" y="40"/>
                  <a:pt x="952" y="0"/>
                  <a:pt x="1152" y="56"/>
                </a:cubicBezTo>
                <a:cubicBezTo>
                  <a:pt x="1352" y="112"/>
                  <a:pt x="1468" y="276"/>
                  <a:pt x="1584" y="4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1"/>
          <p:cNvSpPr/>
          <p:nvPr/>
        </p:nvSpPr>
        <p:spPr>
          <a:xfrm>
            <a:off x="304920" y="4419720"/>
            <a:ext cx="1066680" cy="3045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584" h="440">
                <a:moveTo>
                  <a:pt x="0" y="440"/>
                </a:moveTo>
                <a:cubicBezTo>
                  <a:pt x="96" y="304"/>
                  <a:pt x="192" y="168"/>
                  <a:pt x="384" y="104"/>
                </a:cubicBezTo>
                <a:cubicBezTo>
                  <a:pt x="576" y="40"/>
                  <a:pt x="952" y="0"/>
                  <a:pt x="1152" y="56"/>
                </a:cubicBezTo>
                <a:cubicBezTo>
                  <a:pt x="1352" y="112"/>
                  <a:pt x="1468" y="276"/>
                  <a:pt x="1584" y="4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2"/>
          <p:cNvSpPr/>
          <p:nvPr/>
        </p:nvSpPr>
        <p:spPr>
          <a:xfrm>
            <a:off x="2209680" y="4419720"/>
            <a:ext cx="1067040" cy="30456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584" h="440">
                <a:moveTo>
                  <a:pt x="0" y="440"/>
                </a:moveTo>
                <a:cubicBezTo>
                  <a:pt x="96" y="304"/>
                  <a:pt x="192" y="168"/>
                  <a:pt x="384" y="104"/>
                </a:cubicBezTo>
                <a:cubicBezTo>
                  <a:pt x="576" y="40"/>
                  <a:pt x="952" y="0"/>
                  <a:pt x="1152" y="56"/>
                </a:cubicBezTo>
                <a:cubicBezTo>
                  <a:pt x="1352" y="112"/>
                  <a:pt x="1468" y="276"/>
                  <a:pt x="1584" y="4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88394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Халодный ручеек разбудил зверь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3581280"/>
            <a:ext cx="883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холодный - хол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762120" y="44956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4572000" y="44956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>
            <a:off x="4572000" y="45720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 flipH="1">
            <a:off x="1828440" y="3505320"/>
            <a:ext cx="15228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 flipH="1">
            <a:off x="4800240" y="3505320"/>
            <a:ext cx="15228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0"/>
          <p:cNvSpPr/>
          <p:nvPr/>
        </p:nvSpPr>
        <p:spPr>
          <a:xfrm>
            <a:off x="380880" y="3352680"/>
            <a:ext cx="1981440" cy="45720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584" h="440">
                <a:moveTo>
                  <a:pt x="0" y="440"/>
                </a:moveTo>
                <a:cubicBezTo>
                  <a:pt x="96" y="304"/>
                  <a:pt x="192" y="168"/>
                  <a:pt x="384" y="104"/>
                </a:cubicBezTo>
                <a:cubicBezTo>
                  <a:pt x="576" y="40"/>
                  <a:pt x="952" y="0"/>
                  <a:pt x="1152" y="56"/>
                </a:cubicBezTo>
                <a:cubicBezTo>
                  <a:pt x="1352" y="112"/>
                  <a:pt x="1468" y="276"/>
                  <a:pt x="1584" y="4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"/>
          <p:cNvSpPr/>
          <p:nvPr/>
        </p:nvSpPr>
        <p:spPr>
          <a:xfrm>
            <a:off x="4191120" y="3429000"/>
            <a:ext cx="1981080" cy="45720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584" h="440">
                <a:moveTo>
                  <a:pt x="0" y="440"/>
                </a:moveTo>
                <a:cubicBezTo>
                  <a:pt x="96" y="304"/>
                  <a:pt x="192" y="168"/>
                  <a:pt x="384" y="104"/>
                </a:cubicBezTo>
                <a:cubicBezTo>
                  <a:pt x="576" y="40"/>
                  <a:pt x="952" y="0"/>
                  <a:pt x="1152" y="56"/>
                </a:cubicBezTo>
                <a:cubicBezTo>
                  <a:pt x="1352" y="112"/>
                  <a:pt x="1468" y="276"/>
                  <a:pt x="1584" y="4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берт_кемпферт___путники_в_ночи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98174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057040" y="1904760"/>
            <a:ext cx="38862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  л  той 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0_55dbe_ad83a750_XL"/>
          <p:cNvPicPr/>
          <p:nvPr/>
        </p:nvPicPr>
        <p:blipFill>
          <a:blip r:embed="rId1"/>
          <a:stretch/>
        </p:blipFill>
        <p:spPr>
          <a:xfrm>
            <a:off x="0" y="3214800"/>
            <a:ext cx="4724280" cy="3643200"/>
          </a:xfrm>
          <a:prstGeom prst="rect">
            <a:avLst/>
          </a:prstGeom>
          <a:ln w="0">
            <a:noFill/>
          </a:ln>
        </p:spPr>
      </p:pic>
      <p:sp>
        <p:nvSpPr>
          <p:cNvPr id="160" name="Line 5"/>
          <p:cNvSpPr/>
          <p:nvPr/>
        </p:nvSpPr>
        <p:spPr>
          <a:xfrm>
            <a:off x="2666880" y="26668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6248520" y="26668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6248520" y="27432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3505320" y="26668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7391520" y="44197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7391520" y="44956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 flipH="1">
            <a:off x="4495680" y="1600200"/>
            <a:ext cx="15264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 flipH="1">
            <a:off x="7619760" y="358128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3"/>
          <p:cNvSpPr/>
          <p:nvPr/>
        </p:nvSpPr>
        <p:spPr>
          <a:xfrm flipH="1">
            <a:off x="6629040" y="1752480"/>
            <a:ext cx="1522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5"/>
          <p:cNvSpPr/>
          <p:nvPr/>
        </p:nvSpPr>
        <p:spPr>
          <a:xfrm>
            <a:off x="5943600" y="1600200"/>
            <a:ext cx="1905120" cy="3808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584" h="440">
                <a:moveTo>
                  <a:pt x="0" y="440"/>
                </a:moveTo>
                <a:cubicBezTo>
                  <a:pt x="96" y="304"/>
                  <a:pt x="192" y="168"/>
                  <a:pt x="384" y="104"/>
                </a:cubicBezTo>
                <a:cubicBezTo>
                  <a:pt x="576" y="40"/>
                  <a:pt x="952" y="0"/>
                  <a:pt x="1152" y="56"/>
                </a:cubicBezTo>
                <a:cubicBezTo>
                  <a:pt x="1352" y="112"/>
                  <a:pt x="1468" y="276"/>
                  <a:pt x="1584" y="4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6"/>
          <p:cNvSpPr/>
          <p:nvPr/>
        </p:nvSpPr>
        <p:spPr>
          <a:xfrm>
            <a:off x="6172200" y="3657600"/>
            <a:ext cx="1981080" cy="22860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584" h="440">
                <a:moveTo>
                  <a:pt x="0" y="440"/>
                </a:moveTo>
                <a:cubicBezTo>
                  <a:pt x="96" y="304"/>
                  <a:pt x="192" y="168"/>
                  <a:pt x="384" y="104"/>
                </a:cubicBezTo>
                <a:cubicBezTo>
                  <a:pt x="576" y="40"/>
                  <a:pt x="952" y="0"/>
                  <a:pt x="1152" y="56"/>
                </a:cubicBezTo>
                <a:cubicBezTo>
                  <a:pt x="1352" y="112"/>
                  <a:pt x="1468" y="276"/>
                  <a:pt x="1584" y="4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7"/>
          <p:cNvSpPr/>
          <p:nvPr/>
        </p:nvSpPr>
        <p:spPr>
          <a:xfrm>
            <a:off x="2133720" y="1600200"/>
            <a:ext cx="2133360" cy="38088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584" h="440">
                <a:moveTo>
                  <a:pt x="0" y="440"/>
                </a:moveTo>
                <a:cubicBezTo>
                  <a:pt x="96" y="304"/>
                  <a:pt x="192" y="168"/>
                  <a:pt x="384" y="104"/>
                </a:cubicBezTo>
                <a:cubicBezTo>
                  <a:pt x="576" y="40"/>
                  <a:pt x="952" y="0"/>
                  <a:pt x="1152" y="56"/>
                </a:cubicBezTo>
                <a:cubicBezTo>
                  <a:pt x="1352" y="112"/>
                  <a:pt x="1468" y="276"/>
                  <a:pt x="1584" y="4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514600" y="190512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352680" y="190512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257800" y="3733920"/>
            <a:ext cx="3657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золо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5791320" y="1905120"/>
            <a:ext cx="2895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олот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343040" y="2209680"/>
            <a:ext cx="4343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0_60914_6dd77512_orig"/>
          <p:cNvPicPr/>
          <p:nvPr/>
        </p:nvPicPr>
        <p:blipFill>
          <a:blip r:embed="rId1"/>
          <a:stretch/>
        </p:blipFill>
        <p:spPr>
          <a:xfrm>
            <a:off x="0" y="0"/>
            <a:ext cx="4221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4191120" y="4724280"/>
            <a:ext cx="4343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4648320" y="685800"/>
            <a:ext cx="4343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34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Ё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тупила радостная весна.Солнце согрело землю.По дорожкам и тропинкам побежали весёлые ручьи. Под корнями старой берёзы была нора.Там спал всюзиму сердитый ёжик. Холодный ручей разбудил зверька. Он выбежал на лесную полянку и осмотрелся. Свежий ветерок разносил по лесу весенние зарахи. Ёж лёг на спину. Тёплые лучи солнышка согрели е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343040" y="2209680"/>
            <a:ext cx="4343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ЗАЛАТО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0_60914_6dd77512_orig"/>
          <p:cNvPicPr/>
          <p:nvPr/>
        </p:nvPicPr>
        <p:blipFill>
          <a:blip r:embed="rId1"/>
          <a:stretch/>
        </p:blipFill>
        <p:spPr>
          <a:xfrm>
            <a:off x="0" y="0"/>
            <a:ext cx="4221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4343400" y="2209680"/>
            <a:ext cx="4343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ЗОЛАТО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343400" y="2209680"/>
            <a:ext cx="4343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ЗАЛОТО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pril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_55dbe_ad83a750_XL"/>
          <p:cNvPicPr/>
          <p:nvPr/>
        </p:nvPicPr>
        <p:blipFill>
          <a:blip r:embed="rId1"/>
          <a:stretch/>
        </p:blipFill>
        <p:spPr>
          <a:xfrm>
            <a:off x="457200" y="838080"/>
            <a:ext cx="762012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вить ударение в сло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ить кор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ить безударную гласн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обрать проверочно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3505320"/>
            <a:ext cx="8381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0" spc="-1" strike="noStrike">
                <a:solidFill>
                  <a:srgbClr val="000000"/>
                </a:solidFill>
                <a:latin typeface="Arial"/>
              </a:rPr>
              <a:t>а о е и я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52280" y="198108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 flipV="1">
            <a:off x="1447920" y="144756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457200" y="2209680"/>
            <a:ext cx="30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57200" y="2819520"/>
            <a:ext cx="83818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3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5105520" y="5257800"/>
            <a:ext cx="3809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и  е  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3"/>
          <p:cNvSpPr/>
          <p:nvPr/>
        </p:nvSpPr>
        <p:spPr>
          <a:xfrm flipH="1">
            <a:off x="2361960" y="4876920"/>
            <a:ext cx="152280" cy="685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3048120" y="4876920"/>
            <a:ext cx="152280" cy="685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 flipH="1">
            <a:off x="6095880" y="4952880"/>
            <a:ext cx="152640" cy="685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6934320" y="4952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>
            <a:off x="7696080" y="4952880"/>
            <a:ext cx="152640" cy="685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990720" y="5410080"/>
            <a:ext cx="3809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а  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2286000" y="1295280"/>
            <a:ext cx="4800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провери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0"/>
          <p:cNvSpPr/>
          <p:nvPr/>
        </p:nvSpPr>
        <p:spPr>
          <a:xfrm>
            <a:off x="228600" y="12952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064" h="560">
                <a:moveTo>
                  <a:pt x="0" y="560"/>
                </a:moveTo>
                <a:cubicBezTo>
                  <a:pt x="60" y="436"/>
                  <a:pt x="120" y="312"/>
                  <a:pt x="240" y="224"/>
                </a:cubicBezTo>
                <a:cubicBezTo>
                  <a:pt x="360" y="136"/>
                  <a:pt x="512" y="64"/>
                  <a:pt x="720" y="32"/>
                </a:cubicBezTo>
                <a:cubicBezTo>
                  <a:pt x="928" y="0"/>
                  <a:pt x="1304" y="8"/>
                  <a:pt x="1488" y="32"/>
                </a:cubicBezTo>
                <a:cubicBezTo>
                  <a:pt x="1672" y="56"/>
                  <a:pt x="1728" y="96"/>
                  <a:pt x="1824" y="176"/>
                </a:cubicBezTo>
                <a:cubicBezTo>
                  <a:pt x="1920" y="256"/>
                  <a:pt x="1992" y="384"/>
                  <a:pt x="2064" y="51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7010280" y="13716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064" h="560">
                <a:moveTo>
                  <a:pt x="0" y="560"/>
                </a:moveTo>
                <a:cubicBezTo>
                  <a:pt x="60" y="436"/>
                  <a:pt x="120" y="312"/>
                  <a:pt x="240" y="224"/>
                </a:cubicBezTo>
                <a:cubicBezTo>
                  <a:pt x="360" y="136"/>
                  <a:pt x="512" y="64"/>
                  <a:pt x="720" y="32"/>
                </a:cubicBezTo>
                <a:cubicBezTo>
                  <a:pt x="928" y="0"/>
                  <a:pt x="1304" y="8"/>
                  <a:pt x="1488" y="32"/>
                </a:cubicBezTo>
                <a:cubicBezTo>
                  <a:pt x="1672" y="56"/>
                  <a:pt x="1728" y="96"/>
                  <a:pt x="1824" y="176"/>
                </a:cubicBezTo>
                <a:cubicBezTo>
                  <a:pt x="1920" y="256"/>
                  <a:pt x="1992" y="384"/>
                  <a:pt x="2064" y="51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3"/>
          <p:cNvSpPr/>
          <p:nvPr/>
        </p:nvSpPr>
        <p:spPr>
          <a:xfrm>
            <a:off x="7010280" y="2057400"/>
            <a:ext cx="1676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4"/>
          <p:cNvSpPr/>
          <p:nvPr/>
        </p:nvSpPr>
        <p:spPr>
          <a:xfrm flipV="1">
            <a:off x="7620120" y="144756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5"/>
          <p:cNvSpPr/>
          <p:nvPr/>
        </p:nvSpPr>
        <p:spPr>
          <a:xfrm>
            <a:off x="7391520" y="2209680"/>
            <a:ext cx="304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6"/>
          <p:cNvSpPr/>
          <p:nvPr/>
        </p:nvSpPr>
        <p:spPr>
          <a:xfrm>
            <a:off x="7391520" y="2362320"/>
            <a:ext cx="304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reeform 24"/>
          <p:cNvSpPr/>
          <p:nvPr/>
        </p:nvSpPr>
        <p:spPr>
          <a:xfrm>
            <a:off x="457200" y="12193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064" h="560">
                <a:moveTo>
                  <a:pt x="0" y="560"/>
                </a:moveTo>
                <a:cubicBezTo>
                  <a:pt x="60" y="436"/>
                  <a:pt x="120" y="312"/>
                  <a:pt x="240" y="224"/>
                </a:cubicBezTo>
                <a:cubicBezTo>
                  <a:pt x="360" y="136"/>
                  <a:pt x="512" y="64"/>
                  <a:pt x="720" y="32"/>
                </a:cubicBezTo>
                <a:cubicBezTo>
                  <a:pt x="928" y="0"/>
                  <a:pt x="1304" y="8"/>
                  <a:pt x="1488" y="32"/>
                </a:cubicBezTo>
                <a:cubicBezTo>
                  <a:pt x="1672" y="56"/>
                  <a:pt x="1728" y="96"/>
                  <a:pt x="1824" y="176"/>
                </a:cubicBezTo>
                <a:cubicBezTo>
                  <a:pt x="1920" y="256"/>
                  <a:pt x="1992" y="384"/>
                  <a:pt x="2064" y="51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5"/>
          <p:cNvSpPr/>
          <p:nvPr/>
        </p:nvSpPr>
        <p:spPr>
          <a:xfrm flipV="1">
            <a:off x="1600200" y="129492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>
            <a:off x="457200" y="182880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>
            <a:off x="685800" y="2057400"/>
            <a:ext cx="30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8"/>
          <p:cNvSpPr/>
          <p:nvPr/>
        </p:nvSpPr>
        <p:spPr>
          <a:xfrm>
            <a:off x="6781680" y="1295280"/>
            <a:ext cx="1143000" cy="3812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064" h="560">
                <a:moveTo>
                  <a:pt x="0" y="560"/>
                </a:moveTo>
                <a:cubicBezTo>
                  <a:pt x="60" y="436"/>
                  <a:pt x="120" y="312"/>
                  <a:pt x="240" y="224"/>
                </a:cubicBezTo>
                <a:cubicBezTo>
                  <a:pt x="360" y="136"/>
                  <a:pt x="512" y="64"/>
                  <a:pt x="720" y="32"/>
                </a:cubicBezTo>
                <a:cubicBezTo>
                  <a:pt x="928" y="0"/>
                  <a:pt x="1304" y="8"/>
                  <a:pt x="1488" y="32"/>
                </a:cubicBezTo>
                <a:cubicBezTo>
                  <a:pt x="1672" y="56"/>
                  <a:pt x="1728" y="96"/>
                  <a:pt x="1824" y="176"/>
                </a:cubicBezTo>
                <a:cubicBezTo>
                  <a:pt x="1920" y="256"/>
                  <a:pt x="1992" y="384"/>
                  <a:pt x="2064" y="51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 flipV="1">
            <a:off x="7315200" y="13712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6781680" y="19051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7010280" y="2057400"/>
            <a:ext cx="30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2"/>
          <p:cNvSpPr/>
          <p:nvPr/>
        </p:nvSpPr>
        <p:spPr>
          <a:xfrm>
            <a:off x="7010280" y="2209680"/>
            <a:ext cx="30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3"/>
          <p:cNvSpPr/>
          <p:nvPr/>
        </p:nvSpPr>
        <p:spPr>
          <a:xfrm>
            <a:off x="2133720" y="1066680"/>
            <a:ext cx="4800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провери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4"/>
          <p:cNvSpPr/>
          <p:nvPr/>
        </p:nvSpPr>
        <p:spPr>
          <a:xfrm>
            <a:off x="152280" y="251460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нить форму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5"/>
          <p:cNvSpPr/>
          <p:nvPr/>
        </p:nvSpPr>
        <p:spPr>
          <a:xfrm>
            <a:off x="4572000" y="2590920"/>
            <a:ext cx="426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д. ч.            мн.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6"/>
          <p:cNvSpPr/>
          <p:nvPr/>
        </p:nvSpPr>
        <p:spPr>
          <a:xfrm>
            <a:off x="6553080" y="281952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7"/>
          <p:cNvSpPr/>
          <p:nvPr/>
        </p:nvSpPr>
        <p:spPr>
          <a:xfrm flipH="1">
            <a:off x="6552720" y="30481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8"/>
          <p:cNvSpPr/>
          <p:nvPr/>
        </p:nvSpPr>
        <p:spPr>
          <a:xfrm>
            <a:off x="304920" y="4572000"/>
            <a:ext cx="4647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9"/>
          <p:cNvSpPr/>
          <p:nvPr/>
        </p:nvSpPr>
        <p:spPr>
          <a:xfrm>
            <a:off x="228600" y="419112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обрать родственны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0"/>
          <p:cNvSpPr/>
          <p:nvPr/>
        </p:nvSpPr>
        <p:spPr>
          <a:xfrm>
            <a:off x="5181480" y="4191120"/>
            <a:ext cx="3810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кор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уффикс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буквой 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вопрос ка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вопрос что дел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2057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ff9999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971800" y="228600"/>
            <a:ext cx="167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5257800" y="9907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648320" y="335268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114800" y="4495680"/>
            <a:ext cx="289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г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905120" y="5638680"/>
            <a:ext cx="3504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ff9999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ист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3657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  дичка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572000" y="1600200"/>
            <a:ext cx="40384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дя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д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д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дорос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1219320" y="2438280"/>
            <a:ext cx="3808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 flipH="1">
            <a:off x="2285640" y="12193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8"/>
          <p:cNvSpPr/>
          <p:nvPr/>
        </p:nvSpPr>
        <p:spPr>
          <a:xfrm>
            <a:off x="685800" y="1143000"/>
            <a:ext cx="1447920" cy="457200"/>
          </a:xfrm>
          <a:custGeom>
            <a:avLst/>
            <a:gdLst>
              <a:gd name="textAreaLeft" fmla="*/ 0 w 1447920"/>
              <a:gd name="textAreaRight" fmla="*/ 1447920 w 14479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584" h="440">
                <a:moveTo>
                  <a:pt x="0" y="440"/>
                </a:moveTo>
                <a:cubicBezTo>
                  <a:pt x="96" y="304"/>
                  <a:pt x="192" y="168"/>
                  <a:pt x="384" y="104"/>
                </a:cubicBezTo>
                <a:cubicBezTo>
                  <a:pt x="576" y="40"/>
                  <a:pt x="952" y="0"/>
                  <a:pt x="1152" y="56"/>
                </a:cubicBezTo>
                <a:cubicBezTo>
                  <a:pt x="1352" y="112"/>
                  <a:pt x="1468" y="276"/>
                  <a:pt x="1584" y="4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0" y="1600200"/>
            <a:ext cx="40384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дя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д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д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дорос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105160" y="152388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H="1">
            <a:off x="5105160" y="28195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 flipH="1">
            <a:off x="5105160" y="41911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4952880" y="2209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4952880" y="22860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4876920" y="350532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4876920" y="35812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9"/>
          <p:cNvSpPr/>
          <p:nvPr/>
        </p:nvSpPr>
        <p:spPr>
          <a:xfrm>
            <a:off x="4952880" y="48769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>
            <a:off x="4952880" y="49528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838080" y="15238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8"/>
          <p:cNvSpPr/>
          <p:nvPr/>
        </p:nvSpPr>
        <p:spPr>
          <a:xfrm>
            <a:off x="4572000" y="1523880"/>
            <a:ext cx="990720" cy="304920"/>
          </a:xfrm>
          <a:custGeom>
            <a:avLst/>
            <a:gdLst>
              <a:gd name="textAreaLeft" fmla="*/ 0 w 990720"/>
              <a:gd name="textAreaRight" fmla="*/ 991080 w 990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584" h="440">
                <a:moveTo>
                  <a:pt x="0" y="440"/>
                </a:moveTo>
                <a:cubicBezTo>
                  <a:pt x="96" y="304"/>
                  <a:pt x="192" y="168"/>
                  <a:pt x="384" y="104"/>
                </a:cubicBezTo>
                <a:cubicBezTo>
                  <a:pt x="576" y="40"/>
                  <a:pt x="952" y="0"/>
                  <a:pt x="1152" y="56"/>
                </a:cubicBezTo>
                <a:cubicBezTo>
                  <a:pt x="1352" y="112"/>
                  <a:pt x="1468" y="276"/>
                  <a:pt x="1584" y="4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8"/>
          <p:cNvSpPr/>
          <p:nvPr/>
        </p:nvSpPr>
        <p:spPr>
          <a:xfrm>
            <a:off x="4572000" y="2819520"/>
            <a:ext cx="990720" cy="304560"/>
          </a:xfrm>
          <a:custGeom>
            <a:avLst/>
            <a:gdLst>
              <a:gd name="textAreaLeft" fmla="*/ 0 w 990720"/>
              <a:gd name="textAreaRight" fmla="*/ 991080 w 9907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584" h="440">
                <a:moveTo>
                  <a:pt x="0" y="440"/>
                </a:moveTo>
                <a:cubicBezTo>
                  <a:pt x="96" y="304"/>
                  <a:pt x="192" y="168"/>
                  <a:pt x="384" y="104"/>
                </a:cubicBezTo>
                <a:cubicBezTo>
                  <a:pt x="576" y="40"/>
                  <a:pt x="952" y="0"/>
                  <a:pt x="1152" y="56"/>
                </a:cubicBezTo>
                <a:cubicBezTo>
                  <a:pt x="1352" y="112"/>
                  <a:pt x="1468" y="276"/>
                  <a:pt x="1584" y="4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8"/>
          <p:cNvSpPr/>
          <p:nvPr/>
        </p:nvSpPr>
        <p:spPr>
          <a:xfrm>
            <a:off x="4572000" y="4114800"/>
            <a:ext cx="990720" cy="304920"/>
          </a:xfrm>
          <a:custGeom>
            <a:avLst/>
            <a:gdLst>
              <a:gd name="textAreaLeft" fmla="*/ 0 w 990720"/>
              <a:gd name="textAreaRight" fmla="*/ 991080 w 990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584" h="440">
                <a:moveTo>
                  <a:pt x="0" y="440"/>
                </a:moveTo>
                <a:cubicBezTo>
                  <a:pt x="96" y="304"/>
                  <a:pt x="192" y="168"/>
                  <a:pt x="384" y="104"/>
                </a:cubicBezTo>
                <a:cubicBezTo>
                  <a:pt x="576" y="40"/>
                  <a:pt x="952" y="0"/>
                  <a:pt x="1152" y="56"/>
                </a:cubicBezTo>
                <a:cubicBezTo>
                  <a:pt x="1352" y="112"/>
                  <a:pt x="1468" y="276"/>
                  <a:pt x="1584" y="4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8"/>
          <p:cNvSpPr/>
          <p:nvPr/>
        </p:nvSpPr>
        <p:spPr>
          <a:xfrm>
            <a:off x="5791320" y="4114800"/>
            <a:ext cx="838080" cy="304920"/>
          </a:xfrm>
          <a:custGeom>
            <a:avLst/>
            <a:gdLst>
              <a:gd name="textAreaLeft" fmla="*/ 0 w 838080"/>
              <a:gd name="textAreaRight" fmla="*/ 838440 w 8380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584" h="440">
                <a:moveTo>
                  <a:pt x="0" y="440"/>
                </a:moveTo>
                <a:cubicBezTo>
                  <a:pt x="96" y="304"/>
                  <a:pt x="192" y="168"/>
                  <a:pt x="384" y="104"/>
                </a:cubicBezTo>
                <a:cubicBezTo>
                  <a:pt x="576" y="40"/>
                  <a:pt x="952" y="0"/>
                  <a:pt x="1152" y="56"/>
                </a:cubicBezTo>
                <a:cubicBezTo>
                  <a:pt x="1352" y="112"/>
                  <a:pt x="1468" y="276"/>
                  <a:pt x="1584" y="4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1:40:08Z</dcterms:created>
  <dc:creator>Anna</dc:creator>
  <dc:description/>
  <dc:language>en-US</dc:language>
  <cp:lastModifiedBy>Учитель</cp:lastModifiedBy>
  <dcterms:modified xsi:type="dcterms:W3CDTF">2012-04-22T16:13:05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