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9CC9-527B-4A1D-8849-DD975FD7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2D67-092A-4E05-B9AC-E1B38C72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0AE51-097C-46CE-8673-35011F88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5DA67-4126-47E0-8694-45A40D33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3952C-C872-4ABC-A1DA-631126F6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E044F-8DA8-4286-BDA6-325E4B25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EE690-E560-4BCC-8801-A5FE6637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D2C5B-A928-45E4-972B-4FA640A6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C59FA-70AB-4F0C-B630-C3E36EBC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B8CCA-6373-4DE6-A6E1-E5162943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FF5E7-3A1F-47ED-B70C-5028C751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98763-9B7A-464A-8108-25837828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DC9-2C19-42B0-981B-73A4BBFD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4E80C-F2F0-484F-A8E3-72204A36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1EFE4-85FA-4A70-9ED1-5B6D69D9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42F78-7D3C-4B1F-8897-0EC943E5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94C58-6775-4E3B-AF30-17E27E84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2F5BF-B818-454D-938E-2977FD71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F83C4-48BB-4672-9FCE-768E1B70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64EB3-A98A-4B7D-A906-88CF936D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A3A57-F7DC-4A17-A91A-24855181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8AEE5-2528-4A72-8496-0D816259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F0989-CCDA-458A-836D-DA6583F7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8112-AB7D-410B-8A41-D853B8F5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3AC69-D3EB-4D1D-B632-60694061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E9A8E-694A-4FEF-B2B6-9FBF2B4B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183FC-2D5D-433A-B9B6-6A693EFA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AA306-E436-4690-8A74-EAB66061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FAAC2-F9A3-4A8A-9217-635B6740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EC919-B0A1-4609-AE39-DEF6DAB5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A761E-4B90-4F97-95BB-596877BC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8CB7B-86DF-495C-98DA-25128CB9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26298-6DFA-4FE3-965F-D5F21B9D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FF622-11B7-4167-9773-CF4E12DB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0B45-CDF0-44E1-BE84-F4FA82F0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EE5A7-9BF6-4E69-8B6C-503BFC6C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8C928-87EB-4D93-A252-7DCF507E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DC02E-1012-4C1F-83B2-4DB9EC1D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2BFB9-8884-46BB-9C9E-65D7B1DD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76F04-F889-493B-A18F-258A1946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C44C6-BA02-46B6-8FA7-524ABF7E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247E5-D2DD-46A2-8FAC-920E11F3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420C9-D08E-44AD-A5C2-75FD06D7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D66B5-9358-438F-8E06-D59DB47E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0476D-54DA-4A1F-94BC-B06342F6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555E-A8D8-41A6-8A25-74EE6FE7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27838-2716-4E59-8480-5DCA9786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38537-40C8-4903-BD87-38FEE1A2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8DF88-1013-4F15-8C62-F4E42140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6B2D4-BA96-47CA-B757-928F6261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B1987-79B0-49E7-9D9C-0928ABD7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F312-F952-4F27-B4BC-5B5BFA3D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C8CC-271F-4D61-BEB6-F3EEF67F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40C0-9404-48A4-8223-EB02E293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81BC-1216-45E3-A185-D09E6260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3581-391C-433B-A830-80A824C0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B5AF-30C2-4421-9EE1-8B18CCE7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B64A-1D6D-4B50-B735-3D3BABBE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0F84-C48A-4A2A-98D7-7B3E2E85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AE25-8CE1-475E-949F-A701B8B2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3B70-5DE7-4501-84D4-C0F59712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35B6-316A-4872-B66D-03EBE02C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77421-A9E3-4DEC-B3AF-262AE028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7F454-6557-444A-9FA8-B2738369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739A1-2EED-4D36-9475-D0426900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E6283-9FFA-4144-8E8C-82144F61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2DA85-B293-4920-B2A5-1B1ED681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E115-0FFD-4076-AFBE-D14A9ED4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E9BE5-6031-41C9-9FC7-5F39CD80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8592D-3553-4557-8C1A-C6B4AE08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2D91A-8E10-4C26-A47A-35953C2E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54DC8-6CC6-452A-92E6-4779A358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D4429-7C05-4379-B06D-56B83B8A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5BF53-E424-4D66-8DA5-ADD213DF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BE949-8619-4C67-AC6A-1C92CCC9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0896F-E1CE-46B0-87D3-CA72C03E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C281A-7C2C-4E28-B3B1-12BC3812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42DDA-3FBE-44ED-A596-15D6E769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CC4D-766D-49C7-A259-E690AA8F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4DEC3-39B3-47B7-8133-E0FBC8DE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BCAA9-DD35-4335-B0B5-D8D48533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14949-2540-47D9-AF0A-124590D5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37CDD-8F0B-4BE1-8966-60FC1BF8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B4AB9-A74C-4E23-9A57-8D6B0EC1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2742D-1402-4680-9D44-F466A2BA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F17BF-0149-449B-9737-87C87457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1E659-C024-45BF-94FA-BD49E8BE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A8BAC-FDD8-462D-8771-5136FD07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BAA67-9658-4D6D-999F-D6494CF7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EACC-BB37-4430-922E-E987E292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57BA6-B0E5-431F-890A-065D8998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73A91-BA7F-4D7C-BC18-2A4BBD87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34995-2546-4488-9DF1-5F4B3308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00CA5-388D-42CC-8CC5-4D0A1E51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9E0DF-A9C3-4FCE-83F7-2B00C084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C965E-1797-4AE3-91CD-671ABC9A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07185-AA00-4F9C-8D34-165B5CCA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9BA7E-BF75-43B7-AE12-A3BF9AC7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BFD3B-91C4-4DF3-90E0-8DA1544D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51598-3AB7-4312-8F8E-3B793C3A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1E85-F154-464A-BC18-8122D9D0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B7307-D94A-4222-91B4-C4223C9C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E7BC9-38A6-4A48-9C6A-5B1B359A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FC28C-8914-4209-89B6-EE2A98ED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A7710-046D-4D91-AE52-F7153F4C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50E86-A03D-4349-A8BD-666730A3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936A5-86F4-4AB9-AE11-1EC5EAAF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9E6CC-A444-4F2A-BF41-AB604E0F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5878D-2C99-4EBE-BDB0-03A218A5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D74DD-43E6-421B-A88B-5F9A9FDC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C1F69-FEC6-4523-862A-EA512A92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D3C-D729-496D-A09D-707D3AFB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3CFEE-257F-4467-989A-14925301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2F679-759A-4AF5-95A1-A46EB4CD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FE318-AFCA-40DC-9FB3-6478A7AB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3589E-DC01-4B6D-9325-9E8522DD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FF2D1-D488-4B0B-A372-E6378F5A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06EE1-DA7C-46CF-8335-EAFA622C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8E5C1-CBD9-4E26-A026-DF5157FF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41CB2-CB48-4719-9AD6-061F6196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DCDA4-1FE7-4D1C-AF8C-7727BCFA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118AB-6FBF-4761-997A-900B44F4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CFA6-FA04-443B-B39C-5B503D31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D3C69-DC17-4640-B291-3296FF50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E11B6-31BD-4069-A4E7-C8EA0BFD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F8575-FF35-4860-81B2-7D868E73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77894-8A29-4316-9C47-AE9AA0C7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E7328-66A8-4D9A-8F58-53086612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C262D-6BEC-46F5-B9D9-1C98480C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FC61D-2AAC-4449-9BC8-AAC311D0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FC2BC-24A2-410F-A11F-DE628441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814B2-9BBF-4CF4-91EB-D329FF82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EB0D3-CBEA-4394-AB08-EA67C3F8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C208-6876-4865-8E93-6F10CC54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9513F-8B64-4121-8569-E225D62C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465B8-43E8-4305-B691-4B6C3E89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008B9-6ECD-4B3B-8547-1C0F232C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BFC50-957E-4EC7-A12F-0EDAA6A6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34079-4C22-4514-9CD5-366A6897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D9E52-466D-4426-ADC5-C81D8F4D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91B64-F119-4DC0-BCCD-C45A2D27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FA513-66AA-43B5-9EBD-786777C1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0E573-A505-45E7-935E-4FC8C528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6D02D-9AAA-4DE6-BA12-96A02BCF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3C62-87F1-4915-A40F-007B7449320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0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545D-D8B2-4352-B13C-BACAFC6878C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B40E-948D-4B6A-BFE2-EF6E510584A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49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2E08-8548-4BAC-A73D-42FA6946B55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7B8B-2E24-4E53-A4A9-43D40B70B14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9168-AB51-4C1B-A95E-1E1A29FACA8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F028-C05B-4B83-8AED-2D0A9AB992D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7D68-1112-4F36-830F-724EBC15FD7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9975-3BE2-4C51-8BD3-26CBD447F16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2A55-2696-45E4-B71C-9A7A6C887E7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09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BA18-4F48-4786-94A8-2EC1340B44F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57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B78E-C4AF-4F45-B949-3789B134736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3;&#1077;&#1073;&#1077;&#1076;&#1100;&amp;img_url=www.floranimal.ru/gallery/big/1102.jpg&amp;pos=5&amp;rpt=simage" TargetMode="External"/><Relationship Id="rId2" Type="http://schemas.openxmlformats.org/officeDocument/2006/relationships/hyperlink" Target="http://images.yandex.ru/yandsearch?text=&#1089;&#1082;&#1074;&#1086;&#1088;&#1077;&#1094;&amp;img_url=static.diary.ru/userdir/1/2/2/0/1220604/42369802.jpg&amp;pos=14&amp;rpt=simage" TargetMode="External"/><Relationship Id="rId3" Type="http://schemas.openxmlformats.org/officeDocument/2006/relationships/hyperlink" Target="http://im0-tub-ru.yandex.net/i?id=140780258-66-72&amp;n=21" TargetMode="External"/><Relationship Id="rId4" Type="http://schemas.openxmlformats.org/officeDocument/2006/relationships/hyperlink" Target="http://images.yandex.ru/yandsearch?p=2&amp;text=&#1089;&#1086;&#1083;&#1086;&#1074;&#1077;&#1081;&amp;img_url=kyk.su/uploads/posts/2010-08/1280933690_x_6e167941.jpg&amp;pos=40&amp;rpt=simage" TargetMode="External"/><Relationship Id="rId5" Type="http://schemas.openxmlformats.org/officeDocument/2006/relationships/hyperlink" Target="http://images.yandex.ru/yandsearch?p=10&amp;text=&#1089;&#1080;&#1085;&#1080;&#1094;&#1072;&amp;img_url=birdwatch.org.ua/aves/Parus_major/greattit22655.jpg&amp;pos=219&amp;rpt=simage" TargetMode="Externa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6" descr=""/>
          <p:cNvPicPr/>
          <p:nvPr/>
        </p:nvPicPr>
        <p:blipFill>
          <a:blip r:embed="rId1"/>
          <a:stretch/>
        </p:blipFill>
        <p:spPr>
          <a:xfrm>
            <a:off x="-85680" y="0"/>
            <a:ext cx="9229680" cy="6858000"/>
          </a:xfrm>
          <a:prstGeom prst="rect">
            <a:avLst/>
          </a:prstGeom>
          <a:ln w="0">
            <a:noFill/>
          </a:ln>
        </p:spPr>
      </p:pic>
      <p:pic>
        <p:nvPicPr>
          <p:cNvPr id="541" name="Прямоугольник 11" descr=""/>
          <p:cNvPicPr/>
          <p:nvPr/>
        </p:nvPicPr>
        <p:blipFill>
          <a:blip r:embed="rId2"/>
          <a:stretch/>
        </p:blipFill>
        <p:spPr>
          <a:xfrm>
            <a:off x="249120" y="1457280"/>
            <a:ext cx="8894880" cy="2438280"/>
          </a:xfrm>
          <a:prstGeom prst="rect">
            <a:avLst/>
          </a:prstGeom>
          <a:ln w="0">
            <a:noFill/>
          </a:ln>
        </p:spPr>
      </p:pic>
      <p:sp>
        <p:nvSpPr>
          <p:cNvPr id="542" name="Прямоугольник 1"/>
          <p:cNvSpPr/>
          <p:nvPr/>
        </p:nvSpPr>
        <p:spPr>
          <a:xfrm>
            <a:off x="3924360" y="4581360"/>
            <a:ext cx="500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Зинурова Гелия Салихзян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воспит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НС(К)НШ-ДС  V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г. Набережные Челны, 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Прямоугольник 1"/>
          <p:cNvSpPr/>
          <p:nvPr/>
        </p:nvSpPr>
        <p:spPr>
          <a:xfrm>
            <a:off x="287280" y="2550960"/>
            <a:ext cx="856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  <a:ea typeface="Calibri"/>
              </a:rPr>
              <a:t> 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  <a:ea typeface="Calibri"/>
              </a:rPr>
              <a:t>На слайдах демонстрируются изображение разных птиц, а дети выбирают лишний объект ЛКМ и словесно обосновывают свой выбор. При верном выборе картинка исчезает, а при неверном  картинка покачи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2"/>
          <p:cNvSpPr/>
          <p:nvPr/>
        </p:nvSpPr>
        <p:spPr>
          <a:xfrm>
            <a:off x="1793160" y="1557360"/>
            <a:ext cx="55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Методические рекоменд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C:\Users\User\Downloads\42369802.jpg"/>
          <p:cNvPicPr/>
          <p:nvPr/>
        </p:nvPicPr>
        <p:blipFill>
          <a:blip r:embed="rId1"/>
          <a:srcRect l="8867" t="0" r="7969" b="0"/>
          <a:stretch/>
        </p:blipFill>
        <p:spPr>
          <a:xfrm>
            <a:off x="5149800" y="2205000"/>
            <a:ext cx="1797120" cy="18813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" descr="C:\Users\User\Downloads\лебедь.jpg"/>
          <p:cNvPicPr/>
          <p:nvPr/>
        </p:nvPicPr>
        <p:blipFill>
          <a:blip r:embed="rId2"/>
          <a:srcRect l="14289" t="8020" r="14289" b="18202"/>
          <a:stretch/>
        </p:blipFill>
        <p:spPr>
          <a:xfrm>
            <a:off x="2340000" y="2276640"/>
            <a:ext cx="2249640" cy="16938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" descr="C:\Users\User\Downloads\1280933690_x_6e167941.jpg"/>
          <p:cNvPicPr/>
          <p:nvPr/>
        </p:nvPicPr>
        <p:blipFill>
          <a:blip r:embed="rId3"/>
          <a:srcRect l="6289" t="12405" r="8073" b="17150"/>
          <a:stretch/>
        </p:blipFill>
        <p:spPr>
          <a:xfrm>
            <a:off x="250920" y="2349360"/>
            <a:ext cx="1449360" cy="17114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C:\Users\User\Downloads\воробей.png"/>
          <p:cNvPicPr/>
          <p:nvPr/>
        </p:nvPicPr>
        <p:blipFill>
          <a:blip r:embed="rId4"/>
          <a:srcRect l="16417" t="13374" r="13670" b="10670"/>
          <a:stretch/>
        </p:blipFill>
        <p:spPr>
          <a:xfrm>
            <a:off x="6948360" y="2300400"/>
            <a:ext cx="1893960" cy="1488960"/>
          </a:xfrm>
          <a:prstGeom prst="rect">
            <a:avLst/>
          </a:prstGeom>
          <a:ln w="0">
            <a:noFill/>
          </a:ln>
        </p:spPr>
      </p:pic>
      <p:pic>
        <p:nvPicPr>
          <p:cNvPr id="549" name="Прямоугольник 5" descr=""/>
          <p:cNvPicPr/>
          <p:nvPr/>
        </p:nvPicPr>
        <p:blipFill>
          <a:blip r:embed="rId5"/>
          <a:stretch/>
        </p:blipFill>
        <p:spPr>
          <a:xfrm>
            <a:off x="1238400" y="396720"/>
            <a:ext cx="666720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3" descr="C:\Users\User\Downloads\снегирь.png"/>
          <p:cNvPicPr/>
          <p:nvPr/>
        </p:nvPicPr>
        <p:blipFill>
          <a:blip r:embed="rId1"/>
          <a:stretch/>
        </p:blipFill>
        <p:spPr>
          <a:xfrm>
            <a:off x="358920" y="2376360"/>
            <a:ext cx="1730160" cy="16113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"/>
          <p:cNvPicPr/>
          <p:nvPr/>
        </p:nvPicPr>
        <p:blipFill>
          <a:blip r:embed="rId2"/>
          <a:stretch/>
        </p:blipFill>
        <p:spPr>
          <a:xfrm>
            <a:off x="2592360" y="1916280"/>
            <a:ext cx="1768680" cy="23018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6" descr="C:\Users\User\Downloads\воробей.png"/>
          <p:cNvPicPr/>
          <p:nvPr/>
        </p:nvPicPr>
        <p:blipFill>
          <a:blip r:embed="rId3"/>
          <a:srcRect l="13668" t="14159" r="20144" b="13723"/>
          <a:stretch/>
        </p:blipFill>
        <p:spPr>
          <a:xfrm>
            <a:off x="4640400" y="2376360"/>
            <a:ext cx="2087280" cy="15462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7" descr="C:\Users\User\Downloads\синица.png"/>
          <p:cNvPicPr/>
          <p:nvPr/>
        </p:nvPicPr>
        <p:blipFill>
          <a:blip r:embed="rId4"/>
          <a:srcRect l="7457" t="8779" r="5032" b="13761"/>
          <a:stretch/>
        </p:blipFill>
        <p:spPr>
          <a:xfrm>
            <a:off x="6865920" y="2532240"/>
            <a:ext cx="2095560" cy="1390320"/>
          </a:xfrm>
          <a:prstGeom prst="rect">
            <a:avLst/>
          </a:prstGeom>
          <a:ln w="0">
            <a:noFill/>
          </a:ln>
        </p:spPr>
      </p:pic>
      <p:pic>
        <p:nvPicPr>
          <p:cNvPr id="554" name="Прямоугольник 5" descr=""/>
          <p:cNvPicPr/>
          <p:nvPr/>
        </p:nvPicPr>
        <p:blipFill>
          <a:blip r:embed="rId5"/>
          <a:stretch/>
        </p:blipFill>
        <p:spPr>
          <a:xfrm>
            <a:off x="1274760" y="542880"/>
            <a:ext cx="666900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Прямоугольник 2"/>
          <p:cNvSpPr/>
          <p:nvPr/>
        </p:nvSpPr>
        <p:spPr>
          <a:xfrm>
            <a:off x="216000" y="1166760"/>
            <a:ext cx="8712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ff"/>
                </a:solidFill>
                <a:uFillTx/>
                <a:latin typeface="Arial"/>
                <a:ea typeface="Arial"/>
                <a:hlinkClick r:id="rId1"/>
              </a:rPr>
              <a:t>http://images.yandex.ru/yandsearch?text=%D0%BB%D0%B5%D0%B1%D0%B5%D0%B4%D1%8C&amp;img_url=www.floranimal.ru%2Fgallery%2Fbig%2F1102.jpg&amp;pos=5&amp;rpt=simag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–лебе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ff"/>
                </a:solidFill>
                <a:uFillTx/>
                <a:latin typeface="Arial"/>
                <a:ea typeface="Arial"/>
                <a:hlinkClick r:id="rId2"/>
              </a:rPr>
              <a:t>http://images.yandex.ru/yandsearch?text=%D1%81%D0%BA%D0%B2%D0%BE%D1%80%D0%B5%D1%86&amp;img_url=static.diary.ru%2Fuserdir%2F1%2F2%2F2%2F0%2F1220604%2F42369802.jpg&amp;pos=14&amp;rpt=simag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–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ff"/>
                </a:solidFill>
                <a:uFillTx/>
                <a:latin typeface="Arial"/>
                <a:ea typeface="Arial"/>
                <a:hlinkClick r:id="rId3"/>
              </a:rPr>
              <a:t>http://im0-tub-ru.yandex.net/i?id=140780258-66-72&amp;n=21</a:t>
            </a:r>
            <a:r>
              <a:rPr b="0" lang="ru-RU" sz="1600" spc="-1" strike="noStrike">
                <a:solidFill>
                  <a:srgbClr val="073e87"/>
                </a:solidFill>
                <a:latin typeface="Arial"/>
                <a:ea typeface="Arial"/>
              </a:rPr>
              <a:t> -снеги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ff"/>
                </a:solidFill>
                <a:uFillTx/>
                <a:latin typeface="Arial"/>
                <a:ea typeface="Arial"/>
                <a:hlinkClick r:id="rId4"/>
              </a:rPr>
              <a:t>http://images.yandex.ru/yandsearch?p=2&amp;text=%D1%81%D0%BE%D0%BB%D0%BE%D0%B2%D0%B5%D0%B9&amp;img_url=kyk.su%2Fuploads%2Fposts%2F2010-08%2F1280933690_x_6e167941.jpg&amp;pos=40&amp;rpt=simag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солов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ff"/>
                </a:solidFill>
                <a:uFillTx/>
                <a:latin typeface="Arial"/>
                <a:ea typeface="Arial"/>
                <a:hlinkClick r:id="rId5"/>
              </a:rPr>
              <a:t>http://images.yandex.ru/yandsearch?p=10&amp;text=%D1%81%D0%B8%D0%BD%D0%B8%D1%86%D0%B0&amp;img_url=birdwatch.org.ua%2Faves%2FParus_major%2Fgreattit22655.jpg&amp;pos=219&amp;rpt=simag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–си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images.yandex.ru/yandsearch?p=1&amp;text=%D0%B2%D0%BE%D1%80%D0%BE%D0%B1%D0%B5%D0%B9&amp;img_url=img01.chitalnya.ru%2Fupload%2F468%2F625297552905976832.jpg&amp;pos=27&amp;rpt=simag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вороб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bialczynski.files.wordpress.com/2010/04/wind-nnn-kraanvogel_grus-grus.jpg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журав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s://encrypted-tbn2.gstatic.com/images?q=tbn:ANd9GcR2seDWHKXOmqh-q8SCjM03USgvQckVSaKiOrWhQWnphVnKB9sbhQ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ф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Прямоугольник 5" descr=""/>
          <p:cNvPicPr/>
          <p:nvPr/>
        </p:nvPicPr>
        <p:blipFill>
          <a:blip r:embed="rId6"/>
          <a:stretch/>
        </p:blipFill>
        <p:spPr>
          <a:xfrm>
            <a:off x="1981080" y="219240"/>
            <a:ext cx="5181840" cy="10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5T07:43:32Z</dcterms:created>
  <dc:creator>User</dc:creator>
  <dc:description/>
  <dc:language>en-US</dc:language>
  <cp:lastModifiedBy>User</cp:lastModifiedBy>
  <dcterms:modified xsi:type="dcterms:W3CDTF">2013-09-28T14:05:45Z</dcterms:modified>
  <cp:revision>77</cp:revision>
  <dc:subject/>
  <dc:title>Презентация PowerPoint</dc:title>
</cp:coreProperties>
</file>