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704-7295-4C75-86AD-60A3094B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D90-C837-4EA7-B885-3FBD5A36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0FF-516D-408E-AC0D-767D054E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6C5-D669-445E-AD72-DFA0E88A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2CED-29F9-4C1B-9C36-44AE3A7C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C1A3-8CD0-49E1-ABDF-040C0233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DBD1-6F71-45F5-94A5-D11DB53D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01D6-7785-48EE-9E23-25F0B9E4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FE4C-7955-42D4-944B-15F44692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A127-866C-4AD1-9753-1E406968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25DA-246C-40F2-B8E8-7995D4B3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E71-ACCE-4B82-BBB4-71C8A8CD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A765-F3A3-4887-AD57-196CD098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3205-5E37-45F1-B049-B3FB0197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8213-A43B-448C-BFA9-1350F286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E70D-D5CA-4378-A227-33CE63BC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73DE-B39B-49B6-9EAD-FB61DF70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67C8-780D-488A-84C9-5F8FAC35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B8A-61B1-4732-9727-DC5C7E30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E78-5E21-4160-98CE-B8E33709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1E9-20F5-49AD-97FB-B16BF7D5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10D-CB5D-485C-BA1B-F62E680C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124-08F0-4D2B-B57C-42B58D19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2E2-F296-42E1-98FE-792AFD63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D3CB-2769-4F2D-99E8-7F11C5D6DA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1CB0-18FB-4D2D-9FE8-C9AC7D4388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inchekova Y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1219320" y="2209680"/>
            <a:ext cx="693396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oper nutrition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TUDY ITS IMPORTANCE AND POSSIBILITY TO FOLLOW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одержимое 2"/>
          <p:cNvSpPr/>
          <p:nvPr/>
        </p:nvSpPr>
        <p:spPr>
          <a:xfrm>
            <a:off x="533520" y="2514600"/>
            <a:ext cx="82296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O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 of school’s nutr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750960" y="5091120"/>
            <a:ext cx="2028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Analyzing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2779560" y="5729400"/>
            <a:ext cx="25146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bservation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5" name="WordArt 8"/>
          <p:cNvSpPr txBox="1"/>
          <p:nvPr/>
        </p:nvSpPr>
        <p:spPr>
          <a:xfrm>
            <a:off x="5010120" y="5075280"/>
            <a:ext cx="2171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omparing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6" name="WordArt 8"/>
          <p:cNvSpPr txBox="1"/>
          <p:nvPr/>
        </p:nvSpPr>
        <p:spPr>
          <a:xfrm>
            <a:off x="6095880" y="5867280"/>
            <a:ext cx="2924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Interrogation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omic Sans MS"/>
              </a:rPr>
              <a:t>The consequences of improper nutr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76280" y="22096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omic Sans MS"/>
              </a:rPr>
              <a:t>Physical disease, psychological problems, and cognitive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15960" y="39574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omic Sans MS"/>
              </a:rPr>
              <a:t>Bone density, high blood pressure, high choleste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omic Sans MS"/>
              </a:rPr>
              <a:t>Students’ opi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0033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50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Why do you buy buns</a:t>
            </a:r>
            <a:r>
              <a:rPr b="0" lang="ru-RU" sz="2800" spc="-1" strike="noStrike">
                <a:solidFill>
                  <a:srgbClr val="990033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It’s che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It’s f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It’s tas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655720" cy="37339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0033"/>
                </a:solidFill>
                <a:latin typeface="Comic Sans MS"/>
              </a:rPr>
              <a:t>Do you think that it’s a wholesome food?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Диаграмма 16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Do you believe that buns influence your min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Таблица 15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6"/>
          <p:cNvSpPr txBox="1"/>
          <p:nvPr/>
        </p:nvSpPr>
        <p:spPr>
          <a:xfrm>
            <a:off x="914400" y="685800"/>
            <a:ext cx="73152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Thank you for your attention!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8" name="Picture 8" descr="http://i59.photobucket.com/albums/g296/edge06/comment/thank-you-02.gif"/>
          <p:cNvPicPr/>
          <p:nvPr/>
        </p:nvPicPr>
        <p:blipFill>
          <a:blip r:embed="rId1"/>
          <a:stretch/>
        </p:blipFill>
        <p:spPr>
          <a:xfrm>
            <a:off x="1905120" y="1981080"/>
            <a:ext cx="510516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на</dc:creator>
  <dc:description/>
  <dc:language>en-US</dc:language>
  <cp:lastModifiedBy>Анна</cp:lastModifiedBy>
  <dcterms:modified xsi:type="dcterms:W3CDTF">2013-09-28T15:09:2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