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795-AB7D-4BE0-B138-203B21EA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FD3-E271-489F-AE5A-A9E2E331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A90-F7A6-4BE7-B084-A83564A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14E-21B2-4036-B7D3-2F30F3BF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F4B7-CFD1-4508-B31C-995B021B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9E7F-FD0E-41B7-8D9C-5934831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6C11-F1F7-45DC-BC78-CA4ABEE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738-703C-4A5D-91A3-ADD016C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8699-22C7-422A-BD29-B6B07AB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409E-F093-4C7D-861B-75EA3AC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555B-9F7D-447E-943F-E374EB1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6C5-98CE-4CD9-B428-2BEBF72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2C3-111D-4F27-9D7D-023A208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EF4-6F60-4B94-A622-B02D9545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0AA2-024B-471F-B148-0988175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029-661C-44AF-9E17-4060F2B9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8887-4D61-452C-8757-0AC8B1C9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CA2-59D3-400D-9682-AAE28CE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09E-6217-4B1C-87D9-1AB05A00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83F-D1E6-4CC7-87D8-C1EB44CE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0D0-3CAE-4695-89C6-1582ED71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66A-C9B3-49E3-AE47-922E077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272-4F99-4398-A6DF-417C2FF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35E-BA27-4384-BB31-2FD5365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0ED-07C7-4823-9529-63CB623FD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0FF-E230-4E83-9D1B-A1BEB07744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Финальная песня «Большой хоровод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Содержимое 3" descr="IMG_9472.JPG"/>
          <p:cNvPicPr/>
          <p:nvPr/>
        </p:nvPicPr>
        <p:blipFill>
          <a:blip r:embed="rId1"/>
          <a:stretch/>
        </p:blipFill>
        <p:spPr>
          <a:xfrm>
            <a:off x="533520" y="685800"/>
            <a:ext cx="80960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Comic Sans MS"/>
              </a:rPr>
              <a:t>Уличный экологический флэш-мо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Содержимое 3" descr="IMG_9493.JPG"/>
          <p:cNvPicPr/>
          <p:nvPr/>
        </p:nvPicPr>
        <p:blipFill>
          <a:blip r:embed="rId1"/>
          <a:stretch/>
        </p:blipFill>
        <p:spPr>
          <a:xfrm>
            <a:off x="609480" y="1568520"/>
            <a:ext cx="792504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1371600"/>
            <a:ext cx="5790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тали люди сильными, как боги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И судьба Земли у них в ру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о темнеют страшные ожоги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У земного шара на бо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Мы давно освоили планету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Широко шагает новый век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а Земле уж белых пятен нет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Чёрные сотрёшь ли,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Ор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briola"/>
              </a:rPr>
              <a:t>             </a:t>
            </a:r>
            <a:r>
              <a:rPr b="0" lang="ru-RU" sz="4800" spc="-1" strike="noStrike">
                <a:solidFill>
                  <a:srgbClr val="ffffff"/>
                </a:solidFill>
                <a:latin typeface="Gabriola"/>
              </a:rPr>
              <a:t>22 апреля по инициативе всемирного движения Earth Day Network во многих странах мира отмечается День Земли. Этот день, в отличие от Дня Земли, проводимого в марте, призван объединять людей планеты в деле защиты окружающей среды. Его можно назвать праздником чистой воды, земли и воздуха – всего, что необходимо для жизни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22 апреля  в 15-00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Библиотеке №81 прошла</a:t>
            </a:r>
            <a:br>
              <a:rPr sz="3200"/>
            </a:br>
            <a:r>
              <a:rPr b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Экологическая акция «Мысли глобально - действуй локально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Акция проводилась среди молодых посетителей библиотеки в рамках Международного Дня Земл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Активными участниками этой акции стали обучающиеся 4 «Б» класса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ГБОУ ЦО № 771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28600" y="38088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ребят была возможность посмотреть литературно-музыкальную композицию «Рождение Земли», музыкально-театрализованное представление «Берегите воду», поучаствовать в уличном экологическом флэш-мобе - живая колонна «День Земл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бучающиеся 4 "Б" представили  экологическую сказку "Емеля и щу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остюмы для этой сказки ребята сделали сами из подручных материал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 этому выступлению ребята готовились долго и тщательно и в этом им помогали классный руководитель Володина Татьяна Ивановна и Гареева Камила Нурыевна – учитель изобразительн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ОТ  ЧТО  У НАС ПОЛУЧИ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IMG_9432.JPG"/>
          <p:cNvPicPr/>
          <p:nvPr/>
        </p:nvPicPr>
        <p:blipFill>
          <a:blip r:embed="rId1"/>
          <a:stretch/>
        </p:blipFill>
        <p:spPr>
          <a:xfrm>
            <a:off x="0" y="0"/>
            <a:ext cx="5410080" cy="361152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IMG_9433.JPG"/>
          <p:cNvPicPr/>
          <p:nvPr/>
        </p:nvPicPr>
        <p:blipFill>
          <a:blip r:embed="rId2"/>
          <a:stretch/>
        </p:blipFill>
        <p:spPr>
          <a:xfrm>
            <a:off x="3505320" y="309888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5410080" y="-612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Как в старой сказке говори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Жили-были царь с цар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Дочка малая росла, да красавицей слы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427212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Всё в том царстве было сл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Но однажды, вот те 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иключилась там 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Ой, беда, беда, беда!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Дочка царская больна!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Лишь водицею умылась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Побледнела, закружилась,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И упала…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Вот беда! Дочка царская больна! </a:t>
            </a:r>
            <a:br>
              <a:rPr sz="12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Содержимое 5" descr="IMG_9448.JPG"/>
          <p:cNvPicPr/>
          <p:nvPr/>
        </p:nvPicPr>
        <p:blipFill>
          <a:blip r:embed="rId1"/>
          <a:stretch/>
        </p:blipFill>
        <p:spPr>
          <a:xfrm>
            <a:off x="1066680" y="2057400"/>
            <a:ext cx="7193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И тут стали лекари сбираться,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Знахари и доктора,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Все приехали сюда Стали думать и гадать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Как же девочку поднять?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Содержимое 3" descr="IMG_9453.JPG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И как раз вот в это время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Появляется Емеля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И с поклоном говорит...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Содержимое 3" descr="IMG_9456.JPG"/>
          <p:cNvPicPr/>
          <p:nvPr/>
        </p:nvPicPr>
        <p:blipFill>
          <a:blip r:embed="rId1"/>
          <a:stretch/>
        </p:blipFill>
        <p:spPr>
          <a:xfrm>
            <a:off x="380880" y="1241280"/>
            <a:ext cx="79250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По щучьему велению, по моему хотению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Очиститесь реки, леса и поля.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Пусть Вольно вздохнет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Comic Sans MS"/>
              </a:rPr>
              <a:t>Наша матерь – Земля.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Содержимое 3" descr="IMG_9459.JPG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мила</dc:creator>
  <dc:description/>
  <dc:language>en-US</dc:language>
  <cp:lastModifiedBy>Камила</cp:lastModifiedBy>
  <dcterms:modified xsi:type="dcterms:W3CDTF">2013-09-28T17:44:5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